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6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40BA-6CB4-4EE3-8414-1BBDD9AC85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6FA7-B1EF-4076-8367-B6F523D7E6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86C-1AF9-4E0E-BE9A-A89E1F3B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A6C-D121-4EA5-93F8-2362B3BE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73C-EFC5-4842-81CA-D9043156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F5D-A661-41B5-BB4D-B670E712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2DF-E5D5-45C4-BDFC-5A5ACFBA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9A6-2ED5-42E1-9B03-74D180A3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F45-6B1E-4830-BF3D-5CEB4B2A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2A3-16D3-4B50-9B83-E1A6DBD2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AF2-CB13-4481-9862-7D39E319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459-EE87-4200-A06C-97B717C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961-6B72-456C-90F9-B7F8C58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4DE-EB94-4EFC-AEC3-0DE86FC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7F33-2E75-44B7-8DB8-934EA533FA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а-путешествие 3 клас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СОШ №1 Зайц Е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844280"/>
            <a:ext cx="6477120" cy="1513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В стране занимательной  Математ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480" y="4114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295280" y="4343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8B71-490D-4C04-AA3F-4A9F711461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Меры длины в старин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 старину русские меры длины  были основаны на размерах разных частей тела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ядь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– расстояние между концами вытянут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большого и указательного пальц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пядь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= 18 - 19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80880" y="4267080"/>
            <a:ext cx="4343400" cy="2286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Lucida Console"/>
              </a:rPr>
              <a:t>Про кого говорят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«У него семь пядей во лбу»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Об умном, мудром человеке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92060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Расположи в порядке возрастания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диницы м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лограмм, тонна, центнер, 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30200" y="386064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диницы дли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р, дециметр, километр, миллиметр, сантиме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50920" y="2997360"/>
            <a:ext cx="8462880" cy="1439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р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рамм, килограмм, центнер, тон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79280" y="5445000"/>
            <a:ext cx="871380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р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миллиметр, сантиметр, дециметр, метр, кил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Математика и эколог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84280"/>
            <a:ext cx="4244760" cy="461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66"/>
              </a:gs>
              <a:gs pos="100000">
                <a:srgbClr val="00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* - 14 =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ько ударов в минуту делает сердце взрослого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* х 7 = 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ько сосен сберегает 1 центнер макула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90 :  * 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ько литров воды требуется человеку  в д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1557000"/>
            <a:ext cx="4171680" cy="4538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66"/>
              </a:gs>
              <a:gs pos="100000">
                <a:srgbClr val="00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:  * 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ько литров воды вытекает из неисправного кр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96 :  *  =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ько кг углекислого газа поглощает за час 1 гектар ле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3 +  *  = 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ько кг чистого воздуха требуется в сутки для дыхания одного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WordArt 6"/>
          <p:cNvSpPr txBox="1"/>
          <p:nvPr/>
        </p:nvSpPr>
        <p:spPr>
          <a:xfrm>
            <a:off x="755640" y="206064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6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WordArt 7"/>
          <p:cNvSpPr txBox="1"/>
          <p:nvPr/>
        </p:nvSpPr>
        <p:spPr>
          <a:xfrm>
            <a:off x="1619280" y="4437000"/>
            <a:ext cx="330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0" name="WordArt 8"/>
          <p:cNvSpPr txBox="1"/>
          <p:nvPr/>
        </p:nvSpPr>
        <p:spPr>
          <a:xfrm>
            <a:off x="1042920" y="3213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WordArt 9"/>
          <p:cNvSpPr txBox="1"/>
          <p:nvPr/>
        </p:nvSpPr>
        <p:spPr>
          <a:xfrm>
            <a:off x="5508720" y="206064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50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2" name="WordArt 10"/>
          <p:cNvSpPr txBox="1"/>
          <p:nvPr/>
        </p:nvSpPr>
        <p:spPr>
          <a:xfrm>
            <a:off x="5508720" y="3213000"/>
            <a:ext cx="18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1"/>
          <p:cNvSpPr txBox="1"/>
          <p:nvPr/>
        </p:nvSpPr>
        <p:spPr>
          <a:xfrm>
            <a:off x="5508720" y="4437000"/>
            <a:ext cx="2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17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Реши экологическую задач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семью из трех человек в сутки требуется 51кг чистого воздуха. Сколько потребуется кг воздуха на семью из 5 человек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11280" y="5300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Ответ : 85 к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Логик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ссуждай и вставляй в выражения слова «некоторые» или «вс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4360" y="1483920"/>
            <a:ext cx="7702560" cy="23050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 кома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_______  уравнения содержат неизвест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________ треугольники имеют три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________ числа  четные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________ числа меньше тыся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4076280"/>
            <a:ext cx="7773840" cy="25210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 кома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_______ задачи решаются в два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________ квадраты - четырехуголь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________ числа двузначные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________ числа делятся н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900000" y="5445000"/>
            <a:ext cx="1479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1042920" y="2924280"/>
            <a:ext cx="1152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971640" y="4724280"/>
            <a:ext cx="11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1116000" y="3429000"/>
            <a:ext cx="1263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11"/>
          <p:cNvSpPr txBox="1"/>
          <p:nvPr/>
        </p:nvSpPr>
        <p:spPr>
          <a:xfrm>
            <a:off x="1403280" y="206064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WordArt 12"/>
          <p:cNvSpPr txBox="1"/>
          <p:nvPr/>
        </p:nvSpPr>
        <p:spPr>
          <a:xfrm>
            <a:off x="1403280" y="242100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WordArt 13"/>
          <p:cNvSpPr txBox="1"/>
          <p:nvPr/>
        </p:nvSpPr>
        <p:spPr>
          <a:xfrm>
            <a:off x="1403280" y="508464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WordArt 14"/>
          <p:cNvSpPr txBox="1"/>
          <p:nvPr/>
        </p:nvSpPr>
        <p:spPr>
          <a:xfrm>
            <a:off x="1187280" y="5950080"/>
            <a:ext cx="64008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Найди закономер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343400" cy="4343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0  40  39  29      28  18  17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</a:rPr>
              <a:t>1)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</a:rPr>
              <a:t> 30и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</a:rPr>
              <a:t>2) 7и 6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</a:rPr>
              <a:t>3) 10и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7440" y="167616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дьте       внимательн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657600" y="2590920"/>
            <a:ext cx="5335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343400" y="2590920"/>
            <a:ext cx="5335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458200" y="60195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BIRDFLYI"/>
          <p:cNvPicPr/>
          <p:nvPr/>
        </p:nvPicPr>
        <p:blipFill>
          <a:blip r:embed="rId1"/>
          <a:stretch/>
        </p:blipFill>
        <p:spPr>
          <a:xfrm>
            <a:off x="324000" y="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6"/>
          <p:cNvSpPr/>
          <p:nvPr/>
        </p:nvSpPr>
        <p:spPr>
          <a:xfrm flipV="1">
            <a:off x="2195640" y="5534640"/>
            <a:ext cx="63388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МО Л О Д Ц Ы !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Все ли вы делаете зарядку по утра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, что есть зарядка для ум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гадались?   Конечно,   это………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М   А   Т   Е   М   А   Т   И   К   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егодня мы попали в удивительную страну мудрецов «Заниматику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66"/>
              </a:gs>
              <a:gs pos="100000">
                <a:srgbClr val="ff7c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Миром управляют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М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2484360" y="1916280"/>
            <a:ext cx="4105440" cy="381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3348000" y="1844640"/>
            <a:ext cx="1152720" cy="34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3348000" y="3644640"/>
            <a:ext cx="324000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 flipH="1" flipV="1">
            <a:off x="2771280" y="2708280"/>
            <a:ext cx="374508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771640" y="2781360"/>
            <a:ext cx="3024360" cy="25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 flipH="1" flipV="1">
            <a:off x="5579640" y="2133360"/>
            <a:ext cx="144360" cy="30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484000" y="2205000"/>
            <a:ext cx="309564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556000" y="3860640"/>
            <a:ext cx="2232000" cy="180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16"/>
          <p:cNvSpPr txBox="1"/>
          <p:nvPr/>
        </p:nvSpPr>
        <p:spPr>
          <a:xfrm>
            <a:off x="2124000" y="5373720"/>
            <a:ext cx="1255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М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4500720" y="5734080"/>
            <a:ext cx="863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</a:t>
            </a:r>
            <a:endParaRPr b="1" lang="en-US" sz="4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18"/>
          <p:cNvSpPr txBox="1"/>
          <p:nvPr/>
        </p:nvSpPr>
        <p:spPr>
          <a:xfrm>
            <a:off x="5867280" y="5084640"/>
            <a:ext cx="11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я</a:t>
            </a:r>
            <a:endParaRPr b="1" lang="en-US" sz="40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19"/>
          <p:cNvSpPr txBox="1"/>
          <p:nvPr/>
        </p:nvSpPr>
        <p:spPr>
          <a:xfrm>
            <a:off x="6732720" y="3500280"/>
            <a:ext cx="115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п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20"/>
          <p:cNvSpPr txBox="1"/>
          <p:nvPr/>
        </p:nvSpPr>
        <p:spPr>
          <a:xfrm>
            <a:off x="5796000" y="155736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т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WordArt 21"/>
          <p:cNvSpPr txBox="1"/>
          <p:nvPr/>
        </p:nvSpPr>
        <p:spPr>
          <a:xfrm>
            <a:off x="1692360" y="2060640"/>
            <a:ext cx="1208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22"/>
          <p:cNvSpPr txBox="1"/>
          <p:nvPr/>
        </p:nvSpPr>
        <p:spPr>
          <a:xfrm>
            <a:off x="1258920" y="3500280"/>
            <a:ext cx="115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</a:t>
            </a:r>
            <a:endParaRPr b="0" lang="en-US" sz="5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2789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СЕКТОРА НА ИГРОВОМ П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8920" y="1981080"/>
            <a:ext cx="6048360" cy="41148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рифме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Фолькл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елич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атематика и эк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Лог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Сообража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У пчёлки глаз столько, сколько у тебя, да ещё столько, да ещё полстоль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Сколько глаз у пчёл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Bee01"/>
          <p:cNvPicPr/>
          <p:nvPr/>
        </p:nvPicPr>
        <p:blipFill>
          <a:blip r:embed="rId1"/>
          <a:stretch/>
        </p:blipFill>
        <p:spPr>
          <a:xfrm>
            <a:off x="250920" y="836640"/>
            <a:ext cx="1152360" cy="110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Bee04"/>
          <p:cNvPicPr/>
          <p:nvPr/>
        </p:nvPicPr>
        <p:blipFill>
          <a:blip r:embed="rId2"/>
          <a:stretch/>
        </p:blipFill>
        <p:spPr>
          <a:xfrm>
            <a:off x="684360" y="4365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Bee03"/>
          <p:cNvPicPr/>
          <p:nvPr/>
        </p:nvPicPr>
        <p:blipFill>
          <a:blip r:embed="rId3"/>
          <a:stretch/>
        </p:blipFill>
        <p:spPr>
          <a:xfrm>
            <a:off x="4284720" y="5013360"/>
            <a:ext cx="79200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Bee03"/>
          <p:cNvPicPr/>
          <p:nvPr/>
        </p:nvPicPr>
        <p:blipFill>
          <a:blip r:embed="rId4"/>
          <a:stretch/>
        </p:blipFill>
        <p:spPr>
          <a:xfrm>
            <a:off x="7524720" y="5013360"/>
            <a:ext cx="792360" cy="752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Bee01"/>
          <p:cNvPicPr/>
          <p:nvPr/>
        </p:nvPicPr>
        <p:blipFill>
          <a:blip r:embed="rId5"/>
          <a:stretch/>
        </p:blipFill>
        <p:spPr>
          <a:xfrm>
            <a:off x="7524720" y="333360"/>
            <a:ext cx="1152720" cy="110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Bee04"/>
          <p:cNvPicPr/>
          <p:nvPr/>
        </p:nvPicPr>
        <p:blipFill>
          <a:blip r:embed="rId6"/>
          <a:stretch/>
        </p:blipFill>
        <p:spPr>
          <a:xfrm>
            <a:off x="1187280" y="5084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Сложи пословицу.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числи, воспользуйся кодом  (ключом) и прочт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8360" y="1413000"/>
            <a:ext cx="6478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х9                            4х7                      24х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х5                            7х9                      9х2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х3                            6х4                       3х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х9                            20х2                      7х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х2                            5х9                        9х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д шифров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219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4581360"/>
          <a:ext cx="8207280" cy="1079640"/>
        </p:xfrm>
        <a:graphic>
          <a:graphicData uri="http://schemas.openxmlformats.org/drawingml/2006/table">
            <a:tbl>
              <a:tblPr/>
              <a:tblGrid>
                <a:gridCol w="684000"/>
                <a:gridCol w="684360"/>
                <a:gridCol w="684360"/>
                <a:gridCol w="682560"/>
                <a:gridCol w="684000"/>
                <a:gridCol w="684360"/>
                <a:gridCol w="684000"/>
                <a:gridCol w="684360"/>
                <a:gridCol w="684360"/>
                <a:gridCol w="682560"/>
                <a:gridCol w="684000"/>
                <a:gridCol w="68436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60"/>
          <p:cNvSpPr/>
          <p:nvPr/>
        </p:nvSpPr>
        <p:spPr>
          <a:xfrm>
            <a:off x="324000" y="5850000"/>
            <a:ext cx="8569080" cy="100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66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авильный ответ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Без  муки нет нау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Названия  геометрических фиг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35280" y="1341360"/>
            <a:ext cx="1655640" cy="165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059280" y="4508640"/>
            <a:ext cx="1368360" cy="115236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435640" y="1268280"/>
            <a:ext cx="2592360" cy="1871640"/>
          </a:xfrm>
          <a:prstGeom prst="triangle">
            <a:avLst>
              <a:gd name="adj" fmla="val 50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7"/>
          <p:cNvSpPr/>
          <p:nvPr/>
        </p:nvSpPr>
        <p:spPr>
          <a:xfrm>
            <a:off x="468360" y="3500280"/>
            <a:ext cx="1439640" cy="1440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6156360" y="4221000"/>
            <a:ext cx="2736720" cy="1295640"/>
          </a:xfrm>
          <a:prstGeom prst="parallelogram">
            <a:avLst>
              <a:gd name="adj" fmla="val 52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995640" y="1773360"/>
            <a:ext cx="1368360" cy="27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054160" y="32130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39080" y="32320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305040" y="580536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829080" y="530064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629800" y="5805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789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468360" y="623736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 flipV="1">
            <a:off x="2340000" y="4581360"/>
            <a:ext cx="7128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2340000" y="4581360"/>
            <a:ext cx="57636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0"/>
          <p:cNvSpPr/>
          <p:nvPr/>
        </p:nvSpPr>
        <p:spPr>
          <a:xfrm flipV="1">
            <a:off x="3924360" y="1773360"/>
            <a:ext cx="2160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1"/>
          <p:cNvSpPr/>
          <p:nvPr/>
        </p:nvSpPr>
        <p:spPr>
          <a:xfrm flipV="1">
            <a:off x="5292720" y="4436640"/>
            <a:ext cx="1429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469800" y="64911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ма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Глаз- алма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7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эт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сочков головоломки есть 2 с одинаковой площадью. Как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</a:rPr>
              <a:t>1) 2 и 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</a:rPr>
              <a:t>2) 1 и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</a:rPr>
              <a:t>3) 2 и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0292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2578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257800" y="2209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4864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629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086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858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629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57150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4864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2578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0292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57150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54864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6629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0292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57150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0866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6858000" y="3200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1055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3341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55627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7913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60199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59436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533412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53341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57913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78168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5562720" y="4495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579132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7"/>
          <p:cNvSpPr/>
          <p:nvPr/>
        </p:nvSpPr>
        <p:spPr>
          <a:xfrm>
            <a:off x="67816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678168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9"/>
          <p:cNvSpPr/>
          <p:nvPr/>
        </p:nvSpPr>
        <p:spPr>
          <a:xfrm>
            <a:off x="70102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72388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1"/>
          <p:cNvSpPr/>
          <p:nvPr/>
        </p:nvSpPr>
        <p:spPr>
          <a:xfrm>
            <a:off x="723888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2"/>
          <p:cNvSpPr/>
          <p:nvPr/>
        </p:nvSpPr>
        <p:spPr>
          <a:xfrm>
            <a:off x="723888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4674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65530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60199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6"/>
          <p:cNvSpPr/>
          <p:nvPr/>
        </p:nvSpPr>
        <p:spPr>
          <a:xfrm>
            <a:off x="62485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7"/>
          <p:cNvSpPr/>
          <p:nvPr/>
        </p:nvSpPr>
        <p:spPr>
          <a:xfrm>
            <a:off x="64771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8"/>
          <p:cNvSpPr/>
          <p:nvPr/>
        </p:nvSpPr>
        <p:spPr>
          <a:xfrm>
            <a:off x="6248520" y="5029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9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0"/>
          <p:cNvSpPr/>
          <p:nvPr/>
        </p:nvSpPr>
        <p:spPr>
          <a:xfrm>
            <a:off x="624852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1"/>
          <p:cNvSpPr/>
          <p:nvPr/>
        </p:nvSpPr>
        <p:spPr>
          <a:xfrm>
            <a:off x="60199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62485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3"/>
          <p:cNvSpPr/>
          <p:nvPr/>
        </p:nvSpPr>
        <p:spPr>
          <a:xfrm>
            <a:off x="60199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4"/>
          <p:cNvSpPr/>
          <p:nvPr/>
        </p:nvSpPr>
        <p:spPr>
          <a:xfrm>
            <a:off x="64771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62485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64771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624852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18560" cy="115092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66"/>
              </a:gs>
              <a:gs pos="100000">
                <a:srgbClr val="ff7c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Фольклор  </a:t>
            </a:r>
            <a:br>
              <a:rPr sz="36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словицы и поговор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к – от …..          нед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  …          мор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ядей во л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          вода на кисе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ст до неб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        ….         н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отмерь – один раз отреж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ятниц на неде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…          нянек дитя без гл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 не дерусь, а       ….          бою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 с сошкой, а  ….        с лож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2340000" y="177336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и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1476360" y="2205000"/>
            <a:ext cx="830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ю</a:t>
            </a:r>
            <a:endParaRPr b="0" lang="en-US" sz="5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1042920" y="256536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WordArt 9"/>
          <p:cNvSpPr txBox="1"/>
          <p:nvPr/>
        </p:nvSpPr>
        <p:spPr>
          <a:xfrm>
            <a:off x="826920" y="2924280"/>
            <a:ext cx="1246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дьмая</a:t>
            </a:r>
            <a:endParaRPr b="0" lang="en-US" sz="5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971640" y="3357720"/>
            <a:ext cx="718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1763640" y="3645000"/>
            <a:ext cx="1246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дьмом</a:t>
            </a:r>
            <a:endParaRPr b="0" lang="en-US" sz="5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12"/>
          <p:cNvSpPr txBox="1"/>
          <p:nvPr/>
        </p:nvSpPr>
        <p:spPr>
          <a:xfrm>
            <a:off x="1042920" y="407664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3"/>
          <p:cNvSpPr txBox="1"/>
          <p:nvPr/>
        </p:nvSpPr>
        <p:spPr>
          <a:xfrm>
            <a:off x="971640" y="443700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5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4"/>
          <p:cNvSpPr txBox="1"/>
          <p:nvPr/>
        </p:nvSpPr>
        <p:spPr>
          <a:xfrm>
            <a:off x="1403280" y="479736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и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5"/>
          <p:cNvSpPr txBox="1"/>
          <p:nvPr/>
        </p:nvSpPr>
        <p:spPr>
          <a:xfrm>
            <a:off x="3419640" y="5084640"/>
            <a:ext cx="1245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рых</a:t>
            </a:r>
            <a:endParaRPr b="0" lang="en-US" sz="5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6"/>
          <p:cNvSpPr txBox="1"/>
          <p:nvPr/>
        </p:nvSpPr>
        <p:spPr>
          <a:xfrm>
            <a:off x="3492360" y="551664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ро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07:57:24Z</dcterms:created>
  <dc:creator>kurs</dc:creator>
  <dc:description/>
  <dc:language>en-US</dc:language>
  <cp:lastModifiedBy>6417</cp:lastModifiedBy>
  <dcterms:modified xsi:type="dcterms:W3CDTF">2015-01-19T18:28:30Z</dcterms:modified>
  <cp:revision>78</cp:revision>
  <dc:subject/>
  <dc:title>Презентация PowerPoint</dc:title>
</cp:coreProperties>
</file>