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907588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5EA2-06DD-4522-AC37-80D36942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03B-3C64-499C-A8B0-4719AF4E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1EC-0CB1-46C8-8A7D-23CF1E3D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293-2E15-4BF7-B68F-1BA4D120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056F-E306-4D24-9A11-89331352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3683-22F4-4A15-AC43-7D5FE426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C17A-7B4A-4A35-A783-02BDAA19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A4B7-9283-410B-88D3-08A5C7F2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0F87-30E8-45F8-AF3F-FFC8475F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B6BB-F9A0-4A53-B78C-02FDCA9F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9122-C067-463E-8D17-D5ED380E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5F36-B291-47D2-859C-FFC67955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4B7F-89E9-4249-808E-209809EF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8D47-FDAD-4500-94E7-CE46C6CD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82CD-307B-4A72-A7CF-423A4689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87B4-5BAB-4C92-9DB3-F0CE2DB3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500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0964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2428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9467-153F-427B-9E98-FC0216C5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AFE1-B567-4A28-B273-7880C79A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47E-5DBE-4042-B104-D220CBD4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089F-3A60-4BFA-8F6E-689B2EFE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7A7-D362-43ED-86E5-645C5D3A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DA7-5B97-4144-81C8-19DA9AB3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20CF-2E1C-4CEB-9AED-A957BC4F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25F-1FE4-4660-A9D5-6EA2F8C0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845120" cy="1981080"/>
            <a:chOff x="0" y="0"/>
            <a:chExt cx="7845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71624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845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8123-8B17-49FD-81D5-0C3D8616F6E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62720" cy="5943600"/>
            <a:chOff x="0" y="0"/>
            <a:chExt cx="916272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86536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916272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3960-F1FE-40C2-A986-BC6A5A41546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4089240" y="285264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рнестина </a:t>
            </a: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рнбер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tutchev_2"/>
          <p:cNvPicPr/>
          <p:nvPr/>
        </p:nvPicPr>
        <p:blipFill>
          <a:blip r:embed="rId2"/>
          <a:stretch/>
        </p:blipFill>
        <p:spPr>
          <a:xfrm>
            <a:off x="628560" y="469800"/>
            <a:ext cx="4479840" cy="5973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00160" y="1269360"/>
            <a:ext cx="6913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488880" y="4046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рнестина и Ф.Тютче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" descr="ml_objects696"/>
          <p:cNvPicPr/>
          <p:nvPr/>
        </p:nvPicPr>
        <p:blipFill>
          <a:blip r:embed="rId2"/>
          <a:stretch/>
        </p:blipFill>
        <p:spPr>
          <a:xfrm>
            <a:off x="1023840" y="1143000"/>
            <a:ext cx="3929040" cy="5214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ml_objects700"/>
          <p:cNvPicPr/>
          <p:nvPr/>
        </p:nvPicPr>
        <p:blipFill>
          <a:blip r:embed="rId3"/>
          <a:stretch/>
        </p:blipFill>
        <p:spPr>
          <a:xfrm>
            <a:off x="5452920" y="1143000"/>
            <a:ext cx="3786480" cy="514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930920" y="260280"/>
            <a:ext cx="185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095800" y="2067840"/>
            <a:ext cx="459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Елена Александровна Денисье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517680" y="347760"/>
            <a:ext cx="4451040" cy="6192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Прямоугольник 8"/>
          <p:cNvSpPr/>
          <p:nvPr/>
        </p:nvSpPr>
        <p:spPr>
          <a:xfrm>
            <a:off x="344520" y="214200"/>
            <a:ext cx="8680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.Денисьева и Ф.Тютчев</a:t>
            </a:r>
            <a:br>
              <a:rPr sz="14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3" descr="E:\ДОКУМЕНТЫ НАТАША\литературная гостиная\тютчев и денисьева.webp"/>
          <p:cNvPicPr/>
          <p:nvPr/>
        </p:nvPicPr>
        <p:blipFill>
          <a:blip r:embed="rId2"/>
          <a:stretch/>
        </p:blipFill>
        <p:spPr>
          <a:xfrm>
            <a:off x="880920" y="1071720"/>
            <a:ext cx="8429760" cy="5286240"/>
          </a:xfrm>
          <a:prstGeom prst="rect">
            <a:avLst/>
          </a:prstGeom>
          <a:ln w="0">
            <a:noFill/>
          </a:ln>
        </p:spPr>
      </p:pic>
      <p:pic>
        <p:nvPicPr>
          <p:cNvPr id="119" name="Yiruma - River Flows In You  (audiopoisk.com).mp3" descr=""/>
          <p:cNvPicPr/>
          <p:nvPr/>
        </p:nvPicPr>
        <p:blipFill>
          <a:blip r:embed="rId3"/>
          <a:stretch/>
        </p:blipFill>
        <p:spPr>
          <a:xfrm>
            <a:off x="48888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2:18:05Z</dcterms:created>
  <dc:creator>Альбина</dc:creator>
  <dc:description/>
  <dc:language>en-US</dc:language>
  <cp:lastModifiedBy>ASUS</cp:lastModifiedBy>
  <dcterms:modified xsi:type="dcterms:W3CDTF">2015-01-19T15:48:30Z</dcterms:modified>
  <cp:revision>110</cp:revision>
  <dc:subject/>
  <dc:title>Слайд 1</dc:title>
</cp:coreProperties>
</file>