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7D87-F3F4-41AB-BC09-2CB864B9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7602-82EC-4897-AB45-9CBDB219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8AC5-FEBC-4749-BC60-73F591D8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2173-6B6A-4FBE-91C6-BE1BC6B4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3B23-59FD-441F-A92C-FEA27155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21B5-C2E6-469A-BADA-7FF37487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119A-5A90-4F15-89FB-B03981CD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9F21-1767-4612-BD2A-77DC8D10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8692-FF0B-41C2-8AFE-6F51FC7D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84D5-ABB9-419F-8E25-F860EAA2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4D0A-8B75-4F49-9EC9-0EDB4FF3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6B46-C0CC-4F02-AFF0-E9539E19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1AF9-CDCA-4A88-8BA9-29912E5D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B41A-F74C-4226-8106-5053C534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9FFC-B6A2-4102-B6DF-1DBF34F5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870F-5FF4-470D-B4DC-98ABC575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CEBF-EDCD-4F27-8D88-53F87C72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613A-E0AF-40BF-8F2E-2647E146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E39-32D1-44E3-A1B4-B555D40A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0AA-C68A-4663-88A0-19F17CD1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897B-84BE-482E-935D-92CCDDF6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48DA-C768-43D5-934B-BDE475A0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C3D2-8831-4ED5-9A14-A69C6601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1842-3FA7-48ED-BBA3-DDB45A6E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C007-BE53-4E06-B5D4-91A6D07FE8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7C8C-6A31-46A0-A393-90090662E7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6"/>
          <p:cNvSpPr/>
          <p:nvPr/>
        </p:nvSpPr>
        <p:spPr>
          <a:xfrm>
            <a:off x="6324480" y="5715000"/>
            <a:ext cx="2667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523880" y="2362320"/>
            <a:ext cx="5715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Comic Sans MS"/>
              </a:rPr>
              <a:t>Прямая лин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Comic Sans MS"/>
              </a:rPr>
              <a:t>Кривая лин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5803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Мы узнал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Линии бывают прямые и кривы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07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90718"/>
                </a:solidFill>
                <a:latin typeface="Comic Sans MS"/>
              </a:rPr>
              <a:t>Через одну точку можно провести много прямых и кривых ли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Через две точки можно провести только одну прямую линию, но много кривых ли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Кривые линии бывают замкнутые и незамкнуты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2438280" y="1600200"/>
            <a:ext cx="4724640" cy="32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6420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На какие две группы можно разделить эти линии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1066680" y="4267080"/>
            <a:ext cx="1905120" cy="1526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4191120" y="4038480"/>
            <a:ext cx="457200" cy="19814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6019920" y="3505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7"/>
          <p:cNvSpPr/>
          <p:nvPr/>
        </p:nvSpPr>
        <p:spPr>
          <a:xfrm flipH="1">
            <a:off x="6019560" y="2743200"/>
            <a:ext cx="990360" cy="14479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Freeform 9"/>
          <p:cNvSpPr/>
          <p:nvPr/>
        </p:nvSpPr>
        <p:spPr>
          <a:xfrm>
            <a:off x="1371600" y="2819520"/>
            <a:ext cx="2209680" cy="812520"/>
          </a:xfrm>
          <a:custGeom>
            <a:avLst/>
            <a:gdLst/>
            <a:ahLst/>
            <a:rect l="l" t="t" r="r" b="b"/>
            <a:pathLst>
              <a:path w="1392" h="512">
                <a:moveTo>
                  <a:pt x="0" y="240"/>
                </a:moveTo>
                <a:cubicBezTo>
                  <a:pt x="260" y="376"/>
                  <a:pt x="520" y="512"/>
                  <a:pt x="672" y="480"/>
                </a:cubicBezTo>
                <a:cubicBezTo>
                  <a:pt x="824" y="448"/>
                  <a:pt x="808" y="96"/>
                  <a:pt x="912" y="48"/>
                </a:cubicBezTo>
                <a:cubicBezTo>
                  <a:pt x="1016" y="0"/>
                  <a:pt x="1216" y="160"/>
                  <a:pt x="1296" y="192"/>
                </a:cubicBezTo>
                <a:cubicBezTo>
                  <a:pt x="1376" y="224"/>
                  <a:pt x="1376" y="232"/>
                  <a:pt x="1392" y="24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Freeform 10"/>
          <p:cNvSpPr/>
          <p:nvPr/>
        </p:nvSpPr>
        <p:spPr>
          <a:xfrm>
            <a:off x="4343400" y="2133720"/>
            <a:ext cx="1650960" cy="1815840"/>
          </a:xfrm>
          <a:custGeom>
            <a:avLst/>
            <a:gdLst/>
            <a:ahLst/>
            <a:rect l="l" t="t" r="r" b="b"/>
            <a:pathLst>
              <a:path w="1040" h="1144">
                <a:moveTo>
                  <a:pt x="0" y="648"/>
                </a:moveTo>
                <a:cubicBezTo>
                  <a:pt x="228" y="324"/>
                  <a:pt x="456" y="0"/>
                  <a:pt x="528" y="72"/>
                </a:cubicBezTo>
                <a:cubicBezTo>
                  <a:pt x="600" y="144"/>
                  <a:pt x="360" y="1016"/>
                  <a:pt x="432" y="1080"/>
                </a:cubicBezTo>
                <a:cubicBezTo>
                  <a:pt x="504" y="1144"/>
                  <a:pt x="880" y="560"/>
                  <a:pt x="960" y="456"/>
                </a:cubicBezTo>
                <a:cubicBezTo>
                  <a:pt x="1040" y="352"/>
                  <a:pt x="976" y="404"/>
                  <a:pt x="912" y="456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Freeform 11"/>
          <p:cNvSpPr/>
          <p:nvPr/>
        </p:nvSpPr>
        <p:spPr>
          <a:xfrm>
            <a:off x="6324480" y="3657600"/>
            <a:ext cx="1663920" cy="2006640"/>
          </a:xfrm>
          <a:custGeom>
            <a:avLst/>
            <a:gdLst/>
            <a:ahLst/>
            <a:rect l="l" t="t" r="r" b="b"/>
            <a:pathLst>
              <a:path w="1048" h="1264">
                <a:moveTo>
                  <a:pt x="0" y="744"/>
                </a:moveTo>
                <a:cubicBezTo>
                  <a:pt x="12" y="832"/>
                  <a:pt x="24" y="920"/>
                  <a:pt x="96" y="984"/>
                </a:cubicBezTo>
                <a:cubicBezTo>
                  <a:pt x="168" y="1048"/>
                  <a:pt x="288" y="1264"/>
                  <a:pt x="432" y="1128"/>
                </a:cubicBezTo>
                <a:cubicBezTo>
                  <a:pt x="576" y="992"/>
                  <a:pt x="872" y="336"/>
                  <a:pt x="960" y="168"/>
                </a:cubicBezTo>
                <a:cubicBezTo>
                  <a:pt x="1048" y="0"/>
                  <a:pt x="1004" y="60"/>
                  <a:pt x="960" y="12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54230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3"/>
          <p:cNvSpPr/>
          <p:nvPr/>
        </p:nvSpPr>
        <p:spPr>
          <a:xfrm>
            <a:off x="990720" y="1752480"/>
            <a:ext cx="1904760" cy="1526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1676520" y="2362320"/>
            <a:ext cx="457200" cy="198108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6019920" y="3505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6"/>
          <p:cNvSpPr/>
          <p:nvPr/>
        </p:nvSpPr>
        <p:spPr>
          <a:xfrm flipH="1">
            <a:off x="2743200" y="1981080"/>
            <a:ext cx="990720" cy="14479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Freeform 7"/>
          <p:cNvSpPr/>
          <p:nvPr/>
        </p:nvSpPr>
        <p:spPr>
          <a:xfrm>
            <a:off x="5867280" y="1523880"/>
            <a:ext cx="2210040" cy="812880"/>
          </a:xfrm>
          <a:custGeom>
            <a:avLst/>
            <a:gdLst/>
            <a:ahLst/>
            <a:rect l="l" t="t" r="r" b="b"/>
            <a:pathLst>
              <a:path w="1392" h="512">
                <a:moveTo>
                  <a:pt x="0" y="240"/>
                </a:moveTo>
                <a:cubicBezTo>
                  <a:pt x="260" y="376"/>
                  <a:pt x="520" y="512"/>
                  <a:pt x="672" y="480"/>
                </a:cubicBezTo>
                <a:cubicBezTo>
                  <a:pt x="824" y="448"/>
                  <a:pt x="808" y="96"/>
                  <a:pt x="912" y="48"/>
                </a:cubicBezTo>
                <a:cubicBezTo>
                  <a:pt x="1016" y="0"/>
                  <a:pt x="1216" y="160"/>
                  <a:pt x="1296" y="192"/>
                </a:cubicBezTo>
                <a:cubicBezTo>
                  <a:pt x="1376" y="224"/>
                  <a:pt x="1376" y="232"/>
                  <a:pt x="1392" y="24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Freeform 8"/>
          <p:cNvSpPr/>
          <p:nvPr/>
        </p:nvSpPr>
        <p:spPr>
          <a:xfrm>
            <a:off x="5181480" y="2362320"/>
            <a:ext cx="1650960" cy="1815840"/>
          </a:xfrm>
          <a:custGeom>
            <a:avLst/>
            <a:gdLst/>
            <a:ahLst/>
            <a:rect l="l" t="t" r="r" b="b"/>
            <a:pathLst>
              <a:path w="1040" h="1144">
                <a:moveTo>
                  <a:pt x="0" y="648"/>
                </a:moveTo>
                <a:cubicBezTo>
                  <a:pt x="228" y="324"/>
                  <a:pt x="456" y="0"/>
                  <a:pt x="528" y="72"/>
                </a:cubicBezTo>
                <a:cubicBezTo>
                  <a:pt x="600" y="144"/>
                  <a:pt x="360" y="1016"/>
                  <a:pt x="432" y="1080"/>
                </a:cubicBezTo>
                <a:cubicBezTo>
                  <a:pt x="504" y="1144"/>
                  <a:pt x="880" y="560"/>
                  <a:pt x="960" y="456"/>
                </a:cubicBezTo>
                <a:cubicBezTo>
                  <a:pt x="1040" y="352"/>
                  <a:pt x="976" y="404"/>
                  <a:pt x="912" y="456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Freeform 9"/>
          <p:cNvSpPr/>
          <p:nvPr/>
        </p:nvSpPr>
        <p:spPr>
          <a:xfrm>
            <a:off x="6934320" y="2514600"/>
            <a:ext cx="1663560" cy="2006640"/>
          </a:xfrm>
          <a:custGeom>
            <a:avLst/>
            <a:gdLst/>
            <a:ahLst/>
            <a:rect l="l" t="t" r="r" b="b"/>
            <a:pathLst>
              <a:path w="1048" h="1264">
                <a:moveTo>
                  <a:pt x="0" y="744"/>
                </a:moveTo>
                <a:cubicBezTo>
                  <a:pt x="12" y="832"/>
                  <a:pt x="24" y="920"/>
                  <a:pt x="96" y="984"/>
                </a:cubicBezTo>
                <a:cubicBezTo>
                  <a:pt x="168" y="1048"/>
                  <a:pt x="288" y="1264"/>
                  <a:pt x="432" y="1128"/>
                </a:cubicBezTo>
                <a:cubicBezTo>
                  <a:pt x="576" y="992"/>
                  <a:pt x="872" y="336"/>
                  <a:pt x="960" y="168"/>
                </a:cubicBezTo>
                <a:cubicBezTo>
                  <a:pt x="1048" y="0"/>
                  <a:pt x="1004" y="60"/>
                  <a:pt x="960" y="12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4495680" y="1447920"/>
            <a:ext cx="76320" cy="457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762120" y="44956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рямые лин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181480" y="5029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Кривые лин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7"/>
          <p:cNvSpPr/>
          <p:nvPr/>
        </p:nvSpPr>
        <p:spPr>
          <a:xfrm>
            <a:off x="1143000" y="533520"/>
            <a:ext cx="695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Сколько прямых линий можно провести через одну точку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523880" y="320040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219320" y="342900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Сколько прямых линий можно провести через две точк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4114800" y="2743200"/>
            <a:ext cx="228600" cy="228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5105520" y="5257800"/>
            <a:ext cx="228600" cy="228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3962520" y="6095880"/>
            <a:ext cx="228600" cy="228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5803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700000" y="3004920"/>
            <a:ext cx="161640" cy="16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66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1143000" y="1600200"/>
            <a:ext cx="281952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6"/>
          <p:cNvSpPr/>
          <p:nvPr/>
        </p:nvSpPr>
        <p:spPr>
          <a:xfrm flipH="1">
            <a:off x="1447920" y="2438280"/>
            <a:ext cx="2286000" cy="144792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7"/>
          <p:cNvSpPr/>
          <p:nvPr/>
        </p:nvSpPr>
        <p:spPr>
          <a:xfrm flipH="1">
            <a:off x="2438280" y="1523880"/>
            <a:ext cx="533520" cy="3733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914400" y="3048120"/>
            <a:ext cx="3200400" cy="75960"/>
          </a:xfrm>
          <a:prstGeom prst="line">
            <a:avLst/>
          </a:prstGeom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Oval 9"/>
          <p:cNvSpPr/>
          <p:nvPr/>
        </p:nvSpPr>
        <p:spPr>
          <a:xfrm>
            <a:off x="5562720" y="3962520"/>
            <a:ext cx="228600" cy="228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6553080" y="2971800"/>
            <a:ext cx="228600" cy="228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12"/>
          <p:cNvSpPr/>
          <p:nvPr/>
        </p:nvSpPr>
        <p:spPr>
          <a:xfrm flipV="1">
            <a:off x="4876920" y="2362320"/>
            <a:ext cx="2514600" cy="25905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1828800" y="52578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мног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ли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6019920" y="50292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одна ли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43000" y="533520"/>
            <a:ext cx="695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Сколько кривых линий можно провести через одну точку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523880" y="320040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219320" y="342900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Сколько кривых линий можно провести через две точк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Oval 5"/>
          <p:cNvSpPr/>
          <p:nvPr/>
        </p:nvSpPr>
        <p:spPr>
          <a:xfrm>
            <a:off x="4114800" y="2743200"/>
            <a:ext cx="228600" cy="228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5105520" y="5257800"/>
            <a:ext cx="228600" cy="228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7"/>
          <p:cNvSpPr/>
          <p:nvPr/>
        </p:nvSpPr>
        <p:spPr>
          <a:xfrm>
            <a:off x="3962520" y="6095880"/>
            <a:ext cx="228600" cy="228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5803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700000" y="3004920"/>
            <a:ext cx="161640" cy="16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66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5562720" y="3962520"/>
            <a:ext cx="228600" cy="228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53080" y="2971800"/>
            <a:ext cx="228600" cy="228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Freeform 11"/>
          <p:cNvSpPr/>
          <p:nvPr/>
        </p:nvSpPr>
        <p:spPr>
          <a:xfrm>
            <a:off x="1231920" y="1676520"/>
            <a:ext cx="2654280" cy="2438280"/>
          </a:xfrm>
          <a:custGeom>
            <a:avLst/>
            <a:gdLst/>
            <a:ahLst/>
            <a:rect l="l" t="t" r="r" b="b"/>
            <a:pathLst>
              <a:path w="1672" h="1536">
                <a:moveTo>
                  <a:pt x="40" y="1536"/>
                </a:moveTo>
                <a:cubicBezTo>
                  <a:pt x="20" y="1408"/>
                  <a:pt x="0" y="1280"/>
                  <a:pt x="184" y="1152"/>
                </a:cubicBezTo>
                <a:cubicBezTo>
                  <a:pt x="368" y="1024"/>
                  <a:pt x="896" y="960"/>
                  <a:pt x="1144" y="768"/>
                </a:cubicBezTo>
                <a:cubicBezTo>
                  <a:pt x="1392" y="576"/>
                  <a:pt x="1532" y="288"/>
                  <a:pt x="1672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Freeform 12"/>
          <p:cNvSpPr/>
          <p:nvPr/>
        </p:nvSpPr>
        <p:spPr>
          <a:xfrm>
            <a:off x="762120" y="1981080"/>
            <a:ext cx="3555720" cy="1625760"/>
          </a:xfrm>
          <a:custGeom>
            <a:avLst/>
            <a:gdLst/>
            <a:ahLst/>
            <a:rect l="l" t="t" r="r" b="b"/>
            <a:pathLst>
              <a:path w="2240" h="1024">
                <a:moveTo>
                  <a:pt x="112" y="224"/>
                </a:moveTo>
                <a:cubicBezTo>
                  <a:pt x="56" y="112"/>
                  <a:pt x="0" y="0"/>
                  <a:pt x="304" y="128"/>
                </a:cubicBezTo>
                <a:cubicBezTo>
                  <a:pt x="608" y="256"/>
                  <a:pt x="1632" y="960"/>
                  <a:pt x="1936" y="992"/>
                </a:cubicBezTo>
                <a:cubicBezTo>
                  <a:pt x="2240" y="1024"/>
                  <a:pt x="2184" y="672"/>
                  <a:pt x="2128" y="3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Freeform 15"/>
          <p:cNvSpPr/>
          <p:nvPr/>
        </p:nvSpPr>
        <p:spPr>
          <a:xfrm>
            <a:off x="2717640" y="1359000"/>
            <a:ext cx="939960" cy="3911400"/>
          </a:xfrm>
          <a:custGeom>
            <a:avLst/>
            <a:gdLst/>
            <a:ahLst/>
            <a:rect l="l" t="t" r="r" b="b"/>
            <a:pathLst>
              <a:path w="592" h="2464">
                <a:moveTo>
                  <a:pt x="592" y="104"/>
                </a:moveTo>
                <a:cubicBezTo>
                  <a:pt x="448" y="52"/>
                  <a:pt x="304" y="0"/>
                  <a:pt x="208" y="200"/>
                </a:cubicBezTo>
                <a:cubicBezTo>
                  <a:pt x="112" y="400"/>
                  <a:pt x="32" y="944"/>
                  <a:pt x="16" y="1304"/>
                </a:cubicBezTo>
                <a:cubicBezTo>
                  <a:pt x="0" y="1664"/>
                  <a:pt x="24" y="2256"/>
                  <a:pt x="112" y="2360"/>
                </a:cubicBezTo>
                <a:cubicBezTo>
                  <a:pt x="200" y="2464"/>
                  <a:pt x="372" y="2196"/>
                  <a:pt x="544" y="1928"/>
                </a:cubicBezTo>
              </a:path>
            </a:pathLst>
          </a:custGeom>
          <a:noFill/>
          <a:ln w="38160">
            <a:solidFill>
              <a:srgbClr val="00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1828800" y="52578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мног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ли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6019920" y="51814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мног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ли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Freeform 19"/>
          <p:cNvSpPr/>
          <p:nvPr/>
        </p:nvSpPr>
        <p:spPr>
          <a:xfrm rot="2734800">
            <a:off x="6286320" y="1638000"/>
            <a:ext cx="939960" cy="3911760"/>
          </a:xfrm>
          <a:custGeom>
            <a:avLst/>
            <a:gdLst/>
            <a:ahLst/>
            <a:rect l="l" t="t" r="r" b="b"/>
            <a:pathLst>
              <a:path w="592" h="2464">
                <a:moveTo>
                  <a:pt x="592" y="104"/>
                </a:moveTo>
                <a:cubicBezTo>
                  <a:pt x="448" y="52"/>
                  <a:pt x="304" y="0"/>
                  <a:pt x="208" y="200"/>
                </a:cubicBezTo>
                <a:cubicBezTo>
                  <a:pt x="112" y="400"/>
                  <a:pt x="32" y="944"/>
                  <a:pt x="16" y="1304"/>
                </a:cubicBezTo>
                <a:cubicBezTo>
                  <a:pt x="0" y="1664"/>
                  <a:pt x="24" y="2256"/>
                  <a:pt x="112" y="2360"/>
                </a:cubicBezTo>
                <a:cubicBezTo>
                  <a:pt x="200" y="2464"/>
                  <a:pt x="372" y="2196"/>
                  <a:pt x="544" y="1928"/>
                </a:cubicBezTo>
              </a:path>
            </a:pathLst>
          </a:custGeom>
          <a:noFill/>
          <a:ln w="38160">
            <a:solidFill>
              <a:srgbClr val="00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Freeform 20"/>
          <p:cNvSpPr/>
          <p:nvPr/>
        </p:nvSpPr>
        <p:spPr>
          <a:xfrm rot="6586800">
            <a:off x="4444920" y="2869560"/>
            <a:ext cx="3555720" cy="1625760"/>
          </a:xfrm>
          <a:custGeom>
            <a:avLst/>
            <a:gdLst/>
            <a:ahLst/>
            <a:rect l="l" t="t" r="r" b="b"/>
            <a:pathLst>
              <a:path w="2240" h="1024">
                <a:moveTo>
                  <a:pt x="112" y="224"/>
                </a:moveTo>
                <a:cubicBezTo>
                  <a:pt x="56" y="112"/>
                  <a:pt x="0" y="0"/>
                  <a:pt x="304" y="128"/>
                </a:cubicBezTo>
                <a:cubicBezTo>
                  <a:pt x="608" y="256"/>
                  <a:pt x="1632" y="960"/>
                  <a:pt x="1936" y="992"/>
                </a:cubicBezTo>
                <a:cubicBezTo>
                  <a:pt x="2240" y="1024"/>
                  <a:pt x="2184" y="672"/>
                  <a:pt x="2128" y="3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Freeform 21"/>
          <p:cNvSpPr/>
          <p:nvPr/>
        </p:nvSpPr>
        <p:spPr>
          <a:xfrm>
            <a:off x="4267080" y="2666880"/>
            <a:ext cx="2654280" cy="2438640"/>
          </a:xfrm>
          <a:custGeom>
            <a:avLst/>
            <a:gdLst/>
            <a:ahLst/>
            <a:rect l="l" t="t" r="r" b="b"/>
            <a:pathLst>
              <a:path w="1672" h="1536">
                <a:moveTo>
                  <a:pt x="40" y="1536"/>
                </a:moveTo>
                <a:cubicBezTo>
                  <a:pt x="20" y="1408"/>
                  <a:pt x="0" y="1280"/>
                  <a:pt x="184" y="1152"/>
                </a:cubicBezTo>
                <a:cubicBezTo>
                  <a:pt x="368" y="1024"/>
                  <a:pt x="896" y="960"/>
                  <a:pt x="1144" y="768"/>
                </a:cubicBezTo>
                <a:cubicBezTo>
                  <a:pt x="1392" y="576"/>
                  <a:pt x="1532" y="288"/>
                  <a:pt x="1672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Чем похожи и чем отличаются линии слева и справ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4572000" y="198108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Freeform 6"/>
          <p:cNvSpPr/>
          <p:nvPr/>
        </p:nvSpPr>
        <p:spPr>
          <a:xfrm>
            <a:off x="2093760" y="3429000"/>
            <a:ext cx="1311480" cy="1870200"/>
          </a:xfrm>
          <a:custGeom>
            <a:avLst/>
            <a:gdLst/>
            <a:ahLst/>
            <a:rect l="l" t="t" r="r" b="b"/>
            <a:pathLst>
              <a:path w="826" h="1178">
                <a:moveTo>
                  <a:pt x="204" y="432"/>
                </a:moveTo>
                <a:cubicBezTo>
                  <a:pt x="213" y="361"/>
                  <a:pt x="240" y="320"/>
                  <a:pt x="273" y="258"/>
                </a:cubicBezTo>
                <a:cubicBezTo>
                  <a:pt x="300" y="207"/>
                  <a:pt x="348" y="80"/>
                  <a:pt x="409" y="53"/>
                </a:cubicBezTo>
                <a:cubicBezTo>
                  <a:pt x="464" y="29"/>
                  <a:pt x="517" y="12"/>
                  <a:pt x="576" y="0"/>
                </a:cubicBezTo>
                <a:cubicBezTo>
                  <a:pt x="670" y="7"/>
                  <a:pt x="704" y="0"/>
                  <a:pt x="765" y="61"/>
                </a:cubicBezTo>
                <a:cubicBezTo>
                  <a:pt x="774" y="88"/>
                  <a:pt x="775" y="118"/>
                  <a:pt x="788" y="144"/>
                </a:cubicBezTo>
                <a:cubicBezTo>
                  <a:pt x="797" y="162"/>
                  <a:pt x="815" y="173"/>
                  <a:pt x="826" y="189"/>
                </a:cubicBezTo>
                <a:cubicBezTo>
                  <a:pt x="818" y="219"/>
                  <a:pt x="815" y="251"/>
                  <a:pt x="803" y="280"/>
                </a:cubicBezTo>
                <a:cubicBezTo>
                  <a:pt x="781" y="332"/>
                  <a:pt x="691" y="358"/>
                  <a:pt x="652" y="379"/>
                </a:cubicBezTo>
                <a:cubicBezTo>
                  <a:pt x="527" y="447"/>
                  <a:pt x="442" y="493"/>
                  <a:pt x="303" y="508"/>
                </a:cubicBezTo>
                <a:cubicBezTo>
                  <a:pt x="279" y="524"/>
                  <a:pt x="266" y="531"/>
                  <a:pt x="242" y="553"/>
                </a:cubicBezTo>
                <a:cubicBezTo>
                  <a:pt x="226" y="567"/>
                  <a:pt x="197" y="599"/>
                  <a:pt x="197" y="599"/>
                </a:cubicBezTo>
                <a:cubicBezTo>
                  <a:pt x="206" y="707"/>
                  <a:pt x="221" y="747"/>
                  <a:pt x="310" y="811"/>
                </a:cubicBezTo>
                <a:cubicBezTo>
                  <a:pt x="337" y="830"/>
                  <a:pt x="366" y="846"/>
                  <a:pt x="394" y="864"/>
                </a:cubicBezTo>
                <a:cubicBezTo>
                  <a:pt x="402" y="869"/>
                  <a:pt x="417" y="879"/>
                  <a:pt x="417" y="879"/>
                </a:cubicBezTo>
                <a:cubicBezTo>
                  <a:pt x="424" y="889"/>
                  <a:pt x="430" y="901"/>
                  <a:pt x="439" y="909"/>
                </a:cubicBezTo>
                <a:cubicBezTo>
                  <a:pt x="448" y="917"/>
                  <a:pt x="462" y="917"/>
                  <a:pt x="470" y="925"/>
                </a:cubicBezTo>
                <a:cubicBezTo>
                  <a:pt x="478" y="933"/>
                  <a:pt x="478" y="946"/>
                  <a:pt x="485" y="955"/>
                </a:cubicBezTo>
                <a:cubicBezTo>
                  <a:pt x="493" y="965"/>
                  <a:pt x="505" y="970"/>
                  <a:pt x="515" y="978"/>
                </a:cubicBezTo>
                <a:cubicBezTo>
                  <a:pt x="526" y="1020"/>
                  <a:pt x="542" y="1009"/>
                  <a:pt x="553" y="1046"/>
                </a:cubicBezTo>
                <a:cubicBezTo>
                  <a:pt x="556" y="1056"/>
                  <a:pt x="552" y="1071"/>
                  <a:pt x="561" y="1076"/>
                </a:cubicBezTo>
                <a:cubicBezTo>
                  <a:pt x="579" y="1086"/>
                  <a:pt x="601" y="1081"/>
                  <a:pt x="621" y="1084"/>
                </a:cubicBezTo>
                <a:cubicBezTo>
                  <a:pt x="619" y="1094"/>
                  <a:pt x="620" y="1105"/>
                  <a:pt x="614" y="1114"/>
                </a:cubicBezTo>
                <a:cubicBezTo>
                  <a:pt x="595" y="1143"/>
                  <a:pt x="466" y="1149"/>
                  <a:pt x="439" y="1152"/>
                </a:cubicBezTo>
                <a:cubicBezTo>
                  <a:pt x="241" y="1145"/>
                  <a:pt x="221" y="1178"/>
                  <a:pt x="113" y="1076"/>
                </a:cubicBezTo>
                <a:cubicBezTo>
                  <a:pt x="89" y="1027"/>
                  <a:pt x="73" y="982"/>
                  <a:pt x="53" y="932"/>
                </a:cubicBezTo>
                <a:cubicBezTo>
                  <a:pt x="41" y="863"/>
                  <a:pt x="21" y="794"/>
                  <a:pt x="0" y="728"/>
                </a:cubicBezTo>
                <a:cubicBezTo>
                  <a:pt x="7" y="634"/>
                  <a:pt x="6" y="558"/>
                  <a:pt x="106" y="523"/>
                </a:cubicBezTo>
                <a:cubicBezTo>
                  <a:pt x="126" y="492"/>
                  <a:pt x="156" y="406"/>
                  <a:pt x="204" y="432"/>
                </a:cubicBez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Freeform 7"/>
          <p:cNvSpPr/>
          <p:nvPr/>
        </p:nvSpPr>
        <p:spPr>
          <a:xfrm>
            <a:off x="2333520" y="1973160"/>
            <a:ext cx="1492200" cy="1206720"/>
          </a:xfrm>
          <a:custGeom>
            <a:avLst/>
            <a:gdLst/>
            <a:ahLst/>
            <a:rect l="l" t="t" r="r" b="b"/>
            <a:pathLst>
              <a:path w="940" h="760">
                <a:moveTo>
                  <a:pt x="38" y="477"/>
                </a:moveTo>
                <a:cubicBezTo>
                  <a:pt x="18" y="444"/>
                  <a:pt x="12" y="421"/>
                  <a:pt x="0" y="386"/>
                </a:cubicBezTo>
                <a:cubicBezTo>
                  <a:pt x="7" y="324"/>
                  <a:pt x="1" y="285"/>
                  <a:pt x="53" y="250"/>
                </a:cubicBezTo>
                <a:cubicBezTo>
                  <a:pt x="103" y="107"/>
                  <a:pt x="473" y="168"/>
                  <a:pt x="493" y="167"/>
                </a:cubicBezTo>
                <a:cubicBezTo>
                  <a:pt x="540" y="143"/>
                  <a:pt x="585" y="120"/>
                  <a:pt x="622" y="83"/>
                </a:cubicBezTo>
                <a:cubicBezTo>
                  <a:pt x="636" y="39"/>
                  <a:pt x="664" y="20"/>
                  <a:pt x="705" y="0"/>
                </a:cubicBezTo>
                <a:cubicBezTo>
                  <a:pt x="765" y="6"/>
                  <a:pt x="799" y="5"/>
                  <a:pt x="849" y="30"/>
                </a:cubicBezTo>
                <a:cubicBezTo>
                  <a:pt x="860" y="62"/>
                  <a:pt x="876" y="88"/>
                  <a:pt x="887" y="121"/>
                </a:cubicBezTo>
                <a:cubicBezTo>
                  <a:pt x="890" y="131"/>
                  <a:pt x="903" y="136"/>
                  <a:pt x="910" y="144"/>
                </a:cubicBezTo>
                <a:cubicBezTo>
                  <a:pt x="922" y="159"/>
                  <a:pt x="931" y="180"/>
                  <a:pt x="940" y="197"/>
                </a:cubicBezTo>
                <a:cubicBezTo>
                  <a:pt x="935" y="217"/>
                  <a:pt x="932" y="238"/>
                  <a:pt x="925" y="258"/>
                </a:cubicBezTo>
                <a:cubicBezTo>
                  <a:pt x="913" y="292"/>
                  <a:pt x="842" y="359"/>
                  <a:pt x="804" y="371"/>
                </a:cubicBezTo>
                <a:cubicBezTo>
                  <a:pt x="789" y="381"/>
                  <a:pt x="773" y="392"/>
                  <a:pt x="758" y="402"/>
                </a:cubicBezTo>
                <a:cubicBezTo>
                  <a:pt x="750" y="407"/>
                  <a:pt x="735" y="417"/>
                  <a:pt x="735" y="417"/>
                </a:cubicBezTo>
                <a:cubicBezTo>
                  <a:pt x="732" y="421"/>
                  <a:pt x="702" y="461"/>
                  <a:pt x="698" y="470"/>
                </a:cubicBezTo>
                <a:cubicBezTo>
                  <a:pt x="686" y="498"/>
                  <a:pt x="697" y="501"/>
                  <a:pt x="675" y="523"/>
                </a:cubicBezTo>
                <a:cubicBezTo>
                  <a:pt x="607" y="591"/>
                  <a:pt x="400" y="588"/>
                  <a:pt x="334" y="591"/>
                </a:cubicBezTo>
                <a:cubicBezTo>
                  <a:pt x="286" y="639"/>
                  <a:pt x="251" y="714"/>
                  <a:pt x="182" y="735"/>
                </a:cubicBezTo>
                <a:cubicBezTo>
                  <a:pt x="144" y="760"/>
                  <a:pt x="139" y="758"/>
                  <a:pt x="91" y="750"/>
                </a:cubicBezTo>
                <a:cubicBezTo>
                  <a:pt x="65" y="732"/>
                  <a:pt x="56" y="727"/>
                  <a:pt x="46" y="697"/>
                </a:cubicBezTo>
                <a:cubicBezTo>
                  <a:pt x="41" y="682"/>
                  <a:pt x="31" y="652"/>
                  <a:pt x="31" y="652"/>
                </a:cubicBezTo>
                <a:cubicBezTo>
                  <a:pt x="37" y="614"/>
                  <a:pt x="36" y="595"/>
                  <a:pt x="61" y="568"/>
                </a:cubicBezTo>
                <a:cubicBezTo>
                  <a:pt x="72" y="537"/>
                  <a:pt x="70" y="526"/>
                  <a:pt x="38" y="515"/>
                </a:cubicBezTo>
                <a:cubicBezTo>
                  <a:pt x="29" y="487"/>
                  <a:pt x="28" y="500"/>
                  <a:pt x="38" y="477"/>
                </a:cubicBez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Freeform 8"/>
          <p:cNvSpPr/>
          <p:nvPr/>
        </p:nvSpPr>
        <p:spPr>
          <a:xfrm>
            <a:off x="380880" y="1981080"/>
            <a:ext cx="1525680" cy="2136960"/>
          </a:xfrm>
          <a:custGeom>
            <a:avLst/>
            <a:gdLst/>
            <a:ahLst/>
            <a:rect l="l" t="t" r="r" b="b"/>
            <a:pathLst>
              <a:path w="961" h="1346">
                <a:moveTo>
                  <a:pt x="279" y="1334"/>
                </a:moveTo>
                <a:cubicBezTo>
                  <a:pt x="198" y="1319"/>
                  <a:pt x="159" y="1244"/>
                  <a:pt x="97" y="1198"/>
                </a:cubicBezTo>
                <a:cubicBezTo>
                  <a:pt x="80" y="1150"/>
                  <a:pt x="64" y="1104"/>
                  <a:pt x="51" y="1054"/>
                </a:cubicBezTo>
                <a:cubicBezTo>
                  <a:pt x="60" y="786"/>
                  <a:pt x="0" y="824"/>
                  <a:pt x="180" y="766"/>
                </a:cubicBezTo>
                <a:cubicBezTo>
                  <a:pt x="197" y="679"/>
                  <a:pt x="192" y="670"/>
                  <a:pt x="248" y="584"/>
                </a:cubicBezTo>
                <a:cubicBezTo>
                  <a:pt x="336" y="449"/>
                  <a:pt x="423" y="312"/>
                  <a:pt x="506" y="175"/>
                </a:cubicBezTo>
                <a:cubicBezTo>
                  <a:pt x="525" y="144"/>
                  <a:pt x="551" y="88"/>
                  <a:pt x="574" y="61"/>
                </a:cubicBezTo>
                <a:cubicBezTo>
                  <a:pt x="614" y="13"/>
                  <a:pt x="668" y="7"/>
                  <a:pt x="726" y="0"/>
                </a:cubicBezTo>
                <a:cubicBezTo>
                  <a:pt x="770" y="9"/>
                  <a:pt x="821" y="37"/>
                  <a:pt x="855" y="68"/>
                </a:cubicBezTo>
                <a:cubicBezTo>
                  <a:pt x="871" y="82"/>
                  <a:pt x="885" y="99"/>
                  <a:pt x="900" y="114"/>
                </a:cubicBezTo>
                <a:cubicBezTo>
                  <a:pt x="908" y="122"/>
                  <a:pt x="923" y="137"/>
                  <a:pt x="923" y="137"/>
                </a:cubicBezTo>
                <a:cubicBezTo>
                  <a:pt x="941" y="182"/>
                  <a:pt x="949" y="227"/>
                  <a:pt x="961" y="273"/>
                </a:cubicBezTo>
                <a:cubicBezTo>
                  <a:pt x="958" y="437"/>
                  <a:pt x="958" y="602"/>
                  <a:pt x="953" y="766"/>
                </a:cubicBezTo>
                <a:cubicBezTo>
                  <a:pt x="952" y="806"/>
                  <a:pt x="945" y="854"/>
                  <a:pt x="923" y="887"/>
                </a:cubicBezTo>
                <a:cubicBezTo>
                  <a:pt x="907" y="962"/>
                  <a:pt x="856" y="1012"/>
                  <a:pt x="817" y="1076"/>
                </a:cubicBezTo>
                <a:cubicBezTo>
                  <a:pt x="805" y="1096"/>
                  <a:pt x="801" y="1119"/>
                  <a:pt x="786" y="1137"/>
                </a:cubicBezTo>
                <a:cubicBezTo>
                  <a:pt x="753" y="1177"/>
                  <a:pt x="678" y="1200"/>
                  <a:pt x="635" y="1228"/>
                </a:cubicBezTo>
                <a:cubicBezTo>
                  <a:pt x="605" y="1248"/>
                  <a:pt x="575" y="1280"/>
                  <a:pt x="544" y="1296"/>
                </a:cubicBezTo>
                <a:cubicBezTo>
                  <a:pt x="488" y="1324"/>
                  <a:pt x="393" y="1323"/>
                  <a:pt x="339" y="1327"/>
                </a:cubicBezTo>
                <a:cubicBezTo>
                  <a:pt x="315" y="1334"/>
                  <a:pt x="301" y="1346"/>
                  <a:pt x="279" y="1334"/>
                </a:cubicBez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Freeform 9"/>
          <p:cNvSpPr/>
          <p:nvPr/>
        </p:nvSpPr>
        <p:spPr>
          <a:xfrm>
            <a:off x="4921200" y="2262240"/>
            <a:ext cx="1408320" cy="1685880"/>
          </a:xfrm>
          <a:custGeom>
            <a:avLst/>
            <a:gdLst/>
            <a:ahLst/>
            <a:rect l="l" t="t" r="r" b="b"/>
            <a:pathLst>
              <a:path w="887" h="1062">
                <a:moveTo>
                  <a:pt x="318" y="439"/>
                </a:moveTo>
                <a:cubicBezTo>
                  <a:pt x="294" y="416"/>
                  <a:pt x="283" y="402"/>
                  <a:pt x="273" y="371"/>
                </a:cubicBezTo>
                <a:cubicBezTo>
                  <a:pt x="268" y="356"/>
                  <a:pt x="257" y="326"/>
                  <a:pt x="257" y="326"/>
                </a:cubicBezTo>
                <a:cubicBezTo>
                  <a:pt x="262" y="296"/>
                  <a:pt x="265" y="265"/>
                  <a:pt x="273" y="235"/>
                </a:cubicBezTo>
                <a:cubicBezTo>
                  <a:pt x="286" y="188"/>
                  <a:pt x="383" y="165"/>
                  <a:pt x="417" y="151"/>
                </a:cubicBezTo>
                <a:cubicBezTo>
                  <a:pt x="454" y="114"/>
                  <a:pt x="490" y="45"/>
                  <a:pt x="538" y="23"/>
                </a:cubicBezTo>
                <a:cubicBezTo>
                  <a:pt x="566" y="10"/>
                  <a:pt x="599" y="6"/>
                  <a:pt x="629" y="0"/>
                </a:cubicBezTo>
                <a:cubicBezTo>
                  <a:pt x="674" y="2"/>
                  <a:pt x="720" y="0"/>
                  <a:pt x="765" y="7"/>
                </a:cubicBezTo>
                <a:cubicBezTo>
                  <a:pt x="765" y="7"/>
                  <a:pt x="843" y="77"/>
                  <a:pt x="849" y="83"/>
                </a:cubicBezTo>
                <a:cubicBezTo>
                  <a:pt x="887" y="207"/>
                  <a:pt x="871" y="318"/>
                  <a:pt x="818" y="424"/>
                </a:cubicBezTo>
                <a:cubicBezTo>
                  <a:pt x="804" y="488"/>
                  <a:pt x="824" y="425"/>
                  <a:pt x="788" y="477"/>
                </a:cubicBezTo>
                <a:cubicBezTo>
                  <a:pt x="768" y="506"/>
                  <a:pt x="755" y="546"/>
                  <a:pt x="735" y="576"/>
                </a:cubicBezTo>
                <a:cubicBezTo>
                  <a:pt x="724" y="593"/>
                  <a:pt x="703" y="600"/>
                  <a:pt x="689" y="614"/>
                </a:cubicBezTo>
                <a:cubicBezTo>
                  <a:pt x="655" y="717"/>
                  <a:pt x="723" y="895"/>
                  <a:pt x="599" y="924"/>
                </a:cubicBezTo>
                <a:cubicBezTo>
                  <a:pt x="570" y="953"/>
                  <a:pt x="556" y="954"/>
                  <a:pt x="515" y="962"/>
                </a:cubicBezTo>
                <a:cubicBezTo>
                  <a:pt x="491" y="987"/>
                  <a:pt x="447" y="1000"/>
                  <a:pt x="417" y="1015"/>
                </a:cubicBezTo>
                <a:cubicBezTo>
                  <a:pt x="379" y="1034"/>
                  <a:pt x="352" y="1052"/>
                  <a:pt x="311" y="1061"/>
                </a:cubicBezTo>
                <a:cubicBezTo>
                  <a:pt x="265" y="1057"/>
                  <a:pt x="217" y="1062"/>
                  <a:pt x="174" y="1046"/>
                </a:cubicBezTo>
                <a:cubicBezTo>
                  <a:pt x="91" y="1016"/>
                  <a:pt x="66" y="935"/>
                  <a:pt x="30" y="864"/>
                </a:cubicBezTo>
                <a:cubicBezTo>
                  <a:pt x="22" y="828"/>
                  <a:pt x="11" y="793"/>
                  <a:pt x="0" y="758"/>
                </a:cubicBezTo>
                <a:cubicBezTo>
                  <a:pt x="7" y="720"/>
                  <a:pt x="13" y="693"/>
                  <a:pt x="30" y="659"/>
                </a:cubicBezTo>
                <a:cubicBezTo>
                  <a:pt x="38" y="643"/>
                  <a:pt x="35" y="621"/>
                  <a:pt x="45" y="606"/>
                </a:cubicBezTo>
                <a:cubicBezTo>
                  <a:pt x="50" y="598"/>
                  <a:pt x="60" y="596"/>
                  <a:pt x="68" y="591"/>
                </a:cubicBezTo>
                <a:cubicBezTo>
                  <a:pt x="85" y="597"/>
                  <a:pt x="105" y="597"/>
                  <a:pt x="121" y="606"/>
                </a:cubicBezTo>
                <a:cubicBezTo>
                  <a:pt x="130" y="611"/>
                  <a:pt x="136" y="622"/>
                  <a:pt x="144" y="629"/>
                </a:cubicBezTo>
                <a:cubicBezTo>
                  <a:pt x="182" y="660"/>
                  <a:pt x="222" y="686"/>
                  <a:pt x="250" y="727"/>
                </a:cubicBezTo>
                <a:cubicBezTo>
                  <a:pt x="252" y="735"/>
                  <a:pt x="257" y="750"/>
                  <a:pt x="257" y="75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Freeform 10"/>
          <p:cNvSpPr/>
          <p:nvPr/>
        </p:nvSpPr>
        <p:spPr>
          <a:xfrm>
            <a:off x="5334120" y="4495680"/>
            <a:ext cx="1447560" cy="1917720"/>
          </a:xfrm>
          <a:custGeom>
            <a:avLst/>
            <a:gdLst/>
            <a:ahLst/>
            <a:rect l="l" t="t" r="r" b="b"/>
            <a:pathLst>
              <a:path w="912" h="1208">
                <a:moveTo>
                  <a:pt x="384" y="480"/>
                </a:moveTo>
                <a:cubicBezTo>
                  <a:pt x="600" y="240"/>
                  <a:pt x="816" y="0"/>
                  <a:pt x="864" y="96"/>
                </a:cubicBezTo>
                <a:cubicBezTo>
                  <a:pt x="912" y="192"/>
                  <a:pt x="760" y="904"/>
                  <a:pt x="672" y="1056"/>
                </a:cubicBezTo>
                <a:cubicBezTo>
                  <a:pt x="584" y="1208"/>
                  <a:pt x="424" y="1088"/>
                  <a:pt x="336" y="1008"/>
                </a:cubicBezTo>
                <a:cubicBezTo>
                  <a:pt x="248" y="928"/>
                  <a:pt x="200" y="632"/>
                  <a:pt x="144" y="576"/>
                </a:cubicBezTo>
                <a:cubicBezTo>
                  <a:pt x="88" y="520"/>
                  <a:pt x="44" y="596"/>
                  <a:pt x="0" y="6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Freeform 11"/>
          <p:cNvSpPr/>
          <p:nvPr/>
        </p:nvSpPr>
        <p:spPr>
          <a:xfrm>
            <a:off x="6786720" y="2557440"/>
            <a:ext cx="1645920" cy="1924200"/>
          </a:xfrm>
          <a:custGeom>
            <a:avLst/>
            <a:gdLst/>
            <a:ahLst/>
            <a:rect l="l" t="t" r="r" b="b"/>
            <a:pathLst>
              <a:path w="1037" h="1212">
                <a:moveTo>
                  <a:pt x="212" y="678"/>
                </a:moveTo>
                <a:cubicBezTo>
                  <a:pt x="161" y="612"/>
                  <a:pt x="99" y="557"/>
                  <a:pt x="53" y="488"/>
                </a:cubicBezTo>
                <a:cubicBezTo>
                  <a:pt x="37" y="465"/>
                  <a:pt x="25" y="431"/>
                  <a:pt x="15" y="405"/>
                </a:cubicBezTo>
                <a:cubicBezTo>
                  <a:pt x="9" y="390"/>
                  <a:pt x="0" y="360"/>
                  <a:pt x="0" y="360"/>
                </a:cubicBezTo>
                <a:cubicBezTo>
                  <a:pt x="47" y="228"/>
                  <a:pt x="85" y="211"/>
                  <a:pt x="212" y="155"/>
                </a:cubicBezTo>
                <a:cubicBezTo>
                  <a:pt x="250" y="97"/>
                  <a:pt x="407" y="45"/>
                  <a:pt x="462" y="26"/>
                </a:cubicBezTo>
                <a:cubicBezTo>
                  <a:pt x="485" y="18"/>
                  <a:pt x="530" y="3"/>
                  <a:pt x="530" y="3"/>
                </a:cubicBezTo>
                <a:cubicBezTo>
                  <a:pt x="558" y="6"/>
                  <a:pt x="587" y="0"/>
                  <a:pt x="613" y="11"/>
                </a:cubicBezTo>
                <a:cubicBezTo>
                  <a:pt x="648" y="25"/>
                  <a:pt x="668" y="63"/>
                  <a:pt x="697" y="87"/>
                </a:cubicBezTo>
                <a:cubicBezTo>
                  <a:pt x="734" y="217"/>
                  <a:pt x="765" y="323"/>
                  <a:pt x="841" y="435"/>
                </a:cubicBezTo>
                <a:cubicBezTo>
                  <a:pt x="865" y="507"/>
                  <a:pt x="898" y="572"/>
                  <a:pt x="932" y="640"/>
                </a:cubicBezTo>
                <a:cubicBezTo>
                  <a:pt x="939" y="670"/>
                  <a:pt x="941" y="703"/>
                  <a:pt x="954" y="731"/>
                </a:cubicBezTo>
                <a:cubicBezTo>
                  <a:pt x="974" y="772"/>
                  <a:pt x="1015" y="802"/>
                  <a:pt x="1030" y="845"/>
                </a:cubicBezTo>
                <a:cubicBezTo>
                  <a:pt x="1037" y="866"/>
                  <a:pt x="1021" y="949"/>
                  <a:pt x="1015" y="981"/>
                </a:cubicBezTo>
                <a:cubicBezTo>
                  <a:pt x="1011" y="1033"/>
                  <a:pt x="1027" y="1192"/>
                  <a:pt x="939" y="1208"/>
                </a:cubicBezTo>
                <a:cubicBezTo>
                  <a:pt x="919" y="1212"/>
                  <a:pt x="899" y="1208"/>
                  <a:pt x="879" y="1208"/>
                </a:cubicBezTo>
                <a:cubicBezTo>
                  <a:pt x="660" y="1131"/>
                  <a:pt x="133" y="1133"/>
                  <a:pt x="242" y="928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3"/>
          <p:cNvSpPr/>
          <p:nvPr/>
        </p:nvSpPr>
        <p:spPr>
          <a:xfrm>
            <a:off x="4572000" y="152388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Freeform 4"/>
          <p:cNvSpPr/>
          <p:nvPr/>
        </p:nvSpPr>
        <p:spPr>
          <a:xfrm>
            <a:off x="2895480" y="3124080"/>
            <a:ext cx="1311480" cy="1870200"/>
          </a:xfrm>
          <a:custGeom>
            <a:avLst/>
            <a:gdLst/>
            <a:ahLst/>
            <a:rect l="l" t="t" r="r" b="b"/>
            <a:pathLst>
              <a:path w="826" h="1178">
                <a:moveTo>
                  <a:pt x="204" y="432"/>
                </a:moveTo>
                <a:cubicBezTo>
                  <a:pt x="213" y="361"/>
                  <a:pt x="240" y="320"/>
                  <a:pt x="273" y="258"/>
                </a:cubicBezTo>
                <a:cubicBezTo>
                  <a:pt x="300" y="207"/>
                  <a:pt x="348" y="80"/>
                  <a:pt x="409" y="53"/>
                </a:cubicBezTo>
                <a:cubicBezTo>
                  <a:pt x="464" y="29"/>
                  <a:pt x="517" y="12"/>
                  <a:pt x="576" y="0"/>
                </a:cubicBezTo>
                <a:cubicBezTo>
                  <a:pt x="670" y="7"/>
                  <a:pt x="704" y="0"/>
                  <a:pt x="765" y="61"/>
                </a:cubicBezTo>
                <a:cubicBezTo>
                  <a:pt x="774" y="88"/>
                  <a:pt x="775" y="118"/>
                  <a:pt x="788" y="144"/>
                </a:cubicBezTo>
                <a:cubicBezTo>
                  <a:pt x="797" y="162"/>
                  <a:pt x="815" y="173"/>
                  <a:pt x="826" y="189"/>
                </a:cubicBezTo>
                <a:cubicBezTo>
                  <a:pt x="818" y="219"/>
                  <a:pt x="815" y="251"/>
                  <a:pt x="803" y="280"/>
                </a:cubicBezTo>
                <a:cubicBezTo>
                  <a:pt x="781" y="332"/>
                  <a:pt x="691" y="358"/>
                  <a:pt x="652" y="379"/>
                </a:cubicBezTo>
                <a:cubicBezTo>
                  <a:pt x="527" y="447"/>
                  <a:pt x="442" y="493"/>
                  <a:pt x="303" y="508"/>
                </a:cubicBezTo>
                <a:cubicBezTo>
                  <a:pt x="279" y="524"/>
                  <a:pt x="266" y="531"/>
                  <a:pt x="242" y="553"/>
                </a:cubicBezTo>
                <a:cubicBezTo>
                  <a:pt x="226" y="567"/>
                  <a:pt x="197" y="599"/>
                  <a:pt x="197" y="599"/>
                </a:cubicBezTo>
                <a:cubicBezTo>
                  <a:pt x="206" y="707"/>
                  <a:pt x="221" y="747"/>
                  <a:pt x="310" y="811"/>
                </a:cubicBezTo>
                <a:cubicBezTo>
                  <a:pt x="337" y="830"/>
                  <a:pt x="366" y="846"/>
                  <a:pt x="394" y="864"/>
                </a:cubicBezTo>
                <a:cubicBezTo>
                  <a:pt x="402" y="869"/>
                  <a:pt x="417" y="879"/>
                  <a:pt x="417" y="879"/>
                </a:cubicBezTo>
                <a:cubicBezTo>
                  <a:pt x="424" y="889"/>
                  <a:pt x="430" y="901"/>
                  <a:pt x="439" y="909"/>
                </a:cubicBezTo>
                <a:cubicBezTo>
                  <a:pt x="448" y="917"/>
                  <a:pt x="462" y="917"/>
                  <a:pt x="470" y="925"/>
                </a:cubicBezTo>
                <a:cubicBezTo>
                  <a:pt x="478" y="933"/>
                  <a:pt x="478" y="946"/>
                  <a:pt x="485" y="955"/>
                </a:cubicBezTo>
                <a:cubicBezTo>
                  <a:pt x="493" y="965"/>
                  <a:pt x="505" y="970"/>
                  <a:pt x="515" y="978"/>
                </a:cubicBezTo>
                <a:cubicBezTo>
                  <a:pt x="526" y="1020"/>
                  <a:pt x="542" y="1009"/>
                  <a:pt x="553" y="1046"/>
                </a:cubicBezTo>
                <a:cubicBezTo>
                  <a:pt x="556" y="1056"/>
                  <a:pt x="552" y="1071"/>
                  <a:pt x="561" y="1076"/>
                </a:cubicBezTo>
                <a:cubicBezTo>
                  <a:pt x="579" y="1086"/>
                  <a:pt x="601" y="1081"/>
                  <a:pt x="621" y="1084"/>
                </a:cubicBezTo>
                <a:cubicBezTo>
                  <a:pt x="619" y="1094"/>
                  <a:pt x="620" y="1105"/>
                  <a:pt x="614" y="1114"/>
                </a:cubicBezTo>
                <a:cubicBezTo>
                  <a:pt x="595" y="1143"/>
                  <a:pt x="466" y="1149"/>
                  <a:pt x="439" y="1152"/>
                </a:cubicBezTo>
                <a:cubicBezTo>
                  <a:pt x="241" y="1145"/>
                  <a:pt x="221" y="1178"/>
                  <a:pt x="113" y="1076"/>
                </a:cubicBezTo>
                <a:cubicBezTo>
                  <a:pt x="89" y="1027"/>
                  <a:pt x="73" y="982"/>
                  <a:pt x="53" y="932"/>
                </a:cubicBezTo>
                <a:cubicBezTo>
                  <a:pt x="41" y="863"/>
                  <a:pt x="21" y="794"/>
                  <a:pt x="0" y="728"/>
                </a:cubicBezTo>
                <a:cubicBezTo>
                  <a:pt x="7" y="634"/>
                  <a:pt x="6" y="558"/>
                  <a:pt x="106" y="523"/>
                </a:cubicBezTo>
                <a:cubicBezTo>
                  <a:pt x="126" y="492"/>
                  <a:pt x="156" y="406"/>
                  <a:pt x="204" y="432"/>
                </a:cubicBez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Freeform 5"/>
          <p:cNvSpPr/>
          <p:nvPr/>
        </p:nvSpPr>
        <p:spPr>
          <a:xfrm>
            <a:off x="2333520" y="1973160"/>
            <a:ext cx="1492200" cy="1206720"/>
          </a:xfrm>
          <a:custGeom>
            <a:avLst/>
            <a:gdLst/>
            <a:ahLst/>
            <a:rect l="l" t="t" r="r" b="b"/>
            <a:pathLst>
              <a:path w="940" h="760">
                <a:moveTo>
                  <a:pt x="38" y="477"/>
                </a:moveTo>
                <a:cubicBezTo>
                  <a:pt x="18" y="444"/>
                  <a:pt x="12" y="421"/>
                  <a:pt x="0" y="386"/>
                </a:cubicBezTo>
                <a:cubicBezTo>
                  <a:pt x="7" y="324"/>
                  <a:pt x="1" y="285"/>
                  <a:pt x="53" y="250"/>
                </a:cubicBezTo>
                <a:cubicBezTo>
                  <a:pt x="103" y="107"/>
                  <a:pt x="473" y="168"/>
                  <a:pt x="493" y="167"/>
                </a:cubicBezTo>
                <a:cubicBezTo>
                  <a:pt x="540" y="143"/>
                  <a:pt x="585" y="120"/>
                  <a:pt x="622" y="83"/>
                </a:cubicBezTo>
                <a:cubicBezTo>
                  <a:pt x="636" y="39"/>
                  <a:pt x="664" y="20"/>
                  <a:pt x="705" y="0"/>
                </a:cubicBezTo>
                <a:cubicBezTo>
                  <a:pt x="765" y="6"/>
                  <a:pt x="799" y="5"/>
                  <a:pt x="849" y="30"/>
                </a:cubicBezTo>
                <a:cubicBezTo>
                  <a:pt x="860" y="62"/>
                  <a:pt x="876" y="88"/>
                  <a:pt x="887" y="121"/>
                </a:cubicBezTo>
                <a:cubicBezTo>
                  <a:pt x="890" y="131"/>
                  <a:pt x="903" y="136"/>
                  <a:pt x="910" y="144"/>
                </a:cubicBezTo>
                <a:cubicBezTo>
                  <a:pt x="922" y="159"/>
                  <a:pt x="931" y="180"/>
                  <a:pt x="940" y="197"/>
                </a:cubicBezTo>
                <a:cubicBezTo>
                  <a:pt x="935" y="217"/>
                  <a:pt x="932" y="238"/>
                  <a:pt x="925" y="258"/>
                </a:cubicBezTo>
                <a:cubicBezTo>
                  <a:pt x="913" y="292"/>
                  <a:pt x="842" y="359"/>
                  <a:pt x="804" y="371"/>
                </a:cubicBezTo>
                <a:cubicBezTo>
                  <a:pt x="789" y="381"/>
                  <a:pt x="773" y="392"/>
                  <a:pt x="758" y="402"/>
                </a:cubicBezTo>
                <a:cubicBezTo>
                  <a:pt x="750" y="407"/>
                  <a:pt x="735" y="417"/>
                  <a:pt x="735" y="417"/>
                </a:cubicBezTo>
                <a:cubicBezTo>
                  <a:pt x="732" y="421"/>
                  <a:pt x="702" y="461"/>
                  <a:pt x="698" y="470"/>
                </a:cubicBezTo>
                <a:cubicBezTo>
                  <a:pt x="686" y="498"/>
                  <a:pt x="697" y="501"/>
                  <a:pt x="675" y="523"/>
                </a:cubicBezTo>
                <a:cubicBezTo>
                  <a:pt x="607" y="591"/>
                  <a:pt x="400" y="588"/>
                  <a:pt x="334" y="591"/>
                </a:cubicBezTo>
                <a:cubicBezTo>
                  <a:pt x="286" y="639"/>
                  <a:pt x="251" y="714"/>
                  <a:pt x="182" y="735"/>
                </a:cubicBezTo>
                <a:cubicBezTo>
                  <a:pt x="144" y="760"/>
                  <a:pt x="139" y="758"/>
                  <a:pt x="91" y="750"/>
                </a:cubicBezTo>
                <a:cubicBezTo>
                  <a:pt x="65" y="732"/>
                  <a:pt x="56" y="727"/>
                  <a:pt x="46" y="697"/>
                </a:cubicBezTo>
                <a:cubicBezTo>
                  <a:pt x="41" y="682"/>
                  <a:pt x="31" y="652"/>
                  <a:pt x="31" y="652"/>
                </a:cubicBezTo>
                <a:cubicBezTo>
                  <a:pt x="37" y="614"/>
                  <a:pt x="36" y="595"/>
                  <a:pt x="61" y="568"/>
                </a:cubicBezTo>
                <a:cubicBezTo>
                  <a:pt x="72" y="537"/>
                  <a:pt x="70" y="526"/>
                  <a:pt x="38" y="515"/>
                </a:cubicBezTo>
                <a:cubicBezTo>
                  <a:pt x="29" y="487"/>
                  <a:pt x="28" y="500"/>
                  <a:pt x="38" y="477"/>
                </a:cubicBez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Freeform 6"/>
          <p:cNvSpPr/>
          <p:nvPr/>
        </p:nvSpPr>
        <p:spPr>
          <a:xfrm>
            <a:off x="380880" y="1981080"/>
            <a:ext cx="1525680" cy="2136960"/>
          </a:xfrm>
          <a:custGeom>
            <a:avLst/>
            <a:gdLst/>
            <a:ahLst/>
            <a:rect l="l" t="t" r="r" b="b"/>
            <a:pathLst>
              <a:path w="961" h="1346">
                <a:moveTo>
                  <a:pt x="279" y="1334"/>
                </a:moveTo>
                <a:cubicBezTo>
                  <a:pt x="198" y="1319"/>
                  <a:pt x="159" y="1244"/>
                  <a:pt x="97" y="1198"/>
                </a:cubicBezTo>
                <a:cubicBezTo>
                  <a:pt x="80" y="1150"/>
                  <a:pt x="64" y="1104"/>
                  <a:pt x="51" y="1054"/>
                </a:cubicBezTo>
                <a:cubicBezTo>
                  <a:pt x="60" y="786"/>
                  <a:pt x="0" y="824"/>
                  <a:pt x="180" y="766"/>
                </a:cubicBezTo>
                <a:cubicBezTo>
                  <a:pt x="197" y="679"/>
                  <a:pt x="192" y="670"/>
                  <a:pt x="248" y="584"/>
                </a:cubicBezTo>
                <a:cubicBezTo>
                  <a:pt x="336" y="449"/>
                  <a:pt x="423" y="312"/>
                  <a:pt x="506" y="175"/>
                </a:cubicBezTo>
                <a:cubicBezTo>
                  <a:pt x="525" y="144"/>
                  <a:pt x="551" y="88"/>
                  <a:pt x="574" y="61"/>
                </a:cubicBezTo>
                <a:cubicBezTo>
                  <a:pt x="614" y="13"/>
                  <a:pt x="668" y="7"/>
                  <a:pt x="726" y="0"/>
                </a:cubicBezTo>
                <a:cubicBezTo>
                  <a:pt x="770" y="9"/>
                  <a:pt x="821" y="37"/>
                  <a:pt x="855" y="68"/>
                </a:cubicBezTo>
                <a:cubicBezTo>
                  <a:pt x="871" y="82"/>
                  <a:pt x="885" y="99"/>
                  <a:pt x="900" y="114"/>
                </a:cubicBezTo>
                <a:cubicBezTo>
                  <a:pt x="908" y="122"/>
                  <a:pt x="923" y="137"/>
                  <a:pt x="923" y="137"/>
                </a:cubicBezTo>
                <a:cubicBezTo>
                  <a:pt x="941" y="182"/>
                  <a:pt x="949" y="227"/>
                  <a:pt x="961" y="273"/>
                </a:cubicBezTo>
                <a:cubicBezTo>
                  <a:pt x="958" y="437"/>
                  <a:pt x="958" y="602"/>
                  <a:pt x="953" y="766"/>
                </a:cubicBezTo>
                <a:cubicBezTo>
                  <a:pt x="952" y="806"/>
                  <a:pt x="945" y="854"/>
                  <a:pt x="923" y="887"/>
                </a:cubicBezTo>
                <a:cubicBezTo>
                  <a:pt x="907" y="962"/>
                  <a:pt x="856" y="1012"/>
                  <a:pt x="817" y="1076"/>
                </a:cubicBezTo>
                <a:cubicBezTo>
                  <a:pt x="805" y="1096"/>
                  <a:pt x="801" y="1119"/>
                  <a:pt x="786" y="1137"/>
                </a:cubicBezTo>
                <a:cubicBezTo>
                  <a:pt x="753" y="1177"/>
                  <a:pt x="678" y="1200"/>
                  <a:pt x="635" y="1228"/>
                </a:cubicBezTo>
                <a:cubicBezTo>
                  <a:pt x="605" y="1248"/>
                  <a:pt x="575" y="1280"/>
                  <a:pt x="544" y="1296"/>
                </a:cubicBezTo>
                <a:cubicBezTo>
                  <a:pt x="488" y="1324"/>
                  <a:pt x="393" y="1323"/>
                  <a:pt x="339" y="1327"/>
                </a:cubicBezTo>
                <a:cubicBezTo>
                  <a:pt x="315" y="1334"/>
                  <a:pt x="301" y="1346"/>
                  <a:pt x="279" y="1334"/>
                </a:cubicBez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4876920" y="1676520"/>
            <a:ext cx="1407960" cy="1685880"/>
          </a:xfrm>
          <a:custGeom>
            <a:avLst/>
            <a:gdLst/>
            <a:ahLst/>
            <a:rect l="l" t="t" r="r" b="b"/>
            <a:pathLst>
              <a:path w="887" h="1062">
                <a:moveTo>
                  <a:pt x="318" y="439"/>
                </a:moveTo>
                <a:cubicBezTo>
                  <a:pt x="294" y="416"/>
                  <a:pt x="283" y="402"/>
                  <a:pt x="273" y="371"/>
                </a:cubicBezTo>
                <a:cubicBezTo>
                  <a:pt x="268" y="356"/>
                  <a:pt x="257" y="326"/>
                  <a:pt x="257" y="326"/>
                </a:cubicBezTo>
                <a:cubicBezTo>
                  <a:pt x="262" y="296"/>
                  <a:pt x="265" y="265"/>
                  <a:pt x="273" y="235"/>
                </a:cubicBezTo>
                <a:cubicBezTo>
                  <a:pt x="286" y="188"/>
                  <a:pt x="383" y="165"/>
                  <a:pt x="417" y="151"/>
                </a:cubicBezTo>
                <a:cubicBezTo>
                  <a:pt x="454" y="114"/>
                  <a:pt x="490" y="45"/>
                  <a:pt x="538" y="23"/>
                </a:cubicBezTo>
                <a:cubicBezTo>
                  <a:pt x="566" y="10"/>
                  <a:pt x="599" y="6"/>
                  <a:pt x="629" y="0"/>
                </a:cubicBezTo>
                <a:cubicBezTo>
                  <a:pt x="674" y="2"/>
                  <a:pt x="720" y="0"/>
                  <a:pt x="765" y="7"/>
                </a:cubicBezTo>
                <a:cubicBezTo>
                  <a:pt x="765" y="7"/>
                  <a:pt x="843" y="77"/>
                  <a:pt x="849" y="83"/>
                </a:cubicBezTo>
                <a:cubicBezTo>
                  <a:pt x="887" y="207"/>
                  <a:pt x="871" y="318"/>
                  <a:pt x="818" y="424"/>
                </a:cubicBezTo>
                <a:cubicBezTo>
                  <a:pt x="804" y="488"/>
                  <a:pt x="824" y="425"/>
                  <a:pt x="788" y="477"/>
                </a:cubicBezTo>
                <a:cubicBezTo>
                  <a:pt x="768" y="506"/>
                  <a:pt x="755" y="546"/>
                  <a:pt x="735" y="576"/>
                </a:cubicBezTo>
                <a:cubicBezTo>
                  <a:pt x="724" y="593"/>
                  <a:pt x="703" y="600"/>
                  <a:pt x="689" y="614"/>
                </a:cubicBezTo>
                <a:cubicBezTo>
                  <a:pt x="655" y="717"/>
                  <a:pt x="723" y="895"/>
                  <a:pt x="599" y="924"/>
                </a:cubicBezTo>
                <a:cubicBezTo>
                  <a:pt x="570" y="953"/>
                  <a:pt x="556" y="954"/>
                  <a:pt x="515" y="962"/>
                </a:cubicBezTo>
                <a:cubicBezTo>
                  <a:pt x="491" y="987"/>
                  <a:pt x="447" y="1000"/>
                  <a:pt x="417" y="1015"/>
                </a:cubicBezTo>
                <a:cubicBezTo>
                  <a:pt x="379" y="1034"/>
                  <a:pt x="352" y="1052"/>
                  <a:pt x="311" y="1061"/>
                </a:cubicBezTo>
                <a:cubicBezTo>
                  <a:pt x="265" y="1057"/>
                  <a:pt x="217" y="1062"/>
                  <a:pt x="174" y="1046"/>
                </a:cubicBezTo>
                <a:cubicBezTo>
                  <a:pt x="91" y="1016"/>
                  <a:pt x="66" y="935"/>
                  <a:pt x="30" y="864"/>
                </a:cubicBezTo>
                <a:cubicBezTo>
                  <a:pt x="22" y="828"/>
                  <a:pt x="11" y="793"/>
                  <a:pt x="0" y="758"/>
                </a:cubicBezTo>
                <a:cubicBezTo>
                  <a:pt x="7" y="720"/>
                  <a:pt x="13" y="693"/>
                  <a:pt x="30" y="659"/>
                </a:cubicBezTo>
                <a:cubicBezTo>
                  <a:pt x="38" y="643"/>
                  <a:pt x="35" y="621"/>
                  <a:pt x="45" y="606"/>
                </a:cubicBezTo>
                <a:cubicBezTo>
                  <a:pt x="50" y="598"/>
                  <a:pt x="60" y="596"/>
                  <a:pt x="68" y="591"/>
                </a:cubicBezTo>
                <a:cubicBezTo>
                  <a:pt x="85" y="597"/>
                  <a:pt x="105" y="597"/>
                  <a:pt x="121" y="606"/>
                </a:cubicBezTo>
                <a:cubicBezTo>
                  <a:pt x="130" y="611"/>
                  <a:pt x="136" y="622"/>
                  <a:pt x="144" y="629"/>
                </a:cubicBezTo>
                <a:cubicBezTo>
                  <a:pt x="182" y="660"/>
                  <a:pt x="222" y="686"/>
                  <a:pt x="250" y="727"/>
                </a:cubicBezTo>
                <a:cubicBezTo>
                  <a:pt x="252" y="735"/>
                  <a:pt x="257" y="750"/>
                  <a:pt x="257" y="75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Freeform 8"/>
          <p:cNvSpPr/>
          <p:nvPr/>
        </p:nvSpPr>
        <p:spPr>
          <a:xfrm>
            <a:off x="5562720" y="3276720"/>
            <a:ext cx="1447560" cy="1917720"/>
          </a:xfrm>
          <a:custGeom>
            <a:avLst/>
            <a:gdLst/>
            <a:ahLst/>
            <a:rect l="l" t="t" r="r" b="b"/>
            <a:pathLst>
              <a:path w="912" h="1208">
                <a:moveTo>
                  <a:pt x="384" y="480"/>
                </a:moveTo>
                <a:cubicBezTo>
                  <a:pt x="600" y="240"/>
                  <a:pt x="816" y="0"/>
                  <a:pt x="864" y="96"/>
                </a:cubicBezTo>
                <a:cubicBezTo>
                  <a:pt x="912" y="192"/>
                  <a:pt x="760" y="904"/>
                  <a:pt x="672" y="1056"/>
                </a:cubicBezTo>
                <a:cubicBezTo>
                  <a:pt x="584" y="1208"/>
                  <a:pt x="424" y="1088"/>
                  <a:pt x="336" y="1008"/>
                </a:cubicBezTo>
                <a:cubicBezTo>
                  <a:pt x="248" y="928"/>
                  <a:pt x="200" y="632"/>
                  <a:pt x="144" y="576"/>
                </a:cubicBezTo>
                <a:cubicBezTo>
                  <a:pt x="88" y="520"/>
                  <a:pt x="44" y="596"/>
                  <a:pt x="0" y="672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Freeform 9"/>
          <p:cNvSpPr/>
          <p:nvPr/>
        </p:nvSpPr>
        <p:spPr>
          <a:xfrm>
            <a:off x="6705720" y="1600200"/>
            <a:ext cx="1646280" cy="1924200"/>
          </a:xfrm>
          <a:custGeom>
            <a:avLst/>
            <a:gdLst/>
            <a:ahLst/>
            <a:rect l="l" t="t" r="r" b="b"/>
            <a:pathLst>
              <a:path w="1037" h="1212">
                <a:moveTo>
                  <a:pt x="212" y="678"/>
                </a:moveTo>
                <a:cubicBezTo>
                  <a:pt x="161" y="612"/>
                  <a:pt x="99" y="557"/>
                  <a:pt x="53" y="488"/>
                </a:cubicBezTo>
                <a:cubicBezTo>
                  <a:pt x="37" y="465"/>
                  <a:pt x="25" y="431"/>
                  <a:pt x="15" y="405"/>
                </a:cubicBezTo>
                <a:cubicBezTo>
                  <a:pt x="9" y="390"/>
                  <a:pt x="0" y="360"/>
                  <a:pt x="0" y="360"/>
                </a:cubicBezTo>
                <a:cubicBezTo>
                  <a:pt x="47" y="228"/>
                  <a:pt x="85" y="211"/>
                  <a:pt x="212" y="155"/>
                </a:cubicBezTo>
                <a:cubicBezTo>
                  <a:pt x="250" y="97"/>
                  <a:pt x="407" y="45"/>
                  <a:pt x="462" y="26"/>
                </a:cubicBezTo>
                <a:cubicBezTo>
                  <a:pt x="485" y="18"/>
                  <a:pt x="530" y="3"/>
                  <a:pt x="530" y="3"/>
                </a:cubicBezTo>
                <a:cubicBezTo>
                  <a:pt x="558" y="6"/>
                  <a:pt x="587" y="0"/>
                  <a:pt x="613" y="11"/>
                </a:cubicBezTo>
                <a:cubicBezTo>
                  <a:pt x="648" y="25"/>
                  <a:pt x="668" y="63"/>
                  <a:pt x="697" y="87"/>
                </a:cubicBezTo>
                <a:cubicBezTo>
                  <a:pt x="734" y="217"/>
                  <a:pt x="765" y="323"/>
                  <a:pt x="841" y="435"/>
                </a:cubicBezTo>
                <a:cubicBezTo>
                  <a:pt x="865" y="507"/>
                  <a:pt x="898" y="572"/>
                  <a:pt x="932" y="640"/>
                </a:cubicBezTo>
                <a:cubicBezTo>
                  <a:pt x="939" y="670"/>
                  <a:pt x="941" y="703"/>
                  <a:pt x="954" y="731"/>
                </a:cubicBezTo>
                <a:cubicBezTo>
                  <a:pt x="974" y="772"/>
                  <a:pt x="1015" y="802"/>
                  <a:pt x="1030" y="845"/>
                </a:cubicBezTo>
                <a:cubicBezTo>
                  <a:pt x="1037" y="866"/>
                  <a:pt x="1021" y="949"/>
                  <a:pt x="1015" y="981"/>
                </a:cubicBezTo>
                <a:cubicBezTo>
                  <a:pt x="1011" y="1033"/>
                  <a:pt x="1027" y="1192"/>
                  <a:pt x="939" y="1208"/>
                </a:cubicBezTo>
                <a:cubicBezTo>
                  <a:pt x="919" y="1212"/>
                  <a:pt x="899" y="1208"/>
                  <a:pt x="879" y="1208"/>
                </a:cubicBezTo>
                <a:cubicBezTo>
                  <a:pt x="660" y="1131"/>
                  <a:pt x="133" y="1133"/>
                  <a:pt x="242" y="928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5638680" y="5410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незамкнутые лин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2057400" y="54864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замкнутые лин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оробьева</cp:lastModifiedBy>
  <dcterms:modified xsi:type="dcterms:W3CDTF">2015-01-19T10:04:05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