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D10-E033-4837-8FD8-419ABFE0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8D7-AEFF-432E-89C4-3CF1E769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654-C819-4B10-8377-63FDC913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F70-7632-42B3-BF73-9C92B6A4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EFA7-4D8E-43B3-B9D7-D979CED4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B691-3B90-4895-8633-09BB1BE7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2790-FBF5-4F90-92B9-75E5E1A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3B93-5A43-4F51-A9CA-35F3A26F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A94C-91B2-4094-967E-BFD01FFF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9C62-0576-48FB-9AB6-E4F6BD35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5B0F-70C3-4D6D-A6FA-D68527EE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515-E37A-46BA-9B43-DE3B8FCA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B7CF-3F68-41C1-AC10-661C747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A810-7274-441A-83FD-2DB30D25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8602-ACA4-4DEB-93F5-D207C6C7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584E-0A95-4E08-8E70-CC53B619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8906-E19D-4E9C-ACC4-962477DD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96F-59A5-4B65-9B14-68ED05B8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322-35FF-4B5C-95AC-DB832D3B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FF2-7403-4311-B6D3-3AD66C64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5F0-184A-4601-A241-D181B5E2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7D7-1E28-4C49-B03D-F28DACE8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1B3-EC4C-488D-9BE1-85C4F66D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507-84EE-413B-BD5C-4AF56964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74C2-EE45-46CA-B61F-A9680E8FE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E550-5295-40DF-AD04-57A03B2A1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8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10920" y="1052280"/>
            <a:ext cx="7848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филактика нарушений письменной речи у первокласс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Практикум для родител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МБОУ СОШ№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Богачёва Л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ажнение «Словесный мяч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грок говорит слово, а второй должен продолжить, называя слово на последнюю букву прозвучавшего слова: 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– слон – носки и т. д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игра универсальна, в неё можно играть вдвоем и всей семьё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а «Заколдованные сл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должен убрать лишний слог и узнать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похар, пераченье, хадулва, васуренье, пинарожки, сугрохари, грукрыши, кабрыкао, балира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бирин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биринты хорошо развивают крупную моторику (движения руки и предплечья), внимание, безотрывную линию. Следите, чтобы ребенок изменял положение руки, а не листа бума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ревнерусское письм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ие слов, затем предложений и текстов только согласными или только гласными буквами. Напр., Дети помчались на пр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…т…  п…мч…л…сь  н… пр…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весные цепо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тся цепочки слов так, чтобы первый слог последующего слова повторял предыдущий. Напр., рома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-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-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 и 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шебный дикта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х букв пишутся только проблемные (напр., з-с), все остальные буквы пишутся черточ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сшила красный сараф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- с---- ---с--- с-----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«Весёлый мультфиль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ли ребёнок делает ошибки в словарных слов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м ребёнку задание: мысленно сочинить очень смешной мультфильм, в котором по порядку будут появляться предметы, которые вы назовёте. Ребёнок закрывает глаза, а вы начинаете диктовать словарные слова, очень чётко проговаривая все безударные гласные, непроизносимые согласные и другие сложные случаи: 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ль, 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, ле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ца, 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зин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х увязывает в голове в какой-то смешной сюжет, потом открывает глаза и рассказывает свой мультфильм. Вы живо реагиру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совместно с ребенком проверяете написание словарных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ропавшие сл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ина царит в дремучем … Умолкли … Вот-вот начнется 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Закончи предлож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ик залез на дерево, которое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ик залез на дерево, потому что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ик залез на дерево, где 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6016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ка в правой и левой сторонах пространства и в пространственном расположении предметов по отношению друг к друг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ка на собственном теле, дифференциация правых и левых его час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 фигур из спичек, палоче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вание предметов в усложненных условиях (предметы изображенные пунктиром, наложенные друг на друге, «зашумленные»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468360" y="274680"/>
            <a:ext cx="84661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развитие зрительного анализа и синтеза,  пространственных представлений</a:t>
            </a:r>
            <a:br>
              <a:rPr sz="13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669456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сколько советов родител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можно чаще играйте с детьми в ролевые иг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ребенку задали на дом много писать, то разбейте текст на части и задание выполняйте в несколько прием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заставляйте ребенка переписывать много раз домашние задания, это не только нанесет вред здоровью ребенка, но и приведет к нежеланию учиться, а также увеличит количество ошиб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Хвалите своего ребенка за каждый достигнутый успех, как можно меньше упрекайте в неудача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66" descr="http://kurspresent.ru/uploads/fon-present/1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65847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briol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6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68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выступает как средство регуляции психической деятельности и поведения, организует эмоциональные переживания, мыслительные операции, оказывает большое влияние на формирование личности, волевые качества, характ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 речь служит активным средством всестороннего развития личности реб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устной реч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овое восприятие и слуховую пам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ую сторону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языкового анал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ую сторону речи (словарный запа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атическую сторону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ную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высших психических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900000" y="442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чевая готов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ин из важнейших показателей интеллектуального развития ребенка. Она включает в себ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речи бывают двух вид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устной речи (как ребенок говорит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письменной речи (как он пиш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ложный процесс, в котором участвует не только рука, но и все отделы головного мозга: лобные доли, височные, теменные и затыл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письму мы должны учить мозг, и к этому обучению мозг ребенка должен быть го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такое дисграф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графия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частичное нарушение процесса письма, проявляющееся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ойки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торяющихся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ецифически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шибках, обусловленных несформированностью высших психических функций, участвующих в процессе пис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. И. Лала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9528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шибок при различных формах дисграфи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тические замены л-м, и-ш, ш-щ, ц-щ, о-а, б-д и тд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ена парных согласных (б-п, в-ф, д-т и тд.), пропуск мягкого знака, замены глас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тное написание слов (с предлогами), раздельное написание частей слов, пропуск или добавление букв, перестановка букв, слог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согласования слов, предложно-падежных конструкций, искажение структуры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нужно обратить особое внимание  родителям первоклассн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8560" y="836640"/>
            <a:ext cx="8785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Ваш ребенок лев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он - переученный лев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Ваш ребенок посещал логопедическую груп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у Вашего ребенка есть проблемы с памятью, вним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в семье говорят на двух или более язы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Ваш ребенок слишком рано пошел в шко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едупредить нарушения письменной речи у младших школь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есколько игр и упражнений, в которые родители могут поиграть дома со своими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"Пишем вслух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резвычайно важный и ничем не заменимый прием: всё, что пишется, проговаривается пишущим вслух в момент написания и так, как оно пишется, с подчеркиванием изученных орф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«Волшебный дикта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ли ребёнок пропускает букв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читаете предложение или его часть (3-4 слова). Ребенок простукивает слоги: ма-ма мы-ла ра-му, чтобы уловить ритм предложения. После этого он записывает этот ритм в виде пунктирной линии, где вместо слогов – черточки. Следующий этап: записать каждое слово в виде точек, по количеству букв в с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3" descr="http://www.tvoyrebenok.ru/images/presentation/nice/b/04.jpg"/>
          <p:cNvPicPr/>
          <p:nvPr/>
        </p:nvPicPr>
        <p:blipFill>
          <a:blip r:embed="rId1"/>
          <a:srcRect l="0" t="0" r="0" b="2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250920" y="659880"/>
            <a:ext cx="8785080" cy="49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ажнение "Корректурная правка"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этого упражнения нужна книжка, скучная и с достаточно крупным (не мелким) шрифтом. Ученик каждый день в течение пяти (не больше) минут работает над следующим заданием: зачеркивает в сплошном тексте заданные буквы. Начать нужно с одной буквы, например, "а". Затем "о", дальше согласные, с которыми есть проблемы, сначала их тоже нужно задавать по одной. Через 5-6 дней таких занятий переходим на две буквы, одна зачеркивается, другая подчеркивается или обводится в кружочек. Буквы должны быть "парными", "похожими" в сознании ученик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5:21:52Z</dcterms:created>
  <dc:creator>Лиля</dc:creator>
  <dc:description/>
  <dc:language>en-US</dc:language>
  <cp:lastModifiedBy>Windows User</cp:lastModifiedBy>
  <dcterms:modified xsi:type="dcterms:W3CDTF">2015-01-19T17:24:03Z</dcterms:modified>
  <cp:revision>53</cp:revision>
  <dc:subject/>
  <dc:title>Родительское собрание</dc:title>
</cp:coreProperties>
</file>