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.gif" ContentType="image/gif"/>
  <Override PartName="/ppt/media/image5.jpeg" ContentType="image/jpeg"/>
  <Override PartName="/ppt/media/image22.gif" ContentType="image/gif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0.png" ContentType="image/png"/>
  <Override PartName="/ppt/media/image2.jpeg" ContentType="image/jpeg"/>
  <Override PartName="/ppt/media/image7.png" ContentType="image/png"/>
  <Override PartName="/ppt/media/image1.jpeg" ContentType="image/jpeg"/>
  <Override PartName="/ppt/media/image4.gif" ContentType="image/gif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6765-9047-41D5-A447-DB004531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6DE3-9F48-4E03-9B20-CEF001CD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266A-4043-4EB4-94D4-12F28784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EEE-46F0-4A48-B105-A2711D0F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F2C4-E3EF-49CD-9432-745B2570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47A-5BB6-4BA5-BF09-6FE348C5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259-1FED-4D55-8727-756E3FA6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798-B9FD-4850-8EA6-89C72F73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630B-7867-4F61-88C1-B2107CB9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272-C1F8-490F-A0B9-A3FAB9CE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936-DAC9-47B4-8CC6-3338CB91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8AD-41FC-4E67-989B-4AD9340B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128B-7E7C-4A1C-87B2-84BA47D763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orashar12"/>
          <p:cNvPicPr/>
          <p:nvPr/>
        </p:nvPicPr>
        <p:blipFill>
          <a:blip r:embed="rId2"/>
          <a:srcRect l="0" t="0" r="0" b="3910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" TargetMode="External"/><Relationship Id="rId2" Type="http://schemas.openxmlformats.org/officeDocument/2006/relationships/hyperlink" Target="http://window.edu.ru/" TargetMode="External"/><Relationship Id="rId3" Type="http://schemas.openxmlformats.org/officeDocument/2006/relationships/hyperlink" Target="http://vospitatel.resobr.ru/" TargetMode="External"/><Relationship Id="rId4" Type="http://schemas.openxmlformats.org/officeDocument/2006/relationships/hyperlink" Target="http://www.detskiysad.ru/rech/411.html" TargetMode="External"/><Relationship Id="rId5" Type="http://schemas.openxmlformats.org/officeDocument/2006/relationships/hyperlink" Target="http://www.detskiysad.ru/sensor.html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44" name="Picture 2" descr="orashar12"/>
          <p:cNvPicPr/>
          <p:nvPr/>
        </p:nvPicPr>
        <p:blipFill>
          <a:blip r:embed="rId1"/>
          <a:srcRect l="0" t="0" r="0" b="3910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5" name="TextBox 9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mbria"/>
              </a:rPr>
              <a:t>Муниципальное дошкольное 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mbria"/>
              </a:rPr>
              <a:t>детский сад №3 «Сказка» города Котовска Тамб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6012000" y="3933720"/>
            <a:ext cx="313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ambria"/>
              </a:rPr>
              <a:t>Автор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ambria"/>
              </a:rPr>
              <a:t>воспит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ambria"/>
              </a:rPr>
              <a:t>Ватом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ambria"/>
              </a:rPr>
              <a:t>Оксана  Никола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3564000" y="6165720"/>
            <a:ext cx="21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mbria"/>
              </a:rPr>
              <a:t>        </a:t>
            </a:r>
            <a:r>
              <a:rPr b="1" lang="ru-RU" sz="2000" spc="-1" strike="noStrike">
                <a:solidFill>
                  <a:srgbClr val="000099"/>
                </a:solidFill>
                <a:latin typeface="Cambria"/>
              </a:rPr>
              <a:t>Котовс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D:\ДОКУМЕНТЫ\Ермакова документы\АТТЕСТАЦИЯ 2010\Ватомская аттестация\Ватомская фото к аттестации\PICT0427.JPG"/>
          <p:cNvPicPr/>
          <p:nvPr/>
        </p:nvPicPr>
        <p:blipFill>
          <a:blip r:embed="rId2"/>
          <a:stretch/>
        </p:blipFill>
        <p:spPr>
          <a:xfrm>
            <a:off x="928800" y="3357720"/>
            <a:ext cx="3786120" cy="2581200"/>
          </a:xfrm>
          <a:prstGeom prst="rect">
            <a:avLst/>
          </a:prstGeom>
          <a:ln w="44280">
            <a:solidFill>
              <a:srgbClr val="00b0f0"/>
            </a:solidFill>
            <a:miter/>
          </a:ln>
        </p:spPr>
      </p:pic>
      <p:sp>
        <p:nvSpPr>
          <p:cNvPr id="49" name="Заголовок 3"/>
          <p:cNvSpPr/>
          <p:nvPr/>
        </p:nvSpPr>
        <p:spPr>
          <a:xfrm>
            <a:off x="642960" y="1214280"/>
            <a:ext cx="8229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03c6"/>
                </a:solidFill>
                <a:latin typeface="Cambria"/>
              </a:rPr>
              <a:t>«СЕНСОРНАЯ  КУЛЬТУРА  РЕБЕН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mbria"/>
              </a:rPr>
              <a:t>ОРГАНИЗАЦИОННО-ПОДГОТОВИТЕЛЬНЫЙ 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Выноска со стрелкой вниз 6"/>
          <p:cNvSpPr/>
          <p:nvPr/>
        </p:nvSpPr>
        <p:spPr>
          <a:xfrm>
            <a:off x="1357200" y="1643040"/>
            <a:ext cx="6480360" cy="1440000"/>
          </a:xfrm>
          <a:prstGeom prst="downArrowCallout">
            <a:avLst>
              <a:gd name="adj1" fmla="val 25004"/>
              <a:gd name="adj2" fmla="val 25001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Подбор и изучение литератур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подготовка методического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Выноска со стрелкой вниз 7"/>
          <p:cNvSpPr/>
          <p:nvPr/>
        </p:nvSpPr>
        <p:spPr>
          <a:xfrm>
            <a:off x="1357200" y="3143160"/>
            <a:ext cx="6480360" cy="1440000"/>
          </a:xfrm>
          <a:prstGeom prst="downArrowCallout">
            <a:avLst>
              <a:gd name="adj1" fmla="val 25004"/>
              <a:gd name="adj2" fmla="val 25001"/>
              <a:gd name="adj3" fmla="val 25000"/>
              <a:gd name="adj4" fmla="val 64977"/>
            </a:avLst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Проведение диагнос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Выноска со стрелкой вниз 8"/>
          <p:cNvSpPr/>
          <p:nvPr/>
        </p:nvSpPr>
        <p:spPr>
          <a:xfrm>
            <a:off x="1357200" y="4643280"/>
            <a:ext cx="6480360" cy="1440000"/>
          </a:xfrm>
          <a:prstGeom prst="downArrowCallout">
            <a:avLst>
              <a:gd name="adj1" fmla="val 25004"/>
              <a:gd name="adj2" fmla="val 25001"/>
              <a:gd name="adj3" fmla="val 25000"/>
              <a:gd name="adj4" fmla="val 64977"/>
            </a:avLst>
          </a:prstGeom>
          <a:solidFill>
            <a:srgbClr val="7aaade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Проведение родительского собр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mbria"/>
              </a:rPr>
              <a:t>ОСНОВНОЙ 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2"/>
          <p:cNvSpPr/>
          <p:nvPr/>
        </p:nvSpPr>
        <p:spPr>
          <a:xfrm>
            <a:off x="3143160" y="3143160"/>
            <a:ext cx="3214800" cy="1571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Формы работы по проек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8"/>
          <p:cNvSpPr/>
          <p:nvPr/>
        </p:nvSpPr>
        <p:spPr>
          <a:xfrm>
            <a:off x="108000" y="2214720"/>
            <a:ext cx="3057480" cy="1574640"/>
          </a:xfrm>
          <a:prstGeom prst="ellipse">
            <a:avLst/>
          </a:prstGeom>
          <a:solidFill>
            <a:srgbClr val="70d4e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Организация предметно-развиваю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сре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19"/>
          <p:cNvSpPr/>
          <p:nvPr/>
        </p:nvSpPr>
        <p:spPr>
          <a:xfrm>
            <a:off x="6264360" y="2143080"/>
            <a:ext cx="2879640" cy="1260360"/>
          </a:xfrm>
          <a:prstGeom prst="ellipse">
            <a:avLst/>
          </a:prstGeom>
          <a:solidFill>
            <a:srgbClr val="ecb2d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Развл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20"/>
          <p:cNvSpPr/>
          <p:nvPr/>
        </p:nvSpPr>
        <p:spPr>
          <a:xfrm>
            <a:off x="142920" y="4143240"/>
            <a:ext cx="3214800" cy="1571760"/>
          </a:xfrm>
          <a:prstGeom prst="ellipse">
            <a:avLst/>
          </a:prstGeom>
          <a:solidFill>
            <a:srgbClr val="f1a95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Работа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21"/>
          <p:cNvSpPr/>
          <p:nvPr/>
        </p:nvSpPr>
        <p:spPr>
          <a:xfrm>
            <a:off x="2643120" y="5284800"/>
            <a:ext cx="3214800" cy="15732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Комплексны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22"/>
          <p:cNvSpPr/>
          <p:nvPr/>
        </p:nvSpPr>
        <p:spPr>
          <a:xfrm>
            <a:off x="2928960" y="1143000"/>
            <a:ext cx="3311640" cy="1500120"/>
          </a:xfrm>
          <a:prstGeom prst="ellipse">
            <a:avLst/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Комплекс  иг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Прямая со стрелкой 33" descr=""/>
          <p:cNvPicPr/>
          <p:nvPr/>
        </p:nvPicPr>
        <p:blipFill>
          <a:blip r:embed="rId1"/>
          <a:stretch/>
        </p:blipFill>
        <p:spPr>
          <a:xfrm>
            <a:off x="4498920" y="2560680"/>
            <a:ext cx="285840" cy="6159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ая со стрелкой 36" descr=""/>
          <p:cNvPicPr/>
          <p:nvPr/>
        </p:nvPicPr>
        <p:blipFill>
          <a:blip r:embed="rId2"/>
          <a:stretch/>
        </p:blipFill>
        <p:spPr>
          <a:xfrm>
            <a:off x="5857920" y="3060720"/>
            <a:ext cx="658800" cy="34776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ая со стрелкой 41" descr=""/>
          <p:cNvPicPr/>
          <p:nvPr/>
        </p:nvPicPr>
        <p:blipFill>
          <a:blip r:embed="rId3"/>
          <a:stretch/>
        </p:blipFill>
        <p:spPr>
          <a:xfrm>
            <a:off x="2987640" y="2987640"/>
            <a:ext cx="614520" cy="40176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ая со стрелкой 48" descr=""/>
          <p:cNvPicPr/>
          <p:nvPr/>
        </p:nvPicPr>
        <p:blipFill>
          <a:blip r:embed="rId4"/>
          <a:stretch/>
        </p:blipFill>
        <p:spPr>
          <a:xfrm>
            <a:off x="3127320" y="4468680"/>
            <a:ext cx="615960" cy="26208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ая со стрелкой 56" descr=""/>
          <p:cNvPicPr/>
          <p:nvPr/>
        </p:nvPicPr>
        <p:blipFill>
          <a:blip r:embed="rId5"/>
          <a:stretch/>
        </p:blipFill>
        <p:spPr>
          <a:xfrm>
            <a:off x="5327640" y="4608360"/>
            <a:ext cx="403200" cy="335160"/>
          </a:xfrm>
          <a:prstGeom prst="rect">
            <a:avLst/>
          </a:prstGeom>
          <a:ln w="0">
            <a:noFill/>
          </a:ln>
        </p:spPr>
      </p:pic>
      <p:sp>
        <p:nvSpPr>
          <p:cNvPr id="85" name="Овал 13"/>
          <p:cNvSpPr/>
          <p:nvPr/>
        </p:nvSpPr>
        <p:spPr>
          <a:xfrm>
            <a:off x="5572080" y="4357800"/>
            <a:ext cx="3571920" cy="1643040"/>
          </a:xfrm>
          <a:prstGeom prst="ellipse">
            <a:avLst/>
          </a:prstGeom>
          <a:solidFill>
            <a:srgbClr val="70d4e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Занятия по изобразительн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ая со стрелкой 26" descr=""/>
          <p:cNvPicPr/>
          <p:nvPr/>
        </p:nvPicPr>
        <p:blipFill>
          <a:blip r:embed="rId6"/>
          <a:stretch/>
        </p:blipFill>
        <p:spPr>
          <a:xfrm>
            <a:off x="4164120" y="4681440"/>
            <a:ext cx="62064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mbria"/>
              </a:rPr>
              <a:t>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10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 « Весёлый гри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-шнуровка «Бабоч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 «Какие разные фигу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D:\ДОКУМЕНТЫ\Ермакова документы\АТТЕСТАЦИЯ 2010\Ватомская аттестация\Ватомская фото к аттестации\PICT0539.JPG"/>
          <p:cNvPicPr/>
          <p:nvPr/>
        </p:nvPicPr>
        <p:blipFill>
          <a:blip r:embed="rId1"/>
          <a:stretch/>
        </p:blipFill>
        <p:spPr>
          <a:xfrm>
            <a:off x="512640" y="2809800"/>
            <a:ext cx="3929040" cy="3283200"/>
          </a:xfrm>
          <a:prstGeom prst="rect">
            <a:avLst/>
          </a:prstGeom>
          <a:ln w="44280">
            <a:solidFill>
              <a:srgbClr val="d32baf"/>
            </a:solidFill>
            <a:miter/>
          </a:ln>
        </p:spPr>
      </p:pic>
      <p:pic>
        <p:nvPicPr>
          <p:cNvPr id="91" name="Picture 6" descr="D:\ДОКУМЕНТЫ\Ермакова документы\АТТЕСТАЦИЯ 2010\Ватомская аттестация\Ватомская фото к аттестации\PICT0749.JPG"/>
          <p:cNvPicPr/>
          <p:nvPr/>
        </p:nvPicPr>
        <p:blipFill>
          <a:blip r:embed="rId2"/>
          <a:stretch/>
        </p:blipFill>
        <p:spPr>
          <a:xfrm>
            <a:off x="4700520" y="2809800"/>
            <a:ext cx="3930840" cy="3283200"/>
          </a:xfrm>
          <a:prstGeom prst="rect">
            <a:avLst/>
          </a:prstGeom>
          <a:ln w="4428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404028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лечение с краскам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омоги Петрушке раскрасить кло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4720" y="907560"/>
            <a:ext cx="404172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лексное заня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 гостях у старичка Лесови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D:\ДОКУМЕНТЫ\Ермакова документы\АТТЕСТАЦИЯ 2010\Ватомская аттестация\Ватомская фото к аттестации\PICT0717.JPG"/>
          <p:cNvPicPr/>
          <p:nvPr/>
        </p:nvPicPr>
        <p:blipFill>
          <a:blip r:embed="rId1"/>
          <a:stretch/>
        </p:blipFill>
        <p:spPr>
          <a:xfrm>
            <a:off x="515880" y="2811600"/>
            <a:ext cx="3922920" cy="3354120"/>
          </a:xfrm>
          <a:prstGeom prst="rect">
            <a:avLst/>
          </a:prstGeom>
          <a:ln w="44280">
            <a:solidFill>
              <a:srgbClr val="d32baf"/>
            </a:solidFill>
            <a:miter/>
          </a:ln>
        </p:spPr>
      </p:pic>
      <p:pic>
        <p:nvPicPr>
          <p:cNvPr id="96" name="Picture 5" descr="D:\ДОКУМЕНТЫ\Ермакова документы\АТТЕСТАЦИЯ 2010\Ватомская аттестация\Ватомская фото к аттестации\PICT0437.JPG"/>
          <p:cNvPicPr/>
          <p:nvPr/>
        </p:nvPicPr>
        <p:blipFill>
          <a:blip r:embed="rId2"/>
          <a:stretch/>
        </p:blipFill>
        <p:spPr>
          <a:xfrm>
            <a:off x="4702320" y="2809800"/>
            <a:ext cx="3927240" cy="3355920"/>
          </a:xfrm>
          <a:prstGeom prst="rect">
            <a:avLst/>
          </a:prstGeom>
          <a:ln w="4428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mbria"/>
              </a:rPr>
              <a:t>ЗАНЯТИЯ ПО ИЗОБРАЗИТЕЛЬНОЙ ДЕЯТЕЛЬНОСТИ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990033"/>
                </a:solidFill>
                <a:latin typeface="Cambria"/>
              </a:rPr>
              <a:t>рисование предметов круглой фор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D:\ДОКУМЕНТЫ\Ермакова документы\АТТЕСТАЦИЯ 2010\Ватомская аттестация\Ватомская фото к аттестации\PICT0724.JPG"/>
          <p:cNvPicPr/>
          <p:nvPr/>
        </p:nvPicPr>
        <p:blipFill>
          <a:blip r:embed="rId1"/>
          <a:stretch/>
        </p:blipFill>
        <p:spPr>
          <a:xfrm>
            <a:off x="468360" y="3284640"/>
            <a:ext cx="3570120" cy="3160440"/>
          </a:xfrm>
          <a:prstGeom prst="rect">
            <a:avLst/>
          </a:prstGeom>
          <a:ln w="44280">
            <a:solidFill>
              <a:srgbClr val="d32baf"/>
            </a:solidFill>
            <a:miter/>
          </a:ln>
        </p:spPr>
      </p:pic>
      <p:pic>
        <p:nvPicPr>
          <p:cNvPr id="99" name="Picture 5" descr="D:\ДОКУМЕНТЫ\Ермакова документы\АТТЕСТАЦИЯ 2010\Ватомская аттестация\Ватомская фото к аттестации\PICT0729.JPG"/>
          <p:cNvPicPr/>
          <p:nvPr/>
        </p:nvPicPr>
        <p:blipFill>
          <a:blip r:embed="rId2"/>
          <a:stretch/>
        </p:blipFill>
        <p:spPr>
          <a:xfrm>
            <a:off x="5003640" y="3284640"/>
            <a:ext cx="3600720" cy="3200400"/>
          </a:xfrm>
          <a:prstGeom prst="rect">
            <a:avLst/>
          </a:prstGeom>
          <a:ln w="4428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mbria"/>
              </a:rPr>
              <a:t>ЗАНЯТИЯ ПО ИЗОБРАЗИТЕЛЬНОЙ ДЕЯТЕЛЬНОСТИ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990033"/>
                </a:solidFill>
                <a:latin typeface="Cambria"/>
              </a:rPr>
              <a:t>рисование предметов круглой фор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D:\ДОКУМЕНТЫ\Ермакова документы\АТТЕСТАЦИЯ 2010\Ватомская аттестация\Ватомская фото к аттестации\PICT0724.JPG"/>
          <p:cNvPicPr/>
          <p:nvPr/>
        </p:nvPicPr>
        <p:blipFill>
          <a:blip r:embed="rId1"/>
          <a:stretch/>
        </p:blipFill>
        <p:spPr>
          <a:xfrm>
            <a:off x="468360" y="3284640"/>
            <a:ext cx="3570120" cy="3160440"/>
          </a:xfrm>
          <a:prstGeom prst="rect">
            <a:avLst/>
          </a:prstGeom>
          <a:ln w="44280">
            <a:solidFill>
              <a:srgbClr val="d32baf"/>
            </a:solidFill>
            <a:miter/>
          </a:ln>
        </p:spPr>
      </p:pic>
      <p:pic>
        <p:nvPicPr>
          <p:cNvPr id="102" name="Picture 5" descr="D:\ДОКУМЕНТЫ\Ермакова документы\АТТЕСТАЦИЯ 2010\Ватомская аттестация\Ватомская фото к аттестации\PICT0729.JPG"/>
          <p:cNvPicPr/>
          <p:nvPr/>
        </p:nvPicPr>
        <p:blipFill>
          <a:blip r:embed="rId2"/>
          <a:stretch/>
        </p:blipFill>
        <p:spPr>
          <a:xfrm>
            <a:off x="5003640" y="3284640"/>
            <a:ext cx="3600720" cy="3200400"/>
          </a:xfrm>
          <a:prstGeom prst="rect">
            <a:avLst/>
          </a:prstGeom>
          <a:ln w="4428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mbria"/>
              </a:rPr>
              <a:t>ОРГАНИЗАЦИЯ ПРЕДМЕТНО-РАЗВИВАЮЩЕЙ СРЕ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D:\ДОКУМЕНТЫ\Ермакова документы\АТТЕСТАЦИЯ 2010\Ватомская аттестация\Ватомская фото к аттестации\PICT0742.JPG"/>
          <p:cNvPicPr/>
          <p:nvPr/>
        </p:nvPicPr>
        <p:blipFill>
          <a:blip r:embed="rId1"/>
          <a:stretch/>
        </p:blipFill>
        <p:spPr>
          <a:xfrm>
            <a:off x="2714760" y="4000680"/>
            <a:ext cx="3897000" cy="2657160"/>
          </a:xfrm>
          <a:prstGeom prst="rect">
            <a:avLst/>
          </a:prstGeom>
          <a:ln w="44280">
            <a:solidFill>
              <a:srgbClr val="00b050"/>
            </a:solidFill>
            <a:miter/>
          </a:ln>
        </p:spPr>
      </p:pic>
      <p:pic>
        <p:nvPicPr>
          <p:cNvPr id="105" name="Picture 6" descr="D:\ДОКУМЕНТЫ\Ермакова документы\АТТЕСТАЦИЯ 2010\Ватомская аттестация\Ватомская фото к аттестации\PICT0471.JPG"/>
          <p:cNvPicPr/>
          <p:nvPr/>
        </p:nvPicPr>
        <p:blipFill>
          <a:blip r:embed="rId2"/>
          <a:stretch/>
        </p:blipFill>
        <p:spPr>
          <a:xfrm>
            <a:off x="4911840" y="1714680"/>
            <a:ext cx="3771720" cy="2571480"/>
          </a:xfrm>
          <a:prstGeom prst="rect">
            <a:avLst/>
          </a:prstGeom>
          <a:ln w="44280">
            <a:solidFill>
              <a:srgbClr val="d32baf"/>
            </a:solidFill>
            <a:miter/>
          </a:ln>
        </p:spPr>
      </p:pic>
      <p:pic>
        <p:nvPicPr>
          <p:cNvPr id="106" name="Picture 11" descr="PICT0193"/>
          <p:cNvPicPr/>
          <p:nvPr/>
        </p:nvPicPr>
        <p:blipFill>
          <a:blip r:embed="rId3"/>
          <a:stretch/>
        </p:blipFill>
        <p:spPr>
          <a:xfrm>
            <a:off x="500040" y="1714680"/>
            <a:ext cx="3786120" cy="2581200"/>
          </a:xfrm>
          <a:prstGeom prst="rect">
            <a:avLst/>
          </a:prstGeom>
          <a:ln w="4428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mbria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aramond"/>
              </a:rPr>
              <a:t>Родительское собр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aramond"/>
              </a:rPr>
              <a:t>Выставка дидактического материала по сенсорному развит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aramond"/>
              </a:rPr>
              <a:t>Оформление стенда по сенсорному             развит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aramond"/>
              </a:rPr>
              <a:t>Консуль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ДОКУМЕНТЫ\Ермакова документы\АТТЕСТАЦИЯ 2010\Ватомская аттестация\Ватомская фото к аттестации\PICT0483.jpg"/>
          <p:cNvPicPr/>
          <p:nvPr/>
        </p:nvPicPr>
        <p:blipFill>
          <a:blip r:embed="rId1"/>
          <a:stretch/>
        </p:blipFill>
        <p:spPr>
          <a:xfrm>
            <a:off x="5786280" y="3571920"/>
            <a:ext cx="2424240" cy="2938320"/>
          </a:xfrm>
          <a:prstGeom prst="rect">
            <a:avLst/>
          </a:prstGeom>
          <a:ln w="44280">
            <a:solidFill>
              <a:srgbClr val="d32ba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mbria"/>
              </a:rPr>
              <a:t>ЗАКЛЮЧИТЕЛЬНЫЙ 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Табличка 4"/>
          <p:cNvSpPr/>
          <p:nvPr/>
        </p:nvSpPr>
        <p:spPr>
          <a:xfrm>
            <a:off x="2286000" y="2000160"/>
            <a:ext cx="5040360" cy="1440000"/>
          </a:xfrm>
          <a:custGeom>
            <a:avLst/>
            <a:gdLst>
              <a:gd name="textAreaLeft" fmla="*/ 169560 w 5040360"/>
              <a:gd name="textAreaRight" fmla="*/ 4870800 w 5040360"/>
              <a:gd name="textAreaTop" fmla="*/ 169560 h 1440000"/>
              <a:gd name="textAreaBottom" fmla="*/ 1270440 h 1440000"/>
            </a:gdLst>
            <a:ahLst/>
            <a:rect l="textAreaLeft" t="textAreaTop" r="textAreaRight" b="textAreaBottom"/>
            <a:pathLst>
              <a:path w="7559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1992" y="21600"/>
                </a:lnTo>
                <a:arcTo wR="3600" hR="3600" stAng="10800000" swAng="5400000"/>
                <a:lnTo>
                  <a:pt x="75592" y="3600"/>
                </a:lnTo>
                <a:arcTo wR="3600" hR="3600" stAng="5400000" swAng="5400000"/>
                <a:close/>
              </a:path>
            </a:pathLst>
          </a:custGeom>
          <a:solidFill>
            <a:srgbClr val="ecb2d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Итоговая диагно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Табличка 7"/>
          <p:cNvSpPr/>
          <p:nvPr/>
        </p:nvSpPr>
        <p:spPr>
          <a:xfrm>
            <a:off x="2428920" y="3929040"/>
            <a:ext cx="5040360" cy="1440000"/>
          </a:xfrm>
          <a:custGeom>
            <a:avLst/>
            <a:gdLst>
              <a:gd name="textAreaLeft" fmla="*/ 169560 w 5040360"/>
              <a:gd name="textAreaRight" fmla="*/ 4870800 w 5040360"/>
              <a:gd name="textAreaTop" fmla="*/ 169560 h 1440000"/>
              <a:gd name="textAreaBottom" fmla="*/ 1270440 h 1440000"/>
            </a:gdLst>
            <a:ahLst/>
            <a:rect l="textAreaLeft" t="textAreaTop" r="textAreaRight" b="textAreaBottom"/>
            <a:pathLst>
              <a:path w="7559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1992" y="21600"/>
                </a:lnTo>
                <a:arcTo wR="3600" hR="3600" stAng="10800000" swAng="5400000"/>
                <a:lnTo>
                  <a:pt x="75592" y="3600"/>
                </a:lnTo>
                <a:arcTo wR="3600" hR="3600" stAng="5400000" swAng="5400000"/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Презентация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mbria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14200" y="114264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Garamond"/>
              </a:rPr>
              <a:t>1. М.В. Ильина //  Чувствуем-познаем-размышляем. Комплексные занятия для развития восприятия и эмоционально-волевой сферы у детей 3-4 лет. – М.: АРКТИ, 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Garamond"/>
              </a:rPr>
              <a:t>2. Воспитание сенсорной культуры ребенка от рождения до 6 лет. Кн. Для воспитателя дет. сада //  Л. А. Венгер, Э. Г. Пилюгина, под ред. Л. А. Венгера, - М. : Просвещение, 1988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Garamond"/>
              </a:rPr>
              <a:t>3. Пилюгина Э. Г. Занятия по сенсорному воспитанию с детьми раннего возраста, пособие для воспитателя детского сада - М.: просвещение, 1983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Garamond"/>
              </a:rPr>
              <a:t>4. Сенсорное воспитание в детском саду: Пособие для воспитателей//под ред. Н.Н. Поддьякова, В.Н. Аванесовой .- М.: Просвещение, 19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Garamond"/>
              </a:rPr>
              <a:t>5. Воспитание и обучение детей младшего дошкольного возраста: Книга для воспитателя детского сада //Т.Л. Богина, Т.Г. Казакова, Е.А. Тимофеева  и др.; Под ред. Г.Н. Годиной, Э.Г. Пилюгиной. - М.: Просвещение, 19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Garamond"/>
              </a:rPr>
              <a:t>6. Комарова Т.С. //Занятия по изобразительной деятельности во второй младшей группе детского сада. Конспекты занятий . – М.: Мозаика-Синтез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Garamond"/>
              </a:rPr>
              <a:t>7. Развлечения в детском саду. Пособие для воспитателя и музыкального руководителя. М., «Просвещение», 19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Garamond"/>
              </a:rPr>
              <a:t>8. Родительские собрания в детском саду: Младшая группа //Авт.-сост.  С.В. Чиркова. – М.: ВАКО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Garamond"/>
              </a:rPr>
              <a:t>9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http://festival.1september.ru/</a:t>
            </a:r>
            <a:r>
              <a:rPr b="1" lang="ru-RU" sz="1600" spc="-1" strike="noStrike">
                <a:solidFill>
                  <a:srgbClr val="0000cc"/>
                </a:solidFill>
                <a:latin typeface="Garamond"/>
              </a:rPr>
              <a:t> - Фестиваль педагогический идей «Открытый урок»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Garamond"/>
              </a:rPr>
              <a:t>10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Garamond"/>
                <a:hlinkClick r:id="rId3"/>
              </a:rPr>
              <a:t>http://vospitatel.resobr.ru/</a:t>
            </a:r>
            <a:r>
              <a:rPr b="1" lang="ru-RU" sz="1600" spc="-1" strike="noStrike">
                <a:solidFill>
                  <a:srgbClr val="0000cc"/>
                </a:solidFill>
                <a:latin typeface="Garamond"/>
              </a:rPr>
              <a:t> - Сайт журнала «Старший воспитатель»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Garamond"/>
                <a:hlinkClick r:id="rId4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Garamond"/>
              </a:rPr>
              <a:t>11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Garamond"/>
                <a:hlinkClick r:id="rId5"/>
              </a:rPr>
              <a:t>http://www.detskiysad.ru/sensor.html</a:t>
            </a:r>
            <a:r>
              <a:rPr b="1" lang="ru-RU" sz="1600" spc="-1" strike="noStrike">
                <a:solidFill>
                  <a:srgbClr val="0000cc"/>
                </a:solidFill>
                <a:latin typeface="Garamond"/>
              </a:rPr>
              <a:t>   собрана разнообразная литература, повествующая о методике сенсорного воспитания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8760" y="142884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«Чувствуем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                 </a:t>
            </a:r>
            <a:r>
              <a:rPr b="1" lang="ru-RU" sz="5400" spc="-1" strike="noStrike">
                <a:solidFill>
                  <a:srgbClr val="38aa0a"/>
                </a:solidFill>
                <a:latin typeface="Garamond"/>
              </a:rPr>
              <a:t>познаем,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8aa0a"/>
                </a:solidFill>
                <a:latin typeface="Garamond"/>
              </a:rPr>
              <a:t>                     </a:t>
            </a:r>
            <a:r>
              <a:rPr b="1" lang="ru-RU" sz="5400" spc="-1" strike="noStrike">
                <a:solidFill>
                  <a:srgbClr val="0000cc"/>
                </a:solidFill>
                <a:latin typeface="Garamond"/>
              </a:rPr>
              <a:t>размышляе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Cambria"/>
              </a:rPr>
              <a:t>ТВОРЧЕСКОЕ  НАЗВАНИЕ 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:\СОХРАНЕННЫЕ ДОКУМЕНТЫ 2\НАГЛЯДНОСТЬ ДЛЯ ДОУ\Анимашки детские\Детишки\baby48.gif"/>
          <p:cNvPicPr/>
          <p:nvPr/>
        </p:nvPicPr>
        <p:blipFill>
          <a:blip r:embed="rId1"/>
          <a:stretch/>
        </p:blipFill>
        <p:spPr>
          <a:xfrm>
            <a:off x="857160" y="357192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D:\РИСУНКИ+ОБОИ\наглядность\Анимашки\a5cfad486d9931ff6735e75819751855.gif"/>
          <p:cNvPicPr/>
          <p:nvPr/>
        </p:nvPicPr>
        <p:blipFill>
          <a:blip r:embed="rId1"/>
          <a:stretch/>
        </p:blipFill>
        <p:spPr>
          <a:xfrm>
            <a:off x="1000080" y="2071800"/>
            <a:ext cx="1751040" cy="17859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5"/>
          <p:cNvSpPr txBox="1"/>
          <p:nvPr/>
        </p:nvSpPr>
        <p:spPr>
          <a:xfrm>
            <a:off x="3564000" y="1916280"/>
            <a:ext cx="52084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НИМАНИЕ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9680" y="1213920"/>
            <a:ext cx="83581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Главной составляющей полноценного развития детей младшего дошкольного возраста является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сенсорное развитие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  Сенсорное развитие, направленное на формирование полноценного восприятия окружающей действительности, служит основой познания мира, первой ступенью которого является чувственный опыт. Успешность умственного, физического, эстетического воспитания в значительной степени зависит  от уровня сенсорного развития детей, т. е.           от того насколько совершенно                                     ребенок слышит, видит,                                                      осязает окружающе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mbria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H:\СОХРАНЕННЫЕ ДОКУМЕНТЫ 2\НАГЛЯДНОСТЬ ДЛЯ ДОУ\Анимашки детские\Детишки\b361b7018a1d01b9f42104e7c99c4a9b.gif"/>
          <p:cNvPicPr/>
          <p:nvPr/>
        </p:nvPicPr>
        <p:blipFill>
          <a:blip r:embed="rId1"/>
          <a:stretch/>
        </p:blipFill>
        <p:spPr>
          <a:xfrm>
            <a:off x="6143760" y="5072040"/>
            <a:ext cx="14317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28760" y="142884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aramond"/>
              </a:rPr>
              <a:t>Развитие сенсорных навыков у детей младшего дошкольного возра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mbria"/>
              </a:rPr>
              <a:t>ЦЕЛЬ 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28760" y="142884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aramond"/>
              </a:rPr>
              <a:t>Дети  группы общеразвивающей направленности от 3 до 4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Garamond"/>
              </a:rPr>
              <a:t>Воспита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aramond"/>
              </a:rPr>
              <a:t>Роди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mbria"/>
              </a:rPr>
              <a:t>УЧАСТНИКИ 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D:\ДОКУМЕНТЫ\Ермакова документы\АТТЕСТАЦИЯ 2010\Ватомская аттестация\Ватомская фото к аттестации\PICT0429.JPG"/>
          <p:cNvPicPr/>
          <p:nvPr/>
        </p:nvPicPr>
        <p:blipFill>
          <a:blip r:embed="rId1"/>
          <a:stretch/>
        </p:blipFill>
        <p:spPr>
          <a:xfrm>
            <a:off x="4000680" y="3571920"/>
            <a:ext cx="4200480" cy="2863800"/>
          </a:xfrm>
          <a:prstGeom prst="rect">
            <a:avLst/>
          </a:prstGeom>
          <a:ln w="4428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mbria"/>
              </a:rPr>
              <a:t>ТИП 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По доминирующей в проекте деятельности: творческий, игр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По содержанию: педагогиче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По времени проведения: длительный, нереализова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mbria"/>
              </a:rPr>
              <a:t>ЗАДАЧИ ПРОЕКТНОЙ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28800" y="1785960"/>
            <a:ext cx="75722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cc"/>
                </a:solidFill>
                <a:latin typeface="Garamond"/>
              </a:rPr>
              <a:t>. Создать условия в группе для обогащения зрительного сенсорного опыта 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aramond"/>
              </a:rPr>
              <a:t>2. Использовать в совместной деятельности с детьми игры и упражнения, направленные на обогащение слухового, обонятельного, осязательного, тактильно-двигательного чувственного опыта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aramond"/>
              </a:rPr>
              <a:t>3. Повышать уровень знаний у родителей по сенсорному развитию и воспитанию до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mbria"/>
              </a:rPr>
              <a:t>ОЖИДАЕМЫЕ  РЕЗУЛЬТ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6760" y="928440"/>
            <a:ext cx="85726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aramond"/>
              </a:rPr>
              <a:t>Дети науча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aramond"/>
              </a:rPr>
              <a:t>группировать однородные предметы по нескольким сенсорным признакам: по цвету, форме, величи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aramond"/>
              </a:rPr>
              <a:t>соотносить разнородные предметы по цвету, форме, величине, факту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aramond"/>
              </a:rPr>
              <a:t>устанавливать тождества и различия предметов по их свойствам: величине, форме, цв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aramond"/>
              </a:rPr>
              <a:t>разным способам обследования предм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aramond"/>
              </a:rPr>
              <a:t>У детей обогатится чувственный опыт и умение фиксировать его в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mbria"/>
              </a:rPr>
              <a:t>ЭТА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Организационно-подготовительный (сентябр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Основной (октябрь  – апре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Заключительный (ма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9:04:30Z</dcterms:created>
  <dc:creator>Админ</dc:creator>
  <dc:description/>
  <dc:language>en-US</dc:language>
  <cp:lastModifiedBy>Сергей</cp:lastModifiedBy>
  <dcterms:modified xsi:type="dcterms:W3CDTF">2015-01-19T17:56:59Z</dcterms:modified>
  <cp:revision>97</cp:revision>
  <dc:subject/>
  <dc:title>Слайд 1</dc:title>
</cp:coreProperties>
</file>