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5FC-14AC-4B6E-ADBD-89460BEC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6B0-F647-4CF2-BC98-6360C489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B85-A511-42C0-8A14-CCB36458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E2D-84C7-411F-8D46-2799FC50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1445-8C2E-4970-9BB7-5E97FF5F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2E6F-F062-4BEB-B2A0-A80BE4CE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B9D5-57E6-4362-9715-69FC73BF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395-0591-479D-AD8D-95B1CF7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2AA-29C0-4001-9D75-3423F64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F517-3388-40AE-A039-77D540C1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72B6-6FB6-4F2D-8879-A04E86E9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BA5-FF85-4BED-838E-FB9A713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A8E-126A-4555-BCCE-76827E1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C1DF-95BC-4E61-B526-B04AFE6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D2CC-EC7E-4F5D-AFB9-9ADEFBF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5B6-27D5-449F-B45F-B3CB55FD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51F5-7B96-45FA-B822-E2ED5202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6ED-5D0F-4BA6-96EC-5504747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255-9431-4ABA-8887-9C15D600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544-F171-4969-9320-581193F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D21-65EA-4E5D-B684-DE200A48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29E-A23E-4154-BED9-E9F2FDD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B91-C073-4CEA-BE64-2154E7D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D0D-01B2-458F-8274-3FBCFCF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DEF6-58D0-4C3A-9153-D9A68397962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D723-0067-4016-87DB-BE74B969BEE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499920"/>
            <a:ext cx="6440400" cy="10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Вместе мы едины!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378040" y="5229360"/>
            <a:ext cx="37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БДОУ №42 г.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лена Викторовна Марк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9105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Times New Roman"/>
              </a:rPr>
              <a:t>Народы Поволжь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усск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та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уваш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рдв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арийц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зах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Башки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229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b200"/>
                </a:solidFill>
                <a:uFillTx/>
                <a:latin typeface="Comic Sans MS"/>
              </a:rPr>
              <a:t>Мордв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21311400">
            <a:off x="971280" y="1773000"/>
            <a:ext cx="2960640" cy="4433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279600">
            <a:off x="4211640" y="234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49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622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c0066"/>
                </a:solidFill>
                <a:uFillTx/>
                <a:latin typeface="Comic Sans MS"/>
              </a:rPr>
              <a:t>Татары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507000">
            <a:off x="4140360" y="1988640"/>
            <a:ext cx="5580000" cy="371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581280" cy="4775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77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392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b800"/>
                </a:solidFill>
                <a:uFillTx/>
                <a:latin typeface="Comic Sans MS"/>
              </a:rPr>
              <a:t>Чуваши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2065320" cy="3125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397800">
            <a:off x="4750920" y="148392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21390600">
            <a:off x="-324000" y="1700280"/>
            <a:ext cx="4104000" cy="307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859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838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Русск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908000" y="4149720"/>
            <a:ext cx="6624720" cy="254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4175280" cy="313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4903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24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974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9:08:33Z</dcterms:created>
  <dc:creator>user</dc:creator>
  <dc:description/>
  <dc:language>en-US</dc:language>
  <cp:lastModifiedBy>user</cp:lastModifiedBy>
  <dcterms:modified xsi:type="dcterms:W3CDTF">2015-01-18T21:04:22Z</dcterms:modified>
  <cp:revision>5</cp:revision>
  <dc:subject/>
  <dc:title>Вместе мы едины!</dc:title>
</cp:coreProperties>
</file>