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B2B-FE19-4432-885D-55FC07A6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18E-69A0-44B9-B30A-C75D3B40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EEC-1A4D-4B46-A0EF-2C54A454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860-1DFC-4F06-8122-7186EB9E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8A39-9D4F-4C51-BB3E-A1790AF4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3726-E27E-4B8F-85C3-882E85E9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656F-578B-4BA4-B758-60044B36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F6F6-E60C-4D69-889D-E1980BFF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46AF-F49C-4153-B48A-4D94F93C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A6FB-1C1C-41B4-8C02-21EE1EF9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CF41-395A-4465-8870-D9A8DBF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521-2E8E-4759-85C8-723A9CF7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B1F3-684E-4E14-9EFD-DC43ED9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FED5-FCC4-42DF-AE37-71C39330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B18-54B9-49CB-9514-187D87DA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1FF3-4D66-4CCC-BBF1-C31E2C5B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77DC-4905-43CC-B996-FF10B68C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58B57-A4DE-4553-884F-F6BE1A14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8665F-CBF0-4ED8-9CA1-6C7B44BE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AA095-0326-4956-84D9-00A4CA25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32109-89D6-4E5B-96A6-F943BEFA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EA577-40CD-4A56-8AEF-345581F9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2E5-6255-405B-BEDF-9FDF78B1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09D50-B959-4047-8160-14531B8A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3B5EF-0233-4E5E-A88E-37CAD0BB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1D579-0E9C-4B9E-ACDF-AF28A6CB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F7BA8-ACAA-4B97-A512-A5C1BF85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E02F4-78FF-466D-A073-43FD4E3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3E3F0-4476-4773-81EF-5E3E28CE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5FCC0-1AEF-441E-963F-41B1134D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61B6C-BC8F-43D4-B32D-5402C379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038F-3020-42E1-95B7-D8F1021A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9F018-E3B1-4DC1-ABBF-E2A38D08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F4F-CB52-4D1C-8522-F4D0CD23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75B21-9D3A-4D23-87DF-33D90FDB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ED06-A3AF-4C6A-B28E-CF1D47CA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85D5-2B35-4C77-9B89-143BF4CD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6EC9-CB69-41FF-9D99-38BA56F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5CFE-9842-4A76-9DB5-A1B48CA0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1848-51A0-4904-8DA0-5DBD38F7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0E14-3E16-472A-B592-F979136F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7640-070B-4F67-994E-29657406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F4AE2-9160-4BDA-8942-CC107109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95476-AD1A-448E-9702-B3F58E26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4C0-5499-4CEB-98B1-C9CDA30D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71D7B-2AAD-4E84-BE8A-6317C6FD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3A1B6-2E5D-4546-A737-1F3F14F6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90F06-3700-406C-B72C-232880F9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D1222-5ADC-429C-9602-150C5F2F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AE729-F9D3-4621-B598-D5EFDB5A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8D788-C6CF-4ADB-82FD-BB68012D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79277-9732-45CA-933D-7833422F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5822B-3F87-4108-B6B2-BAFC18EC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C87CC-B7D6-4246-BC32-4BDF9AB9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FA047-2C3B-4979-B410-75E00409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8C2-AFCA-4A6D-B1A8-FB42D892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E7C4B-25B3-4D54-B8D3-3288B87B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49318-0212-45EE-9588-6873FDD2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FF39F-07BB-4555-9B04-5E7589A6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1D871-4669-4906-85DC-EA913822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3B8ED-D16B-485B-B58B-A95707C1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EAF47-C952-4780-8D9F-26D1905C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C5412-C65D-4C55-A01B-E30381E2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3C8A8-9F3D-4B54-91C5-D9252154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8FDC8-D83D-4ED4-BC4F-F80385C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7A160-43CB-4596-810B-5813A921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851-AAD6-416E-8B5B-5F27874E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57A19-49D2-4952-ACBB-3E76BDB4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601C8-2514-4557-B76C-9A4F327D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C1ED1-F633-4CAB-AFF6-D847A07B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2D435-03F8-4E64-9DD6-F7F30411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11D71-6562-41DD-BDF0-ACB5DFAF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4DCC1-69F4-4891-B5AA-D9B3409F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33E3B-2200-419E-8210-5934DE2C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CF717-7541-437C-BC84-8B3FEAB2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0B763-CE66-4EBC-8422-93E88ED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FC00F-7053-45C9-829B-E0A5B64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CC1-8109-44C2-A554-D2906C8B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6C791-FCBE-42FC-A8BA-D7FD5C3E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42F26-88C6-4C69-A307-9C8C8916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FF685-8B97-4FA3-8A06-E376E3D3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D77AB-D61B-4844-8E1D-5FF73CE2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4BC83-296F-4B52-8540-F5ECC3F5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A47-22A0-4B32-A3CE-A1E3C0D8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39E-9B53-442E-BE0F-56B03AF1CA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48E5-556E-48CE-A4A1-F0CA0F8457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9EFA-4594-4BD3-97A8-20760A7539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9351-E4B9-4271-9656-920E0EA3E8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51F8-D2A4-4D62-99E3-6B4C100A90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543D-05FD-43DF-A05D-52CDD64505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3BC5-70AF-478A-B0FE-A8F4A12773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image" Target="../media/image12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Schoolbook"/>
              </a:rPr>
              <a:t>ВВЕДЕНИЕ ЛЕКСИКИ ПО ТЕМЕ </a:t>
            </a:r>
            <a:br>
              <a:rPr sz="3000"/>
            </a:br>
            <a:r>
              <a:rPr b="1" lang="ru-RU" sz="4000" spc="-1" strike="noStrike">
                <a:solidFill>
                  <a:srgbClr val="5a160b"/>
                </a:solidFill>
                <a:latin typeface="Century Schoolbook"/>
              </a:rPr>
              <a:t>« ВЫХОДНОЙ ДЕНЬ»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072040" y="3143160"/>
            <a:ext cx="338616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3e42"/>
                </a:solidFill>
                <a:latin typeface="Century Schoolbook"/>
              </a:rPr>
              <a:t>Выполнила: учитель немецкого языка МОУ « СОШ им. М.М.Рудченко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3e42"/>
                </a:solidFill>
                <a:latin typeface="Century Schoolbook"/>
              </a:rPr>
              <a:t>с. Перелюб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160b"/>
                </a:solidFill>
                <a:latin typeface="Century Schoolbook"/>
              </a:rPr>
              <a:t>Пискунова Лариса Александро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a160b"/>
                </a:solidFill>
                <a:latin typeface="Century Schoolbook"/>
              </a:rPr>
              <a:t>ЦЕЛЬ: </a:t>
            </a:r>
            <a:r>
              <a:rPr b="0" lang="ru-RU" sz="2400" spc="-1" strike="noStrike">
                <a:solidFill>
                  <a:srgbClr val="292400"/>
                </a:solidFill>
                <a:latin typeface="Century Schoolbook"/>
              </a:rPr>
              <a:t>ВЕСТИ НОВУЮ ЛЕКСИКУ ПО ТЕМЕ « ВЫХОДНОЙ ДЕНЬ»</a:t>
            </a:r>
            <a:br>
              <a:rPr sz="2400"/>
            </a:br>
            <a:br>
              <a:rPr sz="2400"/>
            </a:br>
            <a:r>
              <a:rPr b="1" lang="ru-RU" sz="3000" spc="-1" strike="noStrike">
                <a:solidFill>
                  <a:srgbClr val="5a160b"/>
                </a:solidFill>
                <a:latin typeface="Century Schoolbook"/>
              </a:rPr>
              <a:t>ЗАДАЧИ:</a:t>
            </a:r>
            <a:r>
              <a:rPr b="0" lang="ru-RU" sz="3000" spc="-1" strike="noStrike">
                <a:solidFill>
                  <a:srgbClr val="5a160b"/>
                </a:solidFill>
                <a:latin typeface="Century Schoolbook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292400"/>
                </a:solidFill>
                <a:latin typeface="Century Schoolbook"/>
              </a:rPr>
              <a:t>-</a:t>
            </a:r>
            <a:r>
              <a:rPr b="0" lang="ru-RU" sz="2400" spc="-1" strike="noStrike">
                <a:solidFill>
                  <a:srgbClr val="292400"/>
                </a:solidFill>
                <a:latin typeface="Century Schoolbook"/>
              </a:rPr>
              <a:t>ПОЗНАКОМИТЬ С НОВОЙ ЛЕКСИКОЙ ПО ТЕМЕ « ВЫХОДНОЙ ДЕНЬ»;</a:t>
            </a:r>
            <a:br>
              <a:rPr sz="2400"/>
            </a:br>
            <a:r>
              <a:rPr b="0" lang="ru-RU" sz="2400" spc="-1" strike="noStrike">
                <a:solidFill>
                  <a:srgbClr val="292400"/>
                </a:solidFill>
                <a:latin typeface="Century Schoolbook"/>
              </a:rPr>
              <a:t>- СОВЕРШЕНСТВОВАТЬ НАВЫК ГОВОРЕНИЯ; </a:t>
            </a:r>
            <a:br>
              <a:rPr sz="2400"/>
            </a:br>
            <a:r>
              <a:rPr b="0" lang="ru-RU" sz="2400" spc="-1" strike="noStrike">
                <a:solidFill>
                  <a:srgbClr val="292400"/>
                </a:solidFill>
                <a:latin typeface="Century Schoolbook"/>
              </a:rPr>
              <a:t>-УЧИТЬ СОСТАВЛЯТЬ ПРОСТЫЕ ПРЕДЛОЖЕНИЯ С НОВОЙ ЛЕКСИКОЙ;</a:t>
            </a:r>
            <a:br>
              <a:rPr sz="2400"/>
            </a:br>
            <a:r>
              <a:rPr b="0" lang="ru-RU" sz="2400" spc="-1" strike="noStrike">
                <a:solidFill>
                  <a:srgbClr val="292400"/>
                </a:solidFill>
                <a:latin typeface="Century Schoolbook"/>
              </a:rPr>
              <a:t> -ПОВТОРИТЬ РЕЧЕВОЙ ОБРАЗЕЦ С ВОПРОСОМ </a:t>
            </a:r>
            <a:r>
              <a:rPr b="0" lang="de-DE" sz="2400" spc="-1" strike="noStrike">
                <a:solidFill>
                  <a:srgbClr val="292400"/>
                </a:solidFill>
                <a:latin typeface="Century Schoolbook"/>
              </a:rPr>
              <a:t>WOHIN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?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e636"/>
                </a:solidFill>
                <a:latin typeface="Century Schoolbook"/>
              </a:rPr>
              <a:t>„</a:t>
            </a:r>
            <a:r>
              <a:rPr b="1" lang="de-DE" sz="3200" spc="-1" strike="noStrike">
                <a:solidFill>
                  <a:srgbClr val="ffe636"/>
                </a:solidFill>
                <a:latin typeface="Century Schoolbook"/>
              </a:rPr>
              <a:t>LAURENCIA“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entury Schoolbook"/>
              </a:rPr>
              <a:t>Laurencia liebe, Laurencia mein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entury Schoolbook"/>
              </a:rPr>
              <a:t>Wan werden wir wie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entury Schoolbook"/>
              </a:rPr>
              <a:t>Beisammen sein ? -Am Montag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entury Schoolbook"/>
              </a:rPr>
              <a:t>-Am Dienstag,( am Mittwoch, am Donnerstag, am Freitag, am Samstag, am Sonntag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entury Schoolbook"/>
              </a:rPr>
              <a:t>Ach, wenn es doch bald wieder Montag (…) wär‘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entury Schoolbook"/>
              </a:rPr>
              <a:t>Und ich bei meiner Laurencia wär`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entury Schoolbook"/>
              </a:rPr>
              <a:t>Laurencia wär`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4" descr=""/>
          <p:cNvPicPr/>
          <p:nvPr/>
        </p:nvPicPr>
        <p:blipFill>
          <a:blip r:embed="rId1"/>
          <a:stretch/>
        </p:blipFill>
        <p:spPr>
          <a:xfrm>
            <a:off x="281160" y="853920"/>
            <a:ext cx="8081640" cy="313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714240" y="285840"/>
            <a:ext cx="214344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as Schwimm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3357720" y="285840"/>
            <a:ext cx="200016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ie Ausst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5857920" y="285840"/>
            <a:ext cx="128592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er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6000840" y="5572080"/>
            <a:ext cx="135720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as T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3786120" y="3857760"/>
            <a:ext cx="134316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ie Frei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6"/>
          <p:cNvSpPr/>
          <p:nvPr/>
        </p:nvSpPr>
        <p:spPr>
          <a:xfrm>
            <a:off x="1143000" y="5643720"/>
            <a:ext cx="142884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as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6357960" y="4357800"/>
            <a:ext cx="2033640" cy="1285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3"/>
          <a:stretch/>
        </p:blipFill>
        <p:spPr>
          <a:xfrm>
            <a:off x="6500880" y="100008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4"/>
          <a:stretch/>
        </p:blipFill>
        <p:spPr>
          <a:xfrm>
            <a:off x="3286080" y="1071720"/>
            <a:ext cx="2209680" cy="1643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5"/>
          <a:stretch/>
        </p:blipFill>
        <p:spPr>
          <a:xfrm>
            <a:off x="285840" y="3929040"/>
            <a:ext cx="2214360" cy="1812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6"/>
          <a:stretch/>
        </p:blipFill>
        <p:spPr>
          <a:xfrm>
            <a:off x="3214800" y="4643280"/>
            <a:ext cx="1334880" cy="890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"/>
          <p:cNvPicPr/>
          <p:nvPr/>
        </p:nvPicPr>
        <p:blipFill>
          <a:blip r:embed="rId7"/>
          <a:stretch/>
        </p:blipFill>
        <p:spPr>
          <a:xfrm>
            <a:off x="4929120" y="3214800"/>
            <a:ext cx="1143000" cy="949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"/>
          <p:cNvPicPr/>
          <p:nvPr/>
        </p:nvPicPr>
        <p:blipFill>
          <a:blip r:embed="rId8"/>
          <a:stretch/>
        </p:blipFill>
        <p:spPr>
          <a:xfrm>
            <a:off x="2571840" y="3000240"/>
            <a:ext cx="1428840" cy="1071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642960" y="357120"/>
            <a:ext cx="214308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as Schwimmbad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-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3"/>
          <p:cNvSpPr/>
          <p:nvPr/>
        </p:nvSpPr>
        <p:spPr>
          <a:xfrm>
            <a:off x="3357720" y="285840"/>
            <a:ext cx="200016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ie Ausstellung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- выст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3286080" y="1143000"/>
            <a:ext cx="2209680" cy="16430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5"/>
          <p:cNvSpPr/>
          <p:nvPr/>
        </p:nvSpPr>
        <p:spPr>
          <a:xfrm>
            <a:off x="5857920" y="357120"/>
            <a:ext cx="128592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er Zoo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- зоо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6572160" y="1143000"/>
            <a:ext cx="2095560" cy="157176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7"/>
          <p:cNvSpPr/>
          <p:nvPr/>
        </p:nvSpPr>
        <p:spPr>
          <a:xfrm>
            <a:off x="1214280" y="5572080"/>
            <a:ext cx="142884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as Museum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-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6" descr=""/>
          <p:cNvPicPr/>
          <p:nvPr/>
        </p:nvPicPr>
        <p:blipFill>
          <a:blip r:embed="rId4"/>
          <a:stretch/>
        </p:blipFill>
        <p:spPr>
          <a:xfrm>
            <a:off x="285840" y="3786120"/>
            <a:ext cx="2214360" cy="18129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9"/>
          <p:cNvSpPr/>
          <p:nvPr/>
        </p:nvSpPr>
        <p:spPr>
          <a:xfrm>
            <a:off x="5572080" y="5429160"/>
            <a:ext cx="135720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as Theater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-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5"/>
          <a:stretch/>
        </p:blipFill>
        <p:spPr>
          <a:xfrm>
            <a:off x="6286680" y="4214880"/>
            <a:ext cx="2033280" cy="128592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1"/>
          <p:cNvSpPr/>
          <p:nvPr/>
        </p:nvSpPr>
        <p:spPr>
          <a:xfrm>
            <a:off x="3786120" y="3786120"/>
            <a:ext cx="1428840" cy="1143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Schoolbook"/>
              </a:rPr>
              <a:t>Die Freizeit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- свободн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6"/>
          <a:stretch/>
        </p:blipFill>
        <p:spPr>
          <a:xfrm>
            <a:off x="2643120" y="300024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7"/>
          <a:stretch/>
        </p:blipFill>
        <p:spPr>
          <a:xfrm>
            <a:off x="2928960" y="4929120"/>
            <a:ext cx="1335240" cy="890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"/>
          <p:cNvPicPr/>
          <p:nvPr/>
        </p:nvPicPr>
        <p:blipFill>
          <a:blip r:embed="rId8"/>
          <a:stretch/>
        </p:blipFill>
        <p:spPr>
          <a:xfrm>
            <a:off x="5143680" y="3214800"/>
            <a:ext cx="1143000" cy="9493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285640" y="714240"/>
            <a:ext cx="61722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e636"/>
                </a:solidFill>
                <a:uFillTx/>
                <a:latin typeface="Century Schoolbook"/>
              </a:rPr>
              <a:t>Die</a:t>
            </a:r>
            <a:r>
              <a:rPr b="1" lang="de-DE" sz="1800" spc="-1" strike="noStrike">
                <a:solidFill>
                  <a:srgbClr val="ffe636"/>
                </a:solidFill>
                <a:latin typeface="Century Schoolbook"/>
              </a:rPr>
              <a:t> Schule            </a:t>
            </a:r>
            <a:r>
              <a:rPr b="1" lang="de-DE" sz="1800" spc="-1" strike="noStrike">
                <a:solidFill>
                  <a:srgbClr val="2c3036"/>
                </a:solidFill>
                <a:latin typeface="Century Schoolbook"/>
              </a:rPr>
              <a:t>Wohin?           </a:t>
            </a:r>
            <a:r>
              <a:rPr b="1" lang="de-DE" sz="1800" spc="-1" strike="noStrike" u="sng">
                <a:solidFill>
                  <a:srgbClr val="ffe636"/>
                </a:solidFill>
                <a:uFillTx/>
                <a:latin typeface="Century Schoolbook"/>
              </a:rPr>
              <a:t>In die </a:t>
            </a:r>
            <a:r>
              <a:rPr b="1" lang="de-DE" sz="1800" spc="-1" strike="noStrike">
                <a:solidFill>
                  <a:srgbClr val="ffe636"/>
                </a:solidFill>
                <a:latin typeface="Century Schoolbook"/>
              </a:rPr>
              <a:t>Schu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e636"/>
                </a:solidFill>
                <a:uFillTx/>
                <a:latin typeface="Century Schoolbook"/>
              </a:rPr>
              <a:t>Die</a:t>
            </a:r>
            <a:r>
              <a:rPr b="1" lang="de-DE" sz="1800" spc="-1" strike="noStrike">
                <a:solidFill>
                  <a:srgbClr val="ffe636"/>
                </a:solidFill>
                <a:latin typeface="Century Schoolbook"/>
              </a:rPr>
              <a:t> Ausstellung    </a:t>
            </a:r>
            <a:r>
              <a:rPr b="1" lang="de-DE" sz="1800" spc="-1" strike="noStrike">
                <a:solidFill>
                  <a:srgbClr val="2c3036"/>
                </a:solidFill>
                <a:latin typeface="Century Schoolbook"/>
              </a:rPr>
              <a:t>Wohin?</a:t>
            </a:r>
            <a:r>
              <a:rPr b="1" lang="de-DE" sz="1800" spc="-1" strike="noStrike">
                <a:solidFill>
                  <a:srgbClr val="ffe636"/>
                </a:solidFill>
                <a:latin typeface="Century Schoolbook"/>
              </a:rPr>
              <a:t>          </a:t>
            </a:r>
            <a:r>
              <a:rPr b="1" lang="de-DE" sz="1800" spc="-1" strike="noStrike" u="sng">
                <a:solidFill>
                  <a:srgbClr val="ffe636"/>
                </a:solidFill>
                <a:uFillTx/>
                <a:latin typeface="Century Schoolbook"/>
              </a:rPr>
              <a:t>In die </a:t>
            </a:r>
            <a:r>
              <a:rPr b="1" lang="de-DE" sz="1800" spc="-1" strike="noStrike">
                <a:solidFill>
                  <a:srgbClr val="ffe636"/>
                </a:solidFill>
                <a:latin typeface="Century Schoolbook"/>
              </a:rPr>
              <a:t>Ausstellu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862110"/>
                </a:solidFill>
                <a:uFillTx/>
                <a:latin typeface="Century Schoolbook"/>
              </a:rPr>
              <a:t>Das</a:t>
            </a:r>
            <a:r>
              <a:rPr b="1" lang="de-DE" sz="1800" spc="-1" strike="noStrike">
                <a:solidFill>
                  <a:srgbClr val="862110"/>
                </a:solidFill>
                <a:latin typeface="Century Schoolbook"/>
              </a:rPr>
              <a:t> Kino                 </a:t>
            </a:r>
            <a:r>
              <a:rPr b="1" lang="de-DE" sz="1800" spc="-1" strike="noStrike">
                <a:solidFill>
                  <a:srgbClr val="2c3036"/>
                </a:solidFill>
                <a:latin typeface="Century Schoolbook"/>
              </a:rPr>
              <a:t>Wohin?         </a:t>
            </a:r>
            <a:r>
              <a:rPr b="1" lang="de-DE" sz="1800" spc="-1" strike="noStrike" u="sng">
                <a:solidFill>
                  <a:srgbClr val="862110"/>
                </a:solidFill>
                <a:uFillTx/>
                <a:latin typeface="Century Schoolbook"/>
              </a:rPr>
              <a:t>In das (ins) </a:t>
            </a:r>
            <a:r>
              <a:rPr b="1" lang="de-DE" sz="1800" spc="-1" strike="noStrike">
                <a:solidFill>
                  <a:srgbClr val="862110"/>
                </a:solidFill>
                <a:latin typeface="Century Schoolbook"/>
              </a:rPr>
              <a:t>Ki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862110"/>
                </a:solidFill>
                <a:uFillTx/>
                <a:latin typeface="Century Schoolbook"/>
              </a:rPr>
              <a:t>Das</a:t>
            </a:r>
            <a:r>
              <a:rPr b="1" lang="de-DE" sz="1800" spc="-1" strike="noStrike">
                <a:solidFill>
                  <a:srgbClr val="862110"/>
                </a:solidFill>
                <a:latin typeface="Century Schoolbook"/>
              </a:rPr>
              <a:t> Theater           </a:t>
            </a:r>
            <a:r>
              <a:rPr b="1" lang="de-DE" sz="1800" spc="-1" strike="noStrike">
                <a:solidFill>
                  <a:srgbClr val="2c3036"/>
                </a:solidFill>
                <a:latin typeface="Century Schoolbook"/>
              </a:rPr>
              <a:t>Wohin?         </a:t>
            </a:r>
            <a:r>
              <a:rPr b="1" lang="de-DE" sz="1800" spc="-1" strike="noStrike" u="sng">
                <a:solidFill>
                  <a:srgbClr val="862110"/>
                </a:solidFill>
                <a:uFillTx/>
                <a:latin typeface="Century Schoolbook"/>
              </a:rPr>
              <a:t>In das (ins) </a:t>
            </a:r>
            <a:r>
              <a:rPr b="1" lang="de-DE" sz="1800" spc="-1" strike="noStrike">
                <a:solidFill>
                  <a:srgbClr val="862110"/>
                </a:solidFill>
                <a:latin typeface="Century Schoolbook"/>
              </a:rPr>
              <a:t>The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b050"/>
                </a:solidFill>
                <a:uFillTx/>
                <a:latin typeface="Century Schoolbook"/>
              </a:rPr>
              <a:t>Der</a:t>
            </a:r>
            <a:r>
              <a:rPr b="1" lang="de-DE" sz="1800" spc="-1" strike="noStrike">
                <a:solidFill>
                  <a:srgbClr val="00b050"/>
                </a:solidFill>
                <a:latin typeface="Century Schoolbook"/>
              </a:rPr>
              <a:t> Park                  </a:t>
            </a:r>
            <a:r>
              <a:rPr b="1" lang="de-DE" sz="1800" spc="-1" strike="noStrike">
                <a:solidFill>
                  <a:srgbClr val="2c3036"/>
                </a:solidFill>
                <a:latin typeface="Century Schoolbook"/>
              </a:rPr>
              <a:t>Wohin?         </a:t>
            </a:r>
            <a:r>
              <a:rPr b="1" lang="de-DE" sz="1800" spc="-1" strike="noStrike" u="sng">
                <a:solidFill>
                  <a:srgbClr val="00b050"/>
                </a:solidFill>
                <a:uFillTx/>
                <a:latin typeface="Century Schoolbook"/>
              </a:rPr>
              <a:t>In den </a:t>
            </a:r>
            <a:r>
              <a:rPr b="1" lang="de-DE" sz="1800" spc="-1" strike="noStrike">
                <a:solidFill>
                  <a:srgbClr val="00b050"/>
                </a:solidFill>
                <a:latin typeface="Century Schoolbook"/>
              </a:rPr>
              <a:t>Par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b050"/>
                </a:solidFill>
                <a:uFillTx/>
                <a:latin typeface="Century Schoolbook"/>
              </a:rPr>
              <a:t>Der</a:t>
            </a:r>
            <a:r>
              <a:rPr b="1" lang="de-DE" sz="1800" spc="-1" strike="noStrike">
                <a:solidFill>
                  <a:srgbClr val="00b050"/>
                </a:solidFill>
                <a:latin typeface="Century Schoolbook"/>
              </a:rPr>
              <a:t> Zoo                     </a:t>
            </a:r>
            <a:r>
              <a:rPr b="1" lang="de-DE" sz="1800" spc="-1" strike="noStrike">
                <a:solidFill>
                  <a:srgbClr val="2c3036"/>
                </a:solidFill>
                <a:latin typeface="Century Schoolbook"/>
              </a:rPr>
              <a:t>Wohin?         </a:t>
            </a:r>
            <a:r>
              <a:rPr b="1" lang="de-DE" sz="1800" spc="-1" strike="noStrike" u="sng">
                <a:solidFill>
                  <a:srgbClr val="00b050"/>
                </a:solidFill>
                <a:uFillTx/>
                <a:latin typeface="Century Schoolbook"/>
              </a:rPr>
              <a:t>In den </a:t>
            </a:r>
            <a:r>
              <a:rPr b="1" lang="de-DE" sz="1800" spc="-1" strike="noStrike">
                <a:solidFill>
                  <a:srgbClr val="00b050"/>
                </a:solidFill>
                <a:latin typeface="Century Schoolbook"/>
              </a:rPr>
              <a:t>Zoo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285640" y="635040"/>
            <a:ext cx="6172200" cy="55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e636"/>
                </a:solidFill>
                <a:latin typeface="Century Schoolbook"/>
              </a:rPr>
              <a:t>Ich gehe in …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                                                     </a:t>
            </a: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die Ausstell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                                       </a:t>
            </a: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der H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das Schwimmb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                                       </a:t>
            </a: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der Zo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                                              </a:t>
            </a: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das Thea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                                                 </a:t>
            </a: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die Biblioth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                                         </a:t>
            </a: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das Ki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                                                </a:t>
            </a: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das Muse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                                                  </a:t>
            </a:r>
            <a:r>
              <a:rPr b="1" lang="de-DE" sz="2400" spc="-1" strike="noStrike">
                <a:solidFill>
                  <a:srgbClr val="002060"/>
                </a:solidFill>
                <a:latin typeface="Arial Narrow"/>
              </a:rPr>
              <a:t>die Sporthal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428760" y="4214880"/>
            <a:ext cx="62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http://equelite.my1.ru/photo/2-0-42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357120" y="535788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www.psksu.ru/page/index/3424/page/292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5"/>
          <p:cNvSpPr/>
          <p:nvPr/>
        </p:nvSpPr>
        <p:spPr>
          <a:xfrm>
            <a:off x="513720" y="2357280"/>
            <a:ext cx="43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rusarch.ru/attn_museums3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6"/>
          <p:cNvSpPr/>
          <p:nvPr/>
        </p:nvSpPr>
        <p:spPr>
          <a:xfrm>
            <a:off x="516960" y="278604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erm.rfn.ru/region.html?rid=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8"/>
          <p:cNvSpPr/>
          <p:nvPr/>
        </p:nvSpPr>
        <p:spPr>
          <a:xfrm>
            <a:off x="500040" y="371484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igyalta.info/sights/index.php?show=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9"/>
          <p:cNvSpPr/>
          <p:nvPr/>
        </p:nvSpPr>
        <p:spPr>
          <a:xfrm>
            <a:off x="520920" y="314316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kp.ru/daily/24452/61687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428760" y="4786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odybuild.ru/page,12,foto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357120" y="8334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.Л.Бим, Л.И.Рыжова Немецкий язык. Первые шаги.Учебник для 4 класса.Москва Просвещение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5:55:32Z</dcterms:created>
  <dc:creator>Admin</dc:creator>
  <dc:description/>
  <dc:language>en-US</dc:language>
  <cp:lastModifiedBy>Admin</cp:lastModifiedBy>
  <dcterms:modified xsi:type="dcterms:W3CDTF">2011-10-19T17:27:06Z</dcterms:modified>
  <cp:revision>13</cp:revision>
  <dc:subject/>
  <dc:title>ВВЕДЕНИЕ ЛЕКСИКИ ПО ТЕМЕ  « Выходной день».</dc:title>
</cp:coreProperties>
</file>