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lying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flying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7748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Исследуем и познаём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роект на тему: </a:t>
            </a:r>
            <a:br>
              <a:rPr sz="4400"/>
            </a:b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«Нас магнит своими тайнами мани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995640" y="4149360"/>
            <a:ext cx="39211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Группа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1-2 классов МБОУ ФНОШ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Руководитель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Учитель Азарова Наталья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Цель: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исследовав предметы вокруг, раскрыть тайны и свойства маг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99640" y="3284640"/>
            <a:ext cx="779796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изучить свойства маг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узнать, где при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создать под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35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оверив силу притяжения, мы узнали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179280" y="2906640"/>
            <a:ext cx="8856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магниты с разными полюсами притягиваются, с разными – отталкивают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олшебные металлические уз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IMG_0502"/>
          <p:cNvPicPr/>
          <p:nvPr/>
        </p:nvPicPr>
        <p:blipFill>
          <a:blip r:embed="rId1"/>
          <a:stretch/>
        </p:blipFill>
        <p:spPr>
          <a:xfrm>
            <a:off x="4923000" y="1700280"/>
            <a:ext cx="3795480" cy="4697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66" name="Rectangle 11"/>
          <p:cNvSpPr/>
          <p:nvPr/>
        </p:nvSpPr>
        <p:spPr>
          <a:xfrm>
            <a:off x="395280" y="1557360"/>
            <a:ext cx="388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гнит способен передвигать металлические предметы через бумагу и стек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агнит находим и в быт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0_7c4e_3391103b_XL"/>
          <p:cNvPicPr/>
          <p:nvPr/>
        </p:nvPicPr>
        <p:blipFill>
          <a:blip r:embed="rId1"/>
          <a:stretch/>
        </p:blipFill>
        <p:spPr>
          <a:xfrm>
            <a:off x="2043000" y="1200240"/>
            <a:ext cx="5281560" cy="3960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69" name="Rectangle 9"/>
          <p:cNvSpPr/>
          <p:nvPr/>
        </p:nvSpPr>
        <p:spPr>
          <a:xfrm>
            <a:off x="255600" y="5445000"/>
            <a:ext cx="885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гнитная азбука. Компас, весы, сувениры – это всё магниты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5" descr="электромагнит"/>
          <p:cNvPicPr/>
          <p:nvPr/>
        </p:nvPicPr>
        <p:blipFill>
          <a:blip r:embed="rId1"/>
          <a:stretch/>
        </p:blipFill>
        <p:spPr>
          <a:xfrm>
            <a:off x="1979640" y="774720"/>
            <a:ext cx="4537080" cy="604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 в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8505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 магнитом –оказывается- можно делать много поделок – сувениры, календари, открытк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9:24:20Z</dcterms:created>
  <dc:creator>Admin</dc:creator>
  <dc:description/>
  <dc:language>en-US</dc:language>
  <cp:lastModifiedBy>Frost</cp:lastModifiedBy>
  <dcterms:modified xsi:type="dcterms:W3CDTF">2015-01-20T05:05:50Z</dcterms:modified>
  <cp:revision>13</cp:revision>
  <dc:subject/>
  <dc:title>Слайд 1</dc:title>
</cp:coreProperties>
</file>