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7346-26DC-48FA-B8E5-D1F549D3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891F-57B8-49AC-951D-86D5F439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C7A6-58AE-45B9-BC2C-53076669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86FA-9FF2-416F-9D7B-0D2A0670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4A73-1A9C-4D79-BF29-8EBD1371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0FA1-6379-4F42-80EB-F96D000F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BB2D-13FB-4792-B180-EF14ACD5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115E-4A55-424F-AC0E-8BB0B677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046B-635C-4A2B-819A-41932C9E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3191-96A5-42D3-BC2A-E10461EC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1477-3697-4E7F-9F52-CEFB5CF5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E537-23BD-4FF6-BA9F-63F7780A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1222-7431-4F53-9B0D-E0647CC6C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0a31c37ba52fc472c1c218d00c0c07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5105520" cy="340344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809880" y="3200400"/>
            <a:ext cx="5105520" cy="3403440"/>
          </a:xfrm>
          <a:prstGeom prst="rect">
            <a:avLst/>
          </a:prstGeom>
          <a:ln w="38160">
            <a:solidFill>
              <a:srgbClr val="66ff33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380880" y="2590920"/>
            <a:ext cx="2590920" cy="916920"/>
          </a:xfrm>
          <a:prstGeom prst="rect">
            <a:avLst/>
          </a:prstGeom>
          <a:solidFill>
            <a:srgbClr val="ff99cc"/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Зимняя сказ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тво семь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ёна Песн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86200" y="5562720"/>
            <a:ext cx="2971800" cy="916920"/>
          </a:xfrm>
          <a:prstGeom prst="rect">
            <a:avLst/>
          </a:prstGeom>
          <a:solidFill>
            <a:srgbClr val="ff99cc"/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омик Снегов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тво семь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лерии Мамедалие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4" descr="0a31c37ba52fc472c1c218d00c0c07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7200" y="2057400"/>
            <a:ext cx="8381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0033cc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1" lang="en-US" sz="1800" spc="1" strike="noStrike">
              <a:ln w="57240">
                <a:solidFill>
                  <a:srgbClr val="0033cc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4" descr="0a31c37ba52fc472c1c218d00c0c07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76520" y="1828800"/>
            <a:ext cx="6476760" cy="1557000"/>
          </a:xfrm>
          <a:prstGeom prst="rect">
            <a:avLst/>
          </a:prstGeom>
          <a:solidFill>
            <a:srgbClr val="ff99cc"/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должение 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ВОРЧЕСКИХ РАБОТ ДЕТЕЙ, ВЫПОЛНЕННЫХ СОВМЕСТНО С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93960" y="5562720"/>
            <a:ext cx="4248360" cy="916920"/>
          </a:xfrm>
          <a:prstGeom prst="rect">
            <a:avLst/>
          </a:prstGeom>
          <a:solidFill>
            <a:srgbClr val="00ffff"/>
          </a:solidFill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и 2 младшей группы «Лебёду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БДОУ д/с «Ягод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питатель: А.Ф.Горел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4" descr="0a31c37ba52fc472c1c218d00c0c07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rot="20967600">
            <a:off x="609480" y="1066320"/>
            <a:ext cx="5181840" cy="3454560"/>
          </a:xfrm>
          <a:prstGeom prst="rect">
            <a:avLst/>
          </a:prstGeom>
          <a:ln w="38160">
            <a:solidFill>
              <a:srgbClr val="9900ff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 rot="387600">
            <a:off x="4800240" y="457200"/>
            <a:ext cx="3784680" cy="5676840"/>
          </a:xfrm>
          <a:prstGeom prst="rect">
            <a:avLst/>
          </a:prstGeom>
          <a:ln w="57240">
            <a:solidFill>
              <a:srgbClr val="ffffcc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2001600" y="5486400"/>
            <a:ext cx="2274840" cy="6426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ворчество семь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ниила Андрее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4" descr="0a31c37ba52fc472c1c218d00c0c07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 rot="334800">
            <a:off x="2819160" y="685800"/>
            <a:ext cx="5613120" cy="4210200"/>
          </a:xfrm>
          <a:prstGeom prst="rect">
            <a:avLst/>
          </a:prstGeom>
          <a:ln w="57240">
            <a:solidFill>
              <a:srgbClr val="0033cc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3">
            <a:lum bright="12000"/>
          </a:blip>
          <a:srcRect l="54771" t="36897" r="22898" b="24529"/>
          <a:stretch/>
        </p:blipFill>
        <p:spPr>
          <a:xfrm rot="20786400">
            <a:off x="609480" y="1294920"/>
            <a:ext cx="1420920" cy="3268800"/>
          </a:xfrm>
          <a:prstGeom prst="rect">
            <a:avLst/>
          </a:prstGeom>
          <a:ln w="57240">
            <a:solidFill>
              <a:srgbClr val="ffff66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1447920" y="5257800"/>
            <a:ext cx="3217680" cy="916920"/>
          </a:xfrm>
          <a:prstGeom prst="rect">
            <a:avLst/>
          </a:prstGeom>
          <a:solidFill>
            <a:srgbClr val="ff99cc"/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олшебная ниточ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тво семь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стасии Балаган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4" descr="0a31c37ba52fc472c1c218d00c0c07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 rot="21360600">
            <a:off x="228240" y="1066320"/>
            <a:ext cx="4800600" cy="3600720"/>
          </a:xfrm>
          <a:prstGeom prst="rect">
            <a:avLst/>
          </a:prstGeom>
          <a:ln w="57240">
            <a:solidFill>
              <a:srgbClr val="ffff66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 rot="565800">
            <a:off x="4800240" y="685440"/>
            <a:ext cx="3720960" cy="5581800"/>
          </a:xfrm>
          <a:prstGeom prst="rect">
            <a:avLst/>
          </a:prstGeom>
          <a:ln w="57240">
            <a:solidFill>
              <a:srgbClr val="9900ff"/>
            </a:solidFill>
            <a:miter/>
          </a:ln>
        </p:spPr>
      </p:pic>
      <p:sp>
        <p:nvSpPr>
          <p:cNvPr id="60" name=""/>
          <p:cNvSpPr/>
          <p:nvPr/>
        </p:nvSpPr>
        <p:spPr>
          <a:xfrm rot="21184200">
            <a:off x="1213920" y="5017680"/>
            <a:ext cx="2809800" cy="916920"/>
          </a:xfrm>
          <a:prstGeom prst="rect">
            <a:avLst/>
          </a:prstGeom>
          <a:solidFill>
            <a:srgbClr val="ff99cc"/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Прянички на ёлочк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ворчество семь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ниила Андре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4" descr="0a31c37ba52fc472c1c218d00c0c07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28600" y="457200"/>
            <a:ext cx="3962520" cy="5943600"/>
          </a:xfrm>
          <a:prstGeom prst="rect">
            <a:avLst/>
          </a:prstGeom>
          <a:ln w="57240">
            <a:solidFill>
              <a:srgbClr val="ffff6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4419720" y="457200"/>
            <a:ext cx="4462200" cy="594360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286000" y="6324480"/>
            <a:ext cx="4038480" cy="368280"/>
          </a:xfrm>
          <a:prstGeom prst="rect">
            <a:avLst/>
          </a:prstGeom>
          <a:solidFill>
            <a:srgbClr val="ff99cc"/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лективные работы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3720" y="609480"/>
            <a:ext cx="2826360" cy="368280"/>
          </a:xfrm>
          <a:prstGeom prst="rect">
            <a:avLst/>
          </a:prstGeom>
          <a:solidFill>
            <a:srgbClr val="00ff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Дело было в январе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7280" y="609480"/>
            <a:ext cx="2672640" cy="368280"/>
          </a:xfrm>
          <a:prstGeom prst="rect">
            <a:avLst/>
          </a:prstGeom>
          <a:solidFill>
            <a:srgbClr val="00ff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Путешествие Умки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4" descr="0a31c37ba52fc472c1c218d00c0c07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762120" y="304920"/>
            <a:ext cx="7619760" cy="5715000"/>
          </a:xfrm>
          <a:prstGeom prst="rect">
            <a:avLst/>
          </a:prstGeom>
          <a:ln w="38160">
            <a:solidFill>
              <a:srgbClr val="66ff33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162440" y="6248520"/>
            <a:ext cx="6476400" cy="368280"/>
          </a:xfrm>
          <a:prstGeom prst="rect">
            <a:avLst/>
          </a:prstGeom>
          <a:solidFill>
            <a:srgbClr val="00ff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лективные работы детей: «Чудо - ёлочки», «Лошад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4" descr="0a31c37ba52fc472c1c218d00c0c07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762120" y="888840"/>
            <a:ext cx="7619760" cy="508032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316520" y="6095880"/>
            <a:ext cx="6566400" cy="368280"/>
          </a:xfrm>
          <a:prstGeom prst="rect">
            <a:avLst/>
          </a:prstGeom>
          <a:solidFill>
            <a:srgbClr val="00ff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лективные работы: «Барашки», «Ёлочки», «Снегови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4" descr="0a31c37ba52fc472c1c218d00c0c0796.jpg"/>
          <p:cNvPicPr/>
          <p:nvPr/>
        </p:nvPicPr>
        <p:blipFill>
          <a:blip r:embed="rId1"/>
          <a:stretch/>
        </p:blipFill>
        <p:spPr>
          <a:xfrm>
            <a:off x="-2286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38080" y="380880"/>
            <a:ext cx="7620120" cy="507996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2661840" y="5715000"/>
            <a:ext cx="3774240" cy="7038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Лошадка» – уходящий го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 ним барашек вслед идё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0T04:46:58Z</dcterms:created>
  <dc:creator>Администратор</dc:creator>
  <dc:description/>
  <dc:language>en-US</dc:language>
  <cp:lastModifiedBy>DNA7 X86</cp:lastModifiedBy>
  <dcterms:modified xsi:type="dcterms:W3CDTF">2015-01-20T04:49:4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