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830-F1C4-4C8D-BDF3-14C6D94FD4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2960-C63C-42E1-B47E-74F83904DE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120-286C-4130-9787-FBFB335496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6D9-F93A-453A-8D66-5E76C5D8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6CD-8048-4649-B7A7-68FF3BB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8D6-5211-4956-B2A7-C7BD58BB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8A4-E006-4A21-8097-606FF0D9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964-4C73-40D1-B7A7-B546A5FC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428C-FE0F-4961-8D2E-F98CB18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E63B-34BF-4930-A790-615868E8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761-764D-4574-A96E-931B69C2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2A2-52FB-4D58-BC52-E3ED04E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B93A-2885-4F61-B1B7-C911813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F6C5-4EBC-4647-84E2-7AA5CA0D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92D-293B-4C90-B845-6760E948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F74-A49D-4319-B09E-3A1C747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23B-54AF-4972-AA71-0BB154C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FA10-8287-4D6A-B3A8-E2EADBF1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5C11-EDBE-4F62-9A8D-6B8C616F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A15E-B45F-482C-9628-4E19369E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96D7-2D6F-4C8C-A622-C01CD8A2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D23D-D740-41A1-A8CE-7CF87493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7E7D-14D4-4F4B-B373-891FA1E2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35AD-25C1-46F8-9224-9063048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D664-1F2F-43A0-8C2E-283735D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CCB-41A2-43B8-974E-4E0F4C0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9B23-73FE-4C65-B243-F43646E0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EAF6-96A0-40D0-AE70-CF054DE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C821-4172-4F02-A94D-07DA3E9B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AE9E-81ED-476A-838B-B8882A7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5D55-6F0B-492D-A1F6-7EABB6C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60F6-6B3A-4A18-ABEF-445B1C81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B8A0-E4E1-4B96-B49B-B667C504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F3DE-16EA-45D9-9AD0-E4898FE9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F9EF-35F7-443F-BAD0-DD1DE2F8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F4FC-814A-4CE7-A1D6-D81D909A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D82-36F6-4048-A482-18DDE54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13E9-7C62-4B88-ADB0-2280A798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B00E-84DD-44D6-9EC2-B007EB11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CCAF-0F25-4637-BB5E-1FDD8A4B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74EB-A897-412A-B692-BB12EF8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060A-AC1A-4AEB-BAC7-9CA63F7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DB5F-5D03-47A1-9847-F394968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569D-8C6C-458E-BF71-17A6E46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A3FE-9E62-4CC3-8DCB-8D8DA740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17B3-2018-4330-9ED0-57BD7AB1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F5FF-C345-4B45-9C96-E0C6DDAA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C78-9600-46C6-A2B7-CE0F212C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5C39-71FA-4818-AAE5-24D2B1FB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C387A-5EC1-41FC-8FC7-D5296414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77BEF-188C-4194-BB4E-EF2B7B39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CFF1-4C68-43A1-B8C8-8D89BCFB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ECA04-E038-4023-93A4-BD88140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917A-061B-44AB-A8F1-CF13577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0EAB0-525E-43B4-96FE-ADDED95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AAE2C-C34E-40DA-AAB8-2ACD5DD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4890-ECE0-4159-A60A-E6373232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DE149-F0FB-41E4-B7E6-46B10993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A24-79FD-4AF7-8DC8-3E823B3E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55C4-70B5-4383-8ACB-DAFC7013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DD7B1-121D-4D1F-9990-870F8F4A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4196E-A7DF-4DEF-8276-ACAC97CF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266D-FA5C-4505-951F-FB492F50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7FD4B-82A4-4504-9951-691F9D0C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6C20B-64C7-4C0D-9A3C-8A378394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5EBE-C9BC-4712-8D78-A199C75F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63D1-871F-4861-9BA3-08176C0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0F939-1B1B-4426-BFB4-F489A669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AD11A-6FD8-47B5-955F-D8A933E5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BD0-5D92-4911-A591-7AEA6CE0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1A4DF-CF95-4D95-B652-83BF613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63401-C64D-4F10-9216-FCB86404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9E8A-9D29-44DD-BC64-19EA68D3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A51-1395-4C5E-A522-4FE170B1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C3D-6848-4357-A83B-45BED7B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ADFF-6087-4D5E-9124-46A07532CC6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1B15-4FCA-4C98-AF8B-06450E2729A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E8A-4732-470A-AD32-2A034374E8A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388E-C3B1-49D2-8500-6115A2D7271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EEC4-CA84-4119-A0BD-AC74E324B34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33E7-21E9-4D7C-8081-7E05091CCBA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3880" y="192852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митрий Иванович Менделеев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785880" y="32148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 января [8 февраля] 1834, Тобольск — 20 января [2 февраля] 1907,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214200" y="150012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авая представления о строении атома, периодический закон, тем не менее, вплотную подводит к этой проблеме, и решение её было найдено несомненно благодаря ему — именно этой системой руководствовались исследователи, увязывая факторы, выявленные им с интересовавшими их другими физическими характеристи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72040" y="714240"/>
          <a:ext cx="3143160" cy="5857920"/>
        </p:xfrm>
        <a:graphic>
          <a:graphicData uri="http://schemas.openxmlformats.org/drawingml/2006/table">
            <a:tbl>
              <a:tblPr/>
              <a:tblGrid>
                <a:gridCol w="314280"/>
                <a:gridCol w="2828880"/>
              </a:tblGrid>
              <a:tr h="5857920">
                <a:tc>
                  <a:txBody>
                    <a:bodyPr lIns="36360" rIns="378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36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360" rIns="3636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кто из учёных, занимавшихся до Менделеева или одновременно с ним исследованиями соотношений между атомными весами и свойствами элементов, не смог сформулировать эту закономерность так ясно, как это сделал он. В частности, это относится к Дж. Ньюлендсу и Л. Мейеру. Предсказание ещё неизвестных элементов, их свойств и свойств их соединений является исключительно заслугой Д. И. Менделеева. …Наилучшим образом он смог применить свой метод горизонтальной, вертикальной и диагональной интерполяции в открытой им периодической системе для предсказания свойств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Воздухоплавание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1" descr="C:\Documents and Settings\Компьютер 3\Рабочий стол\ \270px-Henry_Gifford_balloon_3a30765.jpg"/>
          <p:cNvPicPr/>
          <p:nvPr/>
        </p:nvPicPr>
        <p:blipFill>
          <a:blip r:embed="rId1"/>
          <a:stretch/>
        </p:blipFill>
        <p:spPr>
          <a:xfrm>
            <a:off x="642960" y="1785960"/>
            <a:ext cx="2857320" cy="21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Documents and Settings\Компьютер 3\Рабочий стол\ \Mendeleev_Aerostatl_1887.jpg"/>
          <p:cNvPicPr/>
          <p:nvPr/>
        </p:nvPicPr>
        <p:blipFill>
          <a:blip r:embed="rId2"/>
          <a:stretch/>
        </p:blipFill>
        <p:spPr>
          <a:xfrm>
            <a:off x="4214880" y="1857240"/>
            <a:ext cx="3357360" cy="22035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500040" y="40719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ой привязной аэростат А. Жиффара, на котором Д. И. Менделеев поднимался в 1878 году, в Париж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4000680" y="4429080"/>
            <a:ext cx="37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й шар «Русский», на котором Д. И. Менделеев 7 августа 1887 года совершил полёт для наблюдения полного солнечного затм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естроение. Освоение Крайнего Севера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2" descr="C:\Documents and Settings\Компьютер 3\Рабочий стол\ \Mendeleev_icebreaker.jpg"/>
          <p:cNvPicPr/>
          <p:nvPr/>
        </p:nvPicPr>
        <p:blipFill>
          <a:blip r:embed="rId1"/>
          <a:stretch/>
        </p:blipFill>
        <p:spPr>
          <a:xfrm>
            <a:off x="1785960" y="1428840"/>
            <a:ext cx="4572000" cy="22874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4"/>
          <p:cNvSpPr/>
          <p:nvPr/>
        </p:nvSpPr>
        <p:spPr>
          <a:xfrm>
            <a:off x="2000160" y="392904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окол, сконструированный в начале XX века Д. И. Менделеевым. Модель по чертежам учёного выполнена под руководством А. И. Дубравина в 1969 году. Музей-архив Д. И. Менделеева (СПбГ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http://ru.wikipedia.org/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01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он таков и в чем его заслуга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1" descr="C:\Documents and Settings\Компьютер 3\Рабочий стол\ \240px-DIMendeleevCab.jpg"/>
          <p:cNvPicPr/>
          <p:nvPr/>
        </p:nvPicPr>
        <p:blipFill>
          <a:blip r:embed="rId1"/>
          <a:stretch/>
        </p:blipFill>
        <p:spPr>
          <a:xfrm>
            <a:off x="285840" y="1000080"/>
            <a:ext cx="3047760" cy="4280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0" y="54327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 И. Менделеев в своём кабинете (Главная палата мер и весов, Санкт-Петербург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3857760" y="121428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учёный-энциклопедист: химик, физикохимик, физик, метролог, экономист, технолог, геолог, метеоролог, педагог, воздухоплаватель, приборостроитель. Профессор Санкт-Петербургского университета; член-корреспондент по разряду «физический» Императорской Санкт-Петербургской Академии наук. Среди наиболее известных открытий — периодический закон химических элементов, один из фундаментальных законов мироздания, неотъемлемый для всего естество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</a:t>
            </a:r>
            <a:br>
              <a:rPr sz="4100"/>
            </a:b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C:\Documents and Settings\Компьютер 3\Рабочий стол\ \200px-MendeleevaMD.jpg"/>
          <p:cNvPicPr/>
          <p:nvPr/>
        </p:nvPicPr>
        <p:blipFill>
          <a:blip r:embed="rId1"/>
          <a:stretch/>
        </p:blipFill>
        <p:spPr>
          <a:xfrm>
            <a:off x="1214280" y="2859120"/>
            <a:ext cx="609840" cy="853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Компьютер 3\Рабочий стол\ \MendeleevIP.jpg"/>
          <p:cNvPicPr/>
          <p:nvPr/>
        </p:nvPicPr>
        <p:blipFill>
          <a:blip r:embed="rId2"/>
          <a:stretch/>
        </p:blipFill>
        <p:spPr>
          <a:xfrm>
            <a:off x="642960" y="1428840"/>
            <a:ext cx="2467080" cy="3468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Documents and Settings\Компьютер 3\Рабочий стол\ \200px-MendeleevaMD.jpg"/>
          <p:cNvPicPr/>
          <p:nvPr/>
        </p:nvPicPr>
        <p:blipFill>
          <a:blip r:embed="rId3"/>
          <a:stretch/>
        </p:blipFill>
        <p:spPr>
          <a:xfrm>
            <a:off x="4643280" y="1428840"/>
            <a:ext cx="2571840" cy="340344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571680" y="4857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 Павлович Менделеев — отец Д. И. Менделее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429080" y="500076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ия Дмитриевна Менделеева (урождённая Корнильева), мать Д. И. Менделе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632952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ea0b0"/>
                </a:solidFill>
                <a:latin typeface="Times New Roman"/>
                <a:ea typeface="Times New Roman"/>
              </a:rPr>
              <a:t>Семья и дети</a:t>
            </a: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28440" y="42840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граф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митрий Иванович был женат дважды. В 1862 году сочетался браком с Феозвой Никитичной Лещевой. Супруга была старше его на 6 лет. В этом браке родились три ребёнка: дочь Мария — она умерла в младенчестве, сын Володя и дочь Ольга. В конце 1878 г. 43-летний Дмитрий Менделеев страстно влюбился в 23 летнюю Анну Ивановну Попову дочь донского казака из Урюпинска. Во втором браке у Д. И. Менделеева родилось четверо детей: Любовь, Иван и близнецы Мария и Васи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" descr="C:\Documents and Settings\Компьютер 3\Рабочий стол\ \270px-Mendeleev_s_Katetometr_and_Komparator.jpg"/>
          <p:cNvPicPr/>
          <p:nvPr/>
        </p:nvPicPr>
        <p:blipFill>
          <a:blip r:embed="rId1"/>
          <a:stretch/>
        </p:blipFill>
        <p:spPr>
          <a:xfrm>
            <a:off x="642960" y="2184480"/>
            <a:ext cx="2857320" cy="24778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642960" y="478620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етометр и компаратор, сделанные известным французским механиком Саллероном для Д. Менделе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C:\Documents and Settings\Компьютер 3\Рабочий стол\ \Mendeleev_s_Piknometr.jpg"/>
          <p:cNvPicPr/>
          <p:nvPr/>
        </p:nvPicPr>
        <p:blipFill>
          <a:blip r:embed="rId2"/>
          <a:stretch/>
        </p:blipFill>
        <p:spPr>
          <a:xfrm>
            <a:off x="4071960" y="2214720"/>
            <a:ext cx="3340080" cy="23270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7"/>
          <p:cNvSpPr/>
          <p:nvPr/>
        </p:nvSpPr>
        <p:spPr>
          <a:xfrm>
            <a:off x="4297320" y="49291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кнометр Д. И. Менделе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92904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кнометр — прибор для определения плотности жидк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3614760" cy="149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1" descr="C:\Documents and Settings\Компьютер 3\Рабочий стол\ \300px-RFCS_1868.jpg"/>
          <p:cNvPicPr/>
          <p:nvPr/>
        </p:nvPicPr>
        <p:blipFill>
          <a:blip r:embed="rId1"/>
          <a:stretch/>
        </p:blipFill>
        <p:spPr>
          <a:xfrm>
            <a:off x="0" y="1500120"/>
            <a:ext cx="4786200" cy="352584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4"/>
          <p:cNvSpPr/>
          <p:nvPr/>
        </p:nvSpPr>
        <p:spPr>
          <a:xfrm>
            <a:off x="4786200" y="571680"/>
            <a:ext cx="36435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и Русского химического общества (члены химической секции 1-го съезда русских естествоиспытателей и врачей, вынесшие постановление об учреждении — 4 января 1868 года). Стоят слева направо: Ф. Р. Вреден, П. А. Лачинов, Г. А. Шмидт, А. Р. Шуляченко, А. П. Бородин, Н. А. Меншуткин, Н. А. Соковнин, Ф. Ф. Бейльштейн, К. И. Лисенко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 И. Менделее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Ф. Н. Савченков; сидят: В. Ю. Рихтер, С. И. Ковалевский, Н. П. Нечаев, В. В. Марковников, А. А. Воскресенский, П. А. Ильенков, П. П. Алексеев, А. Н. Энгельгардт (подписи сделаны рукой Д. И. Менделее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Научная деятельность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928800"/>
          <a:ext cx="3000240" cy="5286240"/>
        </p:xfrm>
        <a:graphic>
          <a:graphicData uri="http://schemas.openxmlformats.org/drawingml/2006/table">
            <a:tbl>
              <a:tblPr/>
              <a:tblGrid>
                <a:gridCol w="299880"/>
                <a:gridCol w="2700360"/>
              </a:tblGrid>
              <a:tr h="5286240">
                <a:tc>
                  <a:txBody>
                    <a:bodyPr lIns="55800" rIns="5796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80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 один из самых гениальных химиков XIX века; провёл многочисленные определения физических констант соединений (удельные объёмы, расширение и т. д.), изучал Донецкие месторождения каменного угля, разработал гидратную теорию растворов. Написал «Основы химии» (1868—1871) — труд, многочисленные издания которого оказали влияние на химиков-неоргаников. — М. Джу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 txBox="1"/>
          <p:nvPr/>
        </p:nvSpPr>
        <p:spPr>
          <a:xfrm rot="10800000">
            <a:off x="8214480" y="4071960"/>
            <a:ext cx="171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6"/>
          <p:cNvSpPr/>
          <p:nvPr/>
        </p:nvSpPr>
        <p:spPr>
          <a:xfrm>
            <a:off x="3714840" y="1214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 И. Менделеев — автор фундаментальных исследований по химии, физике, метрологии, метеорологии, экономике, основополагающих трудов по воздухоплаванию, сельскому хозяйству, химической технологии, народному просвещению и других работ, тесно связанных с потребностями развития производительных сил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3500280" y="450072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 И. Менделеев является автором первого русского учебника «Органическая 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714920" y="1214280"/>
            <a:ext cx="3828960" cy="108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бб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Picture 1" descr="C:\Documents and Settings\Компьютер 3\Рабочий стол\ \250px-Medeleeff_by_repin.jpg"/>
          <p:cNvPicPr/>
          <p:nvPr/>
        </p:nvPicPr>
        <p:blipFill>
          <a:blip r:embed="rId1"/>
          <a:stretch/>
        </p:blipFill>
        <p:spPr>
          <a:xfrm>
            <a:off x="571680" y="1785960"/>
            <a:ext cx="3174840" cy="39495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4"/>
          <p:cNvSpPr/>
          <p:nvPr/>
        </p:nvSpPr>
        <p:spPr>
          <a:xfrm>
            <a:off x="500040" y="578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ья Репин. Портрет Д. И. Менделеева в мантии доктора права Эдинбургского университета 1885. Аквар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4286160" y="29289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воё время интересы Д. И. Менделеева были близки к минералогии, его коллекция минералов бережно хранится и сейчас в Музее кафедры минералогии Санкт-Петербургского университета, а друза горного хрусталя с его стола является одним из лучших экспонатов в витрине квар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ический закон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Picture 1" descr="C:\Documents and Settings\Компьютер 3\Рабочий стол\ \220px-Mendeleev_law.jpg"/>
          <p:cNvPicPr/>
          <p:nvPr/>
        </p:nvPicPr>
        <p:blipFill>
          <a:blip r:embed="rId1"/>
          <a:stretch/>
        </p:blipFill>
        <p:spPr>
          <a:xfrm>
            <a:off x="5786280" y="1714680"/>
            <a:ext cx="2573640" cy="360504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5"/>
          <p:cNvSpPr/>
          <p:nvPr/>
        </p:nvSpPr>
        <p:spPr>
          <a:xfrm>
            <a:off x="5429160" y="55720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 И. Менделеев. Первый рукописный вариант периодического закона. 18 февраля 1869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6"/>
          <p:cNvSpPr/>
          <p:nvPr/>
        </p:nvSpPr>
        <p:spPr>
          <a:xfrm>
            <a:off x="357120" y="1357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я над трудом «Основы химии», Д. И. Менделеев открыл в феврале 1869 года один из фундаментальных законов природы — периодический закон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7"/>
          <p:cNvSpPr/>
          <p:nvPr/>
        </p:nvSpPr>
        <p:spPr>
          <a:xfrm>
            <a:off x="1071720" y="27860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ная Д. И. Менделеевым периодичность — это система, которая дала понимание закономерности, позволившей определить место в ней элементов, неизвестных в то время, предсказать не только существование, но и дать их характерис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4:34:34Z</dcterms:created>
  <dc:creator>Компьютер 3</dc:creator>
  <dc:description/>
  <dc:language>en-US</dc:language>
  <cp:lastModifiedBy>Компьютер 4</cp:lastModifiedBy>
  <dcterms:modified xsi:type="dcterms:W3CDTF">2015-01-20T07:07:02Z</dcterms:modified>
  <cp:revision>8</cp:revision>
  <dc:subject/>
  <dc:title>Дмитрий Иванович Менделеев</dc:title>
</cp:coreProperties>
</file>