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8.png" ContentType="image/png"/>
  <Override PartName="/ppt/media/image9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C24-7502-4774-9C70-D20F69C7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9CF-249F-43FB-B7E4-8DA6CC4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015-4D3B-40D1-A08A-9BD5462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E80-CDF5-428A-8A29-8D6FA31E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CED-AF10-46F7-9757-CCC68EF5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8CCF-C944-4366-B624-B7FAC9B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F56C-D34A-47F2-83B9-4E50DA9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884-5DA7-44C9-B615-209846F7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060-B6B2-4C5E-BEDF-1134AA1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157-2913-43FE-A2F7-C25B8A7D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6ADC-828D-431B-8E70-EBC5F9C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84A-9EC9-4562-9C44-E01E409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DCB-BDC1-4825-A5EE-817A4A6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1EEB-4194-47A8-933F-9977D99B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5178-6C02-4143-A262-1A1998B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9FE-4D3B-4C6B-8C4D-764264C2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7FD2-F741-465B-A6A0-E5D83A9C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B96-13C1-40FD-BEE1-29C21CB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A46-0522-4830-947F-26A13AC1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97A-B66F-4F1F-89B8-831C158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BE6-8273-4BBB-8C07-BE009E6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4C7-759E-4B34-A6F1-4BBFAA93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45F-6A75-4F18-921F-7B3D53B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17E-605D-431D-87E8-5EB0AA0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C152-B1F7-4B9C-B7CB-71066C656BD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A0C-AA6E-4AAD-A91B-8ED94036773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66"/>
                </a:solidFill>
                <a:latin typeface="Comic Sans MS"/>
              </a:rPr>
              <a:t>Дружбой дорожить умей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c6"/>
                </a:solidFill>
                <a:latin typeface="Comic Sans MS"/>
              </a:rPr>
              <a:t>Классный ча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гиф3"/>
          <p:cNvPicPr/>
          <p:nvPr/>
        </p:nvPicPr>
        <p:blipFill>
          <a:blip r:embed="rId1"/>
          <a:stretch/>
        </p:blipFill>
        <p:spPr>
          <a:xfrm>
            <a:off x="2895480" y="4191120"/>
            <a:ext cx="3581640" cy="2508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755640" y="765000"/>
            <a:ext cx="691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ОН ДРУЖБЫ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340000" y="1844640"/>
            <a:ext cx="5616720" cy="4537080"/>
          </a:xfrm>
          <a:prstGeom prst="horizontalScroll">
            <a:avLst>
              <a:gd name="adj" fmla="val 12500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бирай друзей п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шевным качествам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 одёж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обманывай друга ни в чё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с ним чест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755640" y="765000"/>
            <a:ext cx="691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ОН ДРУЖБЫ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2340000" y="1844640"/>
            <a:ext cx="5616720" cy="4537080"/>
          </a:xfrm>
          <a:prstGeom prst="horizontalScroll">
            <a:avLst>
              <a:gd name="adj" fmla="val 12500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обзывай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унижай своего дру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755640" y="765000"/>
            <a:ext cx="691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ОН ДРУЖБЫ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124000" y="2276640"/>
            <a:ext cx="5545080" cy="3960720"/>
          </a:xfrm>
          <a:prstGeom prst="horizontalScroll">
            <a:avLst>
              <a:gd name="adj" fmla="val 12500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й признать сво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омириться с друг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755640" y="765000"/>
            <a:ext cx="691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ОН ДРУЖБЫ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340000" y="1844640"/>
            <a:ext cx="5616720" cy="4537080"/>
          </a:xfrm>
          <a:prstGeom prst="horizontalScroll">
            <a:avLst>
              <a:gd name="adj" fmla="val 12500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ей с другом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делить радость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755640" y="765000"/>
            <a:ext cx="691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ОН ДРУЖБЫ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340000" y="1844640"/>
            <a:ext cx="5616720" cy="4537080"/>
          </a:xfrm>
          <a:prstGeom prst="horizontalScroll">
            <a:avLst>
              <a:gd name="adj" fmla="val 12500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танови друга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сли он делае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-то плохо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c6"/>
                </a:solidFill>
                <a:latin typeface="Comic Sans MS"/>
              </a:rPr>
              <a:t>Отличай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ру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человек, близкий вам по духу, по убеждениям, на которого можно во всем положить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Товарищ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человек, близкий вам по роду занятий, деятельности, по условиям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ия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человек, с которым у вас сложились хорошие, простые, но не совсем близкие отнош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овесни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человек одного с вами возраста, т.е. сверстник, одногодок, одноле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4" descr="glitt053"/>
          <p:cNvPicPr/>
          <p:nvPr/>
        </p:nvPicPr>
        <p:blipFill>
          <a:blip r:embed="rId1"/>
          <a:stretch/>
        </p:blipFill>
        <p:spPr>
          <a:xfrm>
            <a:off x="762012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Проблемные ситуац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2e24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95640" y="1052640"/>
            <a:ext cx="6948360" cy="5329080"/>
          </a:xfrm>
          <a:custGeom>
            <a:avLst/>
            <a:gdLst>
              <a:gd name="textAreaLeft" fmla="*/ 868320 w 6948360"/>
              <a:gd name="textAreaRight" fmla="*/ 6080040 w 6948360"/>
              <a:gd name="textAreaTop" fmla="*/ 666000 h 5329080"/>
              <a:gd name="textAreaBottom" fmla="*/ 496656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20129"/>
                </a:lnTo>
                <a:arcTo wR="21600" hR="20153" stAng="3993615" swAng="-498571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20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10679"/>
                </a:lnTo>
                <a:close/>
              </a:path>
              <a:path fill="none" w="21600" h="21600">
                <a:moveTo>
                  <a:pt x="5400" y="20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20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20129"/>
                </a:moveTo>
                <a:lnTo>
                  <a:pt x="2700" y="1229"/>
                </a:lnTo>
              </a:path>
              <a:path fill="none" w="21600" h="21600">
                <a:moveTo>
                  <a:pt x="18900" y="20129"/>
                </a:moveTo>
                <a:lnTo>
                  <a:pt x="18900" y="122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сдела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 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сит тетрадку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бы списа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2916360" y="1484280"/>
            <a:ext cx="6227640" cy="4392720"/>
          </a:xfrm>
          <a:prstGeom prst="flowChartPreparat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едлагает теб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ступить плох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2124000" y="0"/>
            <a:ext cx="7020000" cy="6453360"/>
          </a:xfrm>
          <a:custGeom>
            <a:avLst/>
            <a:gdLst>
              <a:gd name="textAreaLeft" fmla="*/ 1602360 w 7020000"/>
              <a:gd name="textAreaRight" fmla="*/ 5417640 w 7020000"/>
              <a:gd name="textAreaTop" fmla="*/ 1473120 h 6453360"/>
              <a:gd name="textAreaBottom" fmla="*/ 4980240 h 645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вой дру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луча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хие отметки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четверть и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бе запрещаю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 ним дружи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2735280" y="981000"/>
            <a:ext cx="6408720" cy="5112000"/>
          </a:xfrm>
          <a:custGeom>
            <a:avLst/>
            <a:gdLst>
              <a:gd name="textAreaLeft" fmla="*/ 1463040 w 6408720"/>
              <a:gd name="textAreaRight" fmla="*/ 4945680 w 6408720"/>
              <a:gd name="textAreaTop" fmla="*/ 1166760 h 5112000"/>
              <a:gd name="textAreaBottom" fmla="*/ 3945240 h 511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лохие слова 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раж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c6"/>
                </a:solidFill>
                <a:latin typeface="Comic Sans MS"/>
              </a:rPr>
              <a:t>Немного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Во все времена и у всех народов очень высоко ценились дружба, верность и преданнос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«Кто не ищет дружбы с близкими, тот себе заклятый враг» (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XI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век, Шота Руставели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Нет народа, у которого не было бы легенд, пословиц и поговорок о дружбе. В дружной работе, в общем отдыхе, вообще в совместной жизни, во взаимовыручке народ усматривал силу. Давайте вспомним пословицы о дружбе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4" descr="bird4"/>
          <p:cNvPicPr/>
          <p:nvPr/>
        </p:nvPicPr>
        <p:blipFill>
          <a:blip r:embed="rId1"/>
          <a:stretch/>
        </p:blipFill>
        <p:spPr>
          <a:xfrm>
            <a:off x="7696080" y="177840"/>
            <a:ext cx="14479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c6"/>
                </a:solidFill>
                <a:latin typeface="Comic Sans MS"/>
              </a:rPr>
              <a:t>И в заключен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аждого человека не так много настоящих друзей. Берегите друзей. Бытует мнение, что друзья познаются в беде, в трудную минут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ко существует еще одно мнение. Дружба познается не только бедами, но и обыденными мелоча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ирайте друзей не спеша, но и расставаться с ними не торопите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помните, друзья создаются в детстве и юности, дальше становится все труднее и труднее подружить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cartoon_421"/>
          <p:cNvPicPr/>
          <p:nvPr/>
        </p:nvPicPr>
        <p:blipFill>
          <a:blip r:embed="rId1"/>
          <a:stretch/>
        </p:blipFill>
        <p:spPr>
          <a:xfrm>
            <a:off x="7893000" y="228600"/>
            <a:ext cx="10317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7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2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c6"/>
                </a:solidFill>
                <a:latin typeface="Comic Sans MS"/>
              </a:rPr>
              <a:t>Тест «Добрый ли у вас характер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читаете ли вы, что у многих ваших знакомых плохой характер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дражают ли вас повседневные мелкие обязанност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рите ли вы, что ваши друзья преданы ва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ятно ли вам, когда незнакомый сверстник говорит вам: «Эй ты, поди сюда»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пособны ли вы ударить собаку или кош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асто ли вы болеет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асто ли вам хочется поменять парту, за которой вы сидит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должаете ли вы отстаивать свою точку зрения, понимая, однако, что это ошибк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яготят ли вас общественные обязанност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пособны ли вы более пяти минут ждать опаздывающего товарища, не проявляя при этом нетерпения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асто ли вам приходит в голову мысль о вашей невезучест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хранили ли вы свои детские игрушк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жете ли вы с улыбкой воспринимать подшучивания друз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равится ли вам бывать в кругу вашей семь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лопамятны ли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ходите ли вы, что все время стоит погода, нетипичная для данного сезон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лучается ли вам быть с утра в плохом настроени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дражает ли вас классическая музык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дражает ли вас присутствие в вашем доме чужих людей, находящихся у вас более час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pics_amim_176"/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2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c6"/>
                </a:solidFill>
                <a:latin typeface="Comic Sans MS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авьте себе по одному очку за положительный ответ на вопросы №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3, 9, 10, 13, 14, 1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авьте себе по одному очку за каждый отрицательный ответ на вопросы №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, 2, 4, 5, 6, 7, 8, 11, 12, 15, 16, 17,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считайте оч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выше 15 очков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у вас покладистый характер и вы преисполнены доброжелательного отношения к людя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 8 до 15 очков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ы не лишены недостатков, но с вами еще можно лади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иже 8 очков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ашим друзьям можно посочувствов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54c6"/>
                </a:solidFill>
                <a:latin typeface="Arial"/>
              </a:rPr>
              <a:t>До встречи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mult3"/>
          <p:cNvPicPr/>
          <p:nvPr/>
        </p:nvPicPr>
        <p:blipFill>
          <a:blip r:embed="rId1"/>
          <a:stretch/>
        </p:blipFill>
        <p:spPr>
          <a:xfrm>
            <a:off x="2438280" y="19051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c6"/>
                </a:solidFill>
                <a:latin typeface="Comic Sans MS"/>
              </a:rPr>
              <a:t>Закончите фраз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Все за одного, а один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Не имей сто рублей, а имей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емеро одного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Один в поле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Одна ласточка весны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тарый друг лучше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Нет друга, так ищи, а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 кем поведешься, от того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mult9"/>
          <p:cNvPicPr/>
          <p:nvPr/>
        </p:nvPicPr>
        <p:blipFill>
          <a:blip r:embed="rId1"/>
          <a:stretch/>
        </p:blipFill>
        <p:spPr>
          <a:xfrm>
            <a:off x="7315200" y="5070600"/>
            <a:ext cx="1600200" cy="1585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c6"/>
                </a:solidFill>
                <a:latin typeface="Comic Sans MS"/>
              </a:rPr>
              <a:t>Расположите слова в правильном порядке и прочитайте погово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Врага, друг, трусливый, опасне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Кто потакает, кто помогает, не тот друг, а тот дру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Кто себе, самому себе, враг, не ищет,  друзе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Враг, за что, побранит, за то, похвалит, дру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И мало врагов, и много друзей, много, мало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Корнями, друзьями, дерево, а человек, крепко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Расколешь, не соберешь, что стекло, дружб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А лаской, не лестью, дружба, честью, крепк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omic Sans MS"/>
              </a:rPr>
              <a:t>Другом, хочешь, будь, дружб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borb60"/>
          <p:cNvPicPr/>
          <p:nvPr/>
        </p:nvPicPr>
        <p:blipFill>
          <a:blip r:embed="rId1"/>
          <a:stretch/>
        </p:blipFill>
        <p:spPr>
          <a:xfrm>
            <a:off x="7238880" y="5121360"/>
            <a:ext cx="1676520" cy="1520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c6"/>
                </a:solidFill>
                <a:latin typeface="Comic Sans MS"/>
              </a:rPr>
              <a:t>Что значит «Дружб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Настоящий  друг везд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Верен: в счастье и бед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Грусть твоя его тревожит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Ты не спишь- он спать не может,</a:t>
            </a:r>
            <a:br>
              <a:rPr sz="3600"/>
            </a:b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И во всем без дальних слов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Он помочь тебе гот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В. Шекспи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5" descr="borb45"/>
          <p:cNvPicPr/>
          <p:nvPr/>
        </p:nvPicPr>
        <p:blipFill>
          <a:blip r:embed="rId1"/>
          <a:stretch/>
        </p:blipFill>
        <p:spPr>
          <a:xfrm>
            <a:off x="533520" y="4800600"/>
            <a:ext cx="190476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454c6"/>
                </a:solidFill>
                <a:latin typeface="Comic Sans MS"/>
              </a:rPr>
              <a:t>Расскажи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mic Sans MS"/>
              </a:rPr>
              <a:t>А каким бы ты хотел видеть своего друга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5" descr="duvidas4"/>
          <p:cNvPicPr/>
          <p:nvPr/>
        </p:nvPicPr>
        <p:blipFill>
          <a:blip r:embed="rId1"/>
          <a:stretch/>
        </p:blipFill>
        <p:spPr>
          <a:xfrm>
            <a:off x="5486400" y="685800"/>
            <a:ext cx="300204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Друг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- это тот, к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- поможет в трудные минуты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- выручит, когда ты окажешься в бед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- тебя понимает лучше всех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- поделится последним куском хлеба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- ничего не пожалеет для теб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2916360" y="1844640"/>
            <a:ext cx="3095640" cy="2354400"/>
          </a:xfrm>
          <a:custGeom>
            <a:avLst/>
            <a:gdLst>
              <a:gd name="textAreaLeft" fmla="*/ 737280 w 3095640"/>
              <a:gd name="textAreaRight" fmla="*/ 2358360 w 3095640"/>
              <a:gd name="textAreaTop" fmla="*/ 560520 h 2354400"/>
              <a:gd name="textAreaBottom" fmla="*/ 179388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949" y="12326"/>
                </a:lnTo>
                <a:lnTo>
                  <a:pt x="786" y="14846"/>
                </a:lnTo>
                <a:lnTo>
                  <a:pt x="4092" y="15156"/>
                </a:lnTo>
                <a:lnTo>
                  <a:pt x="3163" y="18437"/>
                </a:lnTo>
                <a:lnTo>
                  <a:pt x="6328" y="17431"/>
                </a:lnTo>
                <a:lnTo>
                  <a:pt x="6580" y="20741"/>
                </a:lnTo>
                <a:lnTo>
                  <a:pt x="9137" y="18623"/>
                </a:lnTo>
                <a:lnTo>
                  <a:pt x="10800" y="21600"/>
                </a:lnTo>
                <a:lnTo>
                  <a:pt x="12326" y="18651"/>
                </a:lnTo>
                <a:lnTo>
                  <a:pt x="14846" y="20814"/>
                </a:lnTo>
                <a:lnTo>
                  <a:pt x="15156" y="17508"/>
                </a:lnTo>
                <a:lnTo>
                  <a:pt x="18437" y="18437"/>
                </a:lnTo>
                <a:lnTo>
                  <a:pt x="17431" y="15272"/>
                </a:lnTo>
                <a:lnTo>
                  <a:pt x="20741" y="15020"/>
                </a:lnTo>
                <a:lnTo>
                  <a:pt x="18623" y="12463"/>
                </a:lnTo>
                <a:lnTo>
                  <a:pt x="21600" y="10800"/>
                </a:lnTo>
                <a:lnTo>
                  <a:pt x="18651" y="9274"/>
                </a:lnTo>
                <a:lnTo>
                  <a:pt x="20814" y="6754"/>
                </a:lnTo>
                <a:lnTo>
                  <a:pt x="17508" y="6444"/>
                </a:lnTo>
                <a:lnTo>
                  <a:pt x="18437" y="3163"/>
                </a:lnTo>
                <a:lnTo>
                  <a:pt x="15272" y="4169"/>
                </a:lnTo>
                <a:lnTo>
                  <a:pt x="15020" y="859"/>
                </a:lnTo>
                <a:lnTo>
                  <a:pt x="12463" y="2977"/>
                </a:lnTo>
                <a:lnTo>
                  <a:pt x="10800" y="0"/>
                </a:lnTo>
                <a:lnTo>
                  <a:pt x="9274" y="2949"/>
                </a:lnTo>
                <a:lnTo>
                  <a:pt x="6754" y="786"/>
                </a:lnTo>
                <a:lnTo>
                  <a:pt x="6444" y="4092"/>
                </a:lnTo>
                <a:lnTo>
                  <a:pt x="3163" y="3163"/>
                </a:lnTo>
                <a:lnTo>
                  <a:pt x="4169" y="6328"/>
                </a:lnTo>
                <a:lnTo>
                  <a:pt x="859" y="6580"/>
                </a:lnTo>
                <a:lnTo>
                  <a:pt x="2977" y="913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579840" y="2565360"/>
            <a:ext cx="17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руг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835280" y="836640"/>
            <a:ext cx="1728720" cy="115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356000" y="549360"/>
            <a:ext cx="0" cy="1295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 flipH="1">
            <a:off x="5292720" y="836640"/>
            <a:ext cx="1511280" cy="1224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1557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299736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0" y="5805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ведли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1619280" y="3212640"/>
            <a:ext cx="1368360" cy="7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2556000" y="3933720"/>
            <a:ext cx="1150920" cy="194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1547640" y="1989000"/>
            <a:ext cx="1440000" cy="6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59280" y="62784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4427640" y="4221000"/>
            <a:ext cx="0" cy="19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559640" y="155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т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 flipH="1">
            <a:off x="6011640" y="1989000"/>
            <a:ext cx="1368360" cy="50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7704000" y="285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 flipH="1">
            <a:off x="6084360" y="3141720"/>
            <a:ext cx="15116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0" y="4365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ев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 flipV="1">
            <a:off x="2050920" y="3715920"/>
            <a:ext cx="115272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6156360" y="5805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 flipH="1" flipV="1">
            <a:off x="5292720" y="4005000"/>
            <a:ext cx="1008000" cy="187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6732720" y="4221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ерчи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 flipH="1" flipV="1">
            <a:off x="5724000" y="3716280"/>
            <a:ext cx="100836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ёж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3419640" y="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0" y="1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ст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бы стать хорошим другом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заимопонимание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отовность помочь другу, выручить    из беды 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едопустимость отрицательных проявлений: зависти, чёрствости, бездушия, бессердечност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онидович</dc:creator>
  <dc:description/>
  <dc:language>en-US</dc:language>
  <cp:lastModifiedBy>Леонидович</cp:lastModifiedBy>
  <dcterms:modified xsi:type="dcterms:W3CDTF">2011-02-28T17:53:5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