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EEE-1085-4432-B370-6989EDD8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2EE-0784-443C-84B1-5498B920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74B-676A-4D8C-9C89-206B6764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CAD-C993-43BD-8358-A782FC7A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0328-DEE9-42A2-967A-7A62F31B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84EC-96A1-41FC-9AA2-1A53CBC8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6755-9E7F-42B7-89EB-CDD90A49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6C55-02A6-4E55-89C3-AD1010C5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88BC-D8E1-4C64-B0B4-913DD14C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7076-45CC-4E06-ACFF-9EACE7A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4A02-313A-4779-8E38-AFF493D9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7FB-9B45-412D-8812-25716609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5BD3-F6EA-4D30-9471-26FB995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45AD-23E8-4612-BD21-4BA2CD8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B0BA-9181-48B7-94D4-25B6AB63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516A-89B2-49B8-B344-F3D72859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292A-A37D-49CD-A310-C5463C33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650-89C5-45FD-A0CA-7276E23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9CC-5330-4E1D-85E1-0C306D2D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520-213F-4C87-B64F-32D1FAB2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027-54D9-48A8-84F8-9E35F8F7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7E5-E358-48AB-84D7-79B0F7A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1E2-FA58-4755-99D3-E048C62B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84D-768B-4DE8-92F1-D90750E3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C7F1-0F40-408B-BCDB-95D7764A66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2B28-74E5-43F3-AF6E-E779592A53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620640"/>
            <a:ext cx="68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оррекционная логопедическая работа по предупреждению и исправлению нарушения чтения и письма у детей с отклонением в развит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797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Громова И.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1592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языкового анализа и синтеза при устранении фонематической дислексии и дисграф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98900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 границы предложения в текс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умать предложение с определенным количеством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остранить предложение, увеличив в нем количество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умать предложение по сюжетной картин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ить предложение из слов, данных в разбивку (деформированный тек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 количество слов в предлож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нять цифру, соответствующую количеству слов в предлож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4762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слогового анализ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628640"/>
            <a:ext cx="82072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оговое произнесение слова сопровождать движением руки слева напра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льной стороной ладони ощущать движение нижней челю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хлопать, отстучать  слова по слог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слогового анализа и синтез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197000"/>
            <a:ext cx="770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(выделить) гласный звук в сл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нять букву, обозначающую соответствующий зву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исать только гласные звуки из сл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умать слог с соответствующей глас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гласные звуки в сло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ить слово из разрезной азб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ить слово из слогов, данных в беспорядке. (на-ро-во, во-ро-на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 количество слогов в словах, поднять соответствующую циф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еделение картинок в соответствии с количеством слогов в слов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черчивание слоговых схем слов (- -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592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фонематического анализа и синтеза сл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289160"/>
            <a:ext cx="8569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 количество звуков и их последова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умай слово с определенным количеством зву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вание слова в виде последовательно произнесенных звуков (м-а-ш-и-н-а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ование слогов и слов с помощью  «наращивания» звуков: (Ра-бра-брат, Ра-вра-врач, вол-волк, лев-хлев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ование новых слов путем замены в слове одного звука другим (дом-ком, коза-роза, стол-стул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образование одного слова в другое (мишка-мышка-машка-мушка-мошка-кошка-кашка-пашка-пышка-пушка-душк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обрать картинки с определенным количеством зву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тавить картинки под цифрами 3.4.5 в зависимости от количества звуков в сло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зрительного анализа изображений букв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628640"/>
            <a:ext cx="755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йди букву в ряду схо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ить из палочек бук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й и допиши недостающий элемент бук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й буквы, наложенные друг на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ьмо букв в воздух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вание букв по-разному расположенных в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вание букв написанных разных шриф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онструкция буквы (переделка одной буквы в другую) Ы-Ь-Ъ-Б-В-З, Т-Г-П-Н-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тнесение буквы с предметом (ж-жук, г-гусь, п-перекладина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7:43:28Z</dcterms:created>
  <dc:creator>ученический №1</dc:creator>
  <dc:description/>
  <dc:language>en-US</dc:language>
  <cp:lastModifiedBy>ученический №1</cp:lastModifiedBy>
  <dcterms:modified xsi:type="dcterms:W3CDTF">2012-03-29T08:03:18Z</dcterms:modified>
  <cp:revision>2</cp:revision>
  <dc:subject/>
  <dc:title>Слайд 1</dc:title>
</cp:coreProperties>
</file>