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8B6-1371-467B-A8FF-D2206232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613-850D-4C52-88E9-B5ED3E82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C4507-5DD0-4A5E-958A-367BBB7F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926ED-8F66-4D40-BA93-8F631A21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DACA5-FCF6-4A9F-9872-80FC4F29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D7BD1-EBEF-4CD5-B585-DC513FC8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08E68-327B-464E-B3C8-50CE239E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68AA2-BBE2-4685-9597-8E3F8E31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1F2A2-537F-4F4B-AD44-CF10B7ED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CBD51-A550-46A7-AECD-ACA87824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FBD0A-510B-4C56-8697-E951D621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631DD-A37A-435A-A9B6-6D252028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AAB-92F0-472A-8420-5B08128D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B5A7F-5D89-44A5-8777-5C00BBFC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E19B2-DCAE-4F99-BE43-95DDDABD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02961-420A-4662-8274-35570BB2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99345-8EE6-41A3-B847-DA9132FA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31128-E854-4763-ADEE-5B126DF4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EFBEC-8EF7-4137-8A50-4A59B14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65F20-4132-444C-A697-1372808E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A4778-DD3C-4150-9517-214D066D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5EE6B-F388-4991-B78C-37F18873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F9A0E-143A-4D57-856F-735754AD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B74-8D55-4B09-AB17-3E64DD1A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7E709-88B5-46A5-8AA5-75664B02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1D277-2DA3-403E-A393-29452640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D6D3C-D4A2-4C8E-ADF9-23FC2348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3913B-722B-43B9-9695-166852CE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70512-8902-409E-AF5D-5826678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EF28F-729C-4CD7-98A7-C679A150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3545A-A99D-4228-BEC3-DE3C183E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BC850-1593-451E-9E89-B893C0ED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A8D67-9AB6-46F0-AC0C-4AE454C2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6E1DA-4C7A-40C0-BC7C-B30551AC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BBE0-245F-49EC-9640-4F35ABD1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E3DD7-58DC-4876-926D-2F9B8830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B51F8-96F3-42F8-A7EE-05928D1D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7B9E7-9045-4983-95AD-7B586451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7257-EAFB-4AE2-9D29-A4A27293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A10A-498C-4DB6-BC6D-98561F85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BCEE-40E7-4209-8BD0-42846EF0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F2F5-7C7D-4701-8E94-6CAC3EC2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CFB8-5991-4AF6-A71A-2900DB34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BEAF-C465-46C8-B855-A94A061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CEE-FF21-4F3A-8409-72B98825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7F44-DEEB-4AC4-BFA9-C23038A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9F56-F482-482F-A9B3-7F3E180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832E-DCC4-4520-AB4F-A10346C7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82AB-A98E-4151-AE80-1840BD89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E2A9-BA9D-4B11-B38A-C31E3275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539D-0B65-47B5-A8BD-B40FE512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4996-59EE-4D7E-88B1-A9E13EA0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FBF9-28DE-491A-8875-DA4532D4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D17B-DFB2-4A3A-9BA9-06BC6D5F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0D69-0BD2-4FDD-8504-081DC7B6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49E-DBFA-4BB8-AA84-44532C46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FDF4-680D-4FA5-BB71-AFE6F32D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3856-CFE2-459E-8388-0ADD69EB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964E-30C8-4B41-85A3-750DADB3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734D-1A6D-4076-9695-BC55062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AA13-0C33-46AB-8067-E4E09853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ECF7D-5631-4A64-8EDB-3071B9B7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68B9-B5C8-4967-90D8-E23AFDFE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8BB72-BF10-4AE7-947B-FC843697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E82C8-E669-4686-844D-8ACBFB5C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8EF3-159D-4B92-9597-16E6963F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EBF-D881-4A44-9712-E5203952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E3871-DD3B-4980-8A36-45BC9021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67859-2027-41C2-8BB2-BC05B599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6E3F-B930-4861-895B-5425D5E1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45307-98A9-45DF-AE0C-C925CD9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D3C5-FAFB-4878-B245-520CE416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78912-4731-4318-8E9A-8ADDC199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3F07C-6BFC-40F3-AFDA-FDFED886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0D17-69D8-4443-9B82-6A4782FB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3AB7-9689-4445-81F8-94C9A35E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93EB1-1E30-43FA-BB0E-110C402A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4F7-4A4D-4048-95A1-ACC284E0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277FA-BFF6-4830-B6F1-D0245FD2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1434D-CB38-4FA1-AAFC-3CA08C03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69952-9791-4F3E-ACD8-AD5E139E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B67C-F045-465E-8C03-856C0182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41FC-6FF5-4CDA-A878-3170D15E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9FCEA-804F-45E0-B3A2-619E6E4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2F311-4A44-4A3A-A616-C54CDF38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81542-88CD-4312-9BA9-F8BC703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ED0CD-0B4D-4E54-9608-6A45FF0C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C9661-F08C-4BCB-9AC7-43CF3B86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13C-D1F8-44CE-9B38-0D2C46FA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6F372-4436-4D26-9C14-00360FB3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B066C-8DC9-43CE-8827-16297C5B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725DE-2BFF-47B2-9350-F13D6785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E1F2-2E14-45CE-9E7D-EBBD93BB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64203-B0E2-4A65-B903-4825DB95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B2A39-70F6-4FB7-BB4A-78A4B09C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9DB43-CAC3-4AE0-9C79-D67DEDC3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3DA39-3DDB-4A8D-9E2F-2BC64931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FAD83-5F8D-40B6-A0AD-B88F38DA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1E1B3-84BF-4738-A27C-12C57E0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B61-E0F1-4928-9AE6-B95CAA6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FBF7B-8367-4571-A4E5-F5336A56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A56D3-E30C-461D-B212-E2C203B4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73E00-6E24-49A4-8F1C-C9D57748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1B6BA-4D07-4BDD-B52B-48277C29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ECD1B-6D89-4659-8458-D23007FD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13513-B345-4234-B310-8BACC59F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AF47E-FCCF-4D2D-96A1-D9DE17FC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6752-C665-4DB3-A8E2-A3FB699C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AAC6-0658-42A2-8D2A-C4BA47ED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30D2C-48A6-4396-ADF6-39761C9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879-FFFB-4A0C-9B0E-0A69541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AF8D4-FE2E-4330-9FFD-2F0969D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3CD4E-0E9A-4D92-9A11-59FBEDFB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005B9-0571-4B2B-8285-2C0A2626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E5489-244E-4833-9913-B59F74A7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D2A9-D004-4B3E-ABEA-68BD8BC9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2B1EE-6EAB-4CC7-8783-092044D6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06BED-E160-4898-A9E6-528C40FB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A26D9-F411-45A0-9C04-C5EB95A7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26BE2-9FD1-4224-81AE-F496E216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2F1A6-96F8-4E1D-A2DD-04CFFC47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709-D2F5-45FF-8A17-283AF6F0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DC839-C923-490E-90B8-C746A5A3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C1C08-3DA6-4604-B9C4-8C1C15A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2EBEB-C069-43C2-9031-E2AD941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DF9E2-D2B6-42BE-947F-A761B1A9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C73D1-56CE-4349-908A-7FF8CD22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66CB-370B-46AA-BF14-78827D41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3EBC3-DB41-45FF-9662-70F6E9A8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2F2B9-D0DF-4A65-A137-F36CA076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D32C5-7BB2-4F71-991A-32254BFE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8C52C-B6E8-4B55-91B1-4499CFBB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2766970_1301397954_9b92bd227178.png"/>
          <p:cNvPicPr/>
          <p:nvPr/>
        </p:nvPicPr>
        <p:blipFill>
          <a:blip r:embed="rId2"/>
          <a:stretch/>
        </p:blipFill>
        <p:spPr>
          <a:xfrm>
            <a:off x="-12600" y="-34920"/>
            <a:ext cx="9775800" cy="6918480"/>
          </a:xfrm>
          <a:prstGeom prst="rect">
            <a:avLst/>
          </a:prstGeom>
          <a:ln w="0">
            <a:noFill/>
          </a:ln>
        </p:spPr>
      </p:pic>
      <p:grpSp>
        <p:nvGrpSpPr>
          <p:cNvPr id="1" name="Группа 16"/>
          <p:cNvGrpSpPr/>
          <p:nvPr/>
        </p:nvGrpSpPr>
        <p:grpSpPr>
          <a:xfrm>
            <a:off x="4555080" y="1226160"/>
            <a:ext cx="5934600" cy="5631480"/>
            <a:chOff x="4555080" y="1226160"/>
            <a:chExt cx="5934600" cy="5631480"/>
          </a:xfrm>
        </p:grpSpPr>
        <p:pic>
          <p:nvPicPr>
            <p:cNvPr id="2" name="Рисунок 8" descr="80326048_large_kTs_Jardin_orchidees23.png"/>
            <p:cNvPicPr/>
            <p:nvPr/>
          </p:nvPicPr>
          <p:blipFill>
            <a:blip r:embed="rId3"/>
            <a:stretch/>
          </p:blipFill>
          <p:spPr>
            <a:xfrm rot="1517400">
              <a:off x="5985720" y="1833120"/>
              <a:ext cx="3786480" cy="420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Рисунок 9" descr="80326049_large_kTs_Jardin_orchidees21.png"/>
            <p:cNvPicPr/>
            <p:nvPr/>
          </p:nvPicPr>
          <p:blipFill>
            <a:blip r:embed="rId4"/>
            <a:stretch/>
          </p:blipFill>
          <p:spPr>
            <a:xfrm flipH="1" rot="1601400">
              <a:off x="4960440" y="3052800"/>
              <a:ext cx="3777840" cy="270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Рисунок 10" descr="80326054_large_kTs_Jardin_orchidees12.png"/>
            <p:cNvPicPr/>
            <p:nvPr/>
          </p:nvPicPr>
          <p:blipFill>
            <a:blip r:embed="rId5"/>
            <a:stretch/>
          </p:blipFill>
          <p:spPr>
            <a:xfrm rot="766200">
              <a:off x="7571160" y="3809880"/>
              <a:ext cx="1786320" cy="25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Рисунок 11" descr="80326052_large_kTs_Jardin_orchidees13.png"/>
            <p:cNvPicPr/>
            <p:nvPr/>
          </p:nvPicPr>
          <p:blipFill>
            <a:blip r:embed="rId6"/>
            <a:stretch/>
          </p:blipFill>
          <p:spPr>
            <a:xfrm rot="19717200">
              <a:off x="6221160" y="3901680"/>
              <a:ext cx="1784160" cy="268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Рисунок 12" descr="80326053_large_kTs_Jardin_orchidees11.png"/>
            <p:cNvPicPr/>
            <p:nvPr/>
          </p:nvPicPr>
          <p:blipFill>
            <a:blip r:embed="rId7"/>
            <a:stretch/>
          </p:blipFill>
          <p:spPr>
            <a:xfrm rot="3121200">
              <a:off x="6485760" y="3276360"/>
              <a:ext cx="2778840" cy="274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E0C4-431D-4A5F-907D-BC6879CA6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1BF6-AD62-4D5F-8276-C348A2374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63EF-5A72-4B26-B7C1-4641ABCEB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ED12-7469-44A9-AC96-3F8CB822D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6" descr="80326052_large_kTs_Jardin_orchidees13.png"/>
          <p:cNvPicPr/>
          <p:nvPr/>
        </p:nvPicPr>
        <p:blipFill>
          <a:blip r:embed="rId2"/>
          <a:stretch/>
        </p:blipFill>
        <p:spPr>
          <a:xfrm rot="18921000">
            <a:off x="6221160" y="3225960"/>
            <a:ext cx="2784240" cy="4197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202B-2064-4FDD-BFB2-7BA408369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6" descr="80326054_large_kTs_Jardin_orchidees12.png"/>
          <p:cNvPicPr/>
          <p:nvPr/>
        </p:nvPicPr>
        <p:blipFill>
          <a:blip r:embed="rId2"/>
          <a:stretch/>
        </p:blipFill>
        <p:spPr>
          <a:xfrm rot="18721800">
            <a:off x="6899400" y="3792600"/>
            <a:ext cx="2193840" cy="3168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D74F-E60E-4F5C-969E-69B509032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6" descr="80326053_large_kTs_Jardin_orchidees11.png"/>
          <p:cNvPicPr/>
          <p:nvPr/>
        </p:nvPicPr>
        <p:blipFill>
          <a:blip r:embed="rId2"/>
          <a:stretch/>
        </p:blipFill>
        <p:spPr>
          <a:xfrm rot="20008200">
            <a:off x="5682960" y="4190760"/>
            <a:ext cx="3186000" cy="314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916F-7A1A-4A00-97F3-275A3A3DC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6" descr="80326048_large_kTs_Jardin_orchidees23.png"/>
          <p:cNvPicPr/>
          <p:nvPr/>
        </p:nvPicPr>
        <p:blipFill>
          <a:blip r:embed="rId2"/>
          <a:stretch/>
        </p:blipFill>
        <p:spPr>
          <a:xfrm rot="21025200">
            <a:off x="6400800" y="3644640"/>
            <a:ext cx="2855880" cy="3173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CBC7-68DD-4EFB-8B0C-150964056A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6" descr="80326049_large_kTs_Jardin_orchidees21.png"/>
          <p:cNvPicPr/>
          <p:nvPr/>
        </p:nvPicPr>
        <p:blipFill>
          <a:blip r:embed="rId2"/>
          <a:stretch/>
        </p:blipFill>
        <p:spPr>
          <a:xfrm rot="15691800">
            <a:off x="5640480" y="3928320"/>
            <a:ext cx="3778200" cy="27018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E00E-D982-4585-BA39-6770AAC604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AAC2-8B11-4EB3-842F-FE97D7C95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CF70-C89B-40B6-A08A-30D0CBE6C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8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4419720"/>
            <a:ext cx="35053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стер- класс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гровая технология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нтеллектуально-творческого развития детей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«Коврограф ЛАРЧИ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05320" y="54864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оспитатель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МБДОУ №56 «УЛЫБ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Рубанова Татьяна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Разноцветные круги-липуч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Rectangle 3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867280" cy="44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86200" y="609480"/>
            <a:ext cx="4572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Долька расстроилась.  Пригрело солнышко,  и Снеговик растая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Rectangle 3" descr=""/>
          <p:cNvPicPr/>
          <p:nvPr/>
        </p:nvPicPr>
        <p:blipFill>
          <a:blip r:embed="rId2"/>
          <a:stretch/>
        </p:blipFill>
        <p:spPr>
          <a:xfrm rot="21055200">
            <a:off x="380880" y="31240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91" name="Rectangle 3" descr=""/>
          <p:cNvPicPr/>
          <p:nvPr/>
        </p:nvPicPr>
        <p:blipFill>
          <a:blip r:embed="rId3"/>
          <a:stretch/>
        </p:blipFill>
        <p:spPr>
          <a:xfrm rot="991200">
            <a:off x="4952880" y="327636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057400" y="6095880"/>
            <a:ext cx="57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сделаем новых Снегов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Бусы для Фифы рассыпались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Rectangle 3" descr=""/>
          <p:cNvPicPr/>
          <p:nvPr/>
        </p:nvPicPr>
        <p:blipFill>
          <a:blip r:embed="rId2"/>
          <a:stretch/>
        </p:blipFill>
        <p:spPr>
          <a:xfrm rot="21427800">
            <a:off x="380880" y="3200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95" name="Rectangle 3" descr=""/>
          <p:cNvPicPr/>
          <p:nvPr/>
        </p:nvPicPr>
        <p:blipFill>
          <a:blip r:embed="rId3"/>
          <a:stretch/>
        </p:blipFill>
        <p:spPr>
          <a:xfrm rot="724200">
            <a:off x="4876560" y="312408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Times New Roman"/>
              </a:rPr>
              <a:t>Разноцветные квадраты и Радужные гном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Rectangle 3" descr=""/>
          <p:cNvPicPr/>
          <p:nvPr/>
        </p:nvPicPr>
        <p:blipFill>
          <a:blip r:embed="rId2"/>
          <a:stretch/>
        </p:blipFill>
        <p:spPr>
          <a:xfrm>
            <a:off x="1981080" y="24382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429000" y="60912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Гномы перепутали свои колпаки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Rectangle 3" descr=""/>
          <p:cNvPicPr/>
          <p:nvPr/>
        </p:nvPicPr>
        <p:blipFill>
          <a:blip r:embed="rId2"/>
          <a:stretch/>
        </p:blipFill>
        <p:spPr>
          <a:xfrm>
            <a:off x="685800" y="2660760"/>
            <a:ext cx="3814920" cy="2754360"/>
          </a:xfrm>
          <a:prstGeom prst="rect">
            <a:avLst/>
          </a:prstGeom>
          <a:ln w="0">
            <a:noFill/>
          </a:ln>
        </p:spPr>
      </p:pic>
      <p:pic>
        <p:nvPicPr>
          <p:cNvPr id="500" name="Rectangle 3" descr=""/>
          <p:cNvPicPr/>
          <p:nvPr/>
        </p:nvPicPr>
        <p:blipFill>
          <a:blip r:embed="rId3"/>
          <a:stretch/>
        </p:blipFill>
        <p:spPr>
          <a:xfrm>
            <a:off x="4643280" y="266076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3" descr=""/>
          <p:cNvPicPr/>
          <p:nvPr/>
        </p:nvPicPr>
        <p:blipFill>
          <a:blip r:embed="rId2"/>
          <a:stretch/>
        </p:blipFill>
        <p:spPr>
          <a:xfrm>
            <a:off x="5638680" y="2362320"/>
            <a:ext cx="3205440" cy="4114800"/>
          </a:xfrm>
          <a:prstGeom prst="rect">
            <a:avLst/>
          </a:prstGeom>
          <a:ln w="0">
            <a:noFill/>
          </a:ln>
        </p:spPr>
      </p:pic>
      <p:pic>
        <p:nvPicPr>
          <p:cNvPr id="502" name="Rectangle 3" descr=""/>
          <p:cNvPicPr/>
          <p:nvPr/>
        </p:nvPicPr>
        <p:blipFill>
          <a:blip r:embed="rId3"/>
          <a:stretch/>
        </p:blipFill>
        <p:spPr>
          <a:xfrm>
            <a:off x="609480" y="3048120"/>
            <a:ext cx="3814920" cy="27543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4800600" y="646200"/>
            <a:ext cx="36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Помогут волшеб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веревоч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Times New Roman"/>
              </a:rPr>
              <a:t>Пространственные карточки:</a:t>
            </a:r>
            <a:br>
              <a:rPr sz="4000"/>
            </a:br>
            <a:r>
              <a:rPr b="1" lang="ru-RU" sz="4000" spc="-1" strike="noStrike" u="sng">
                <a:solidFill>
                  <a:srgbClr val="000066"/>
                </a:solidFill>
                <a:uFillTx/>
                <a:latin typeface="Times New Roman"/>
              </a:rPr>
              <a:t>Лев , Павлин,Пони,Лан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Rectangle 3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69772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352680" y="304560"/>
            <a:ext cx="5105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С помощью сказки дети запомнили кто из зверей где жи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Rectangle 3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569736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114800" y="380988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Бабочка захотела поиграть и стала летать в разные части коврика. (у льва ,у пони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Rectangle 3" descr=""/>
          <p:cNvPicPr/>
          <p:nvPr/>
        </p:nvPicPr>
        <p:blipFill>
          <a:blip r:embed="rId2"/>
          <a:stretch/>
        </p:blipFill>
        <p:spPr>
          <a:xfrm rot="21015000">
            <a:off x="228600" y="2666520"/>
            <a:ext cx="3813120" cy="2754360"/>
          </a:xfrm>
          <a:prstGeom prst="rect">
            <a:avLst/>
          </a:prstGeom>
          <a:ln w="0">
            <a:noFill/>
          </a:ln>
        </p:spPr>
      </p:pic>
      <p:pic>
        <p:nvPicPr>
          <p:cNvPr id="510" name="Rectangle 3" descr=""/>
          <p:cNvPicPr/>
          <p:nvPr/>
        </p:nvPicPr>
        <p:blipFill>
          <a:blip r:embed="rId3"/>
          <a:stretch/>
        </p:blipFill>
        <p:spPr>
          <a:xfrm rot="422400">
            <a:off x="4572000" y="6091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429000" y="38052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Образные элементы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Rectangle 3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569772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« Коврограф ЛАРЧИК»-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это игровое поле из ковролина и наглядный материал .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Rectangle 3" descr=""/>
          <p:cNvPicPr/>
          <p:nvPr/>
        </p:nvPicPr>
        <p:blipFill>
          <a:blip r:embed="rId2"/>
          <a:stretch/>
        </p:blipFill>
        <p:spPr>
          <a:xfrm>
            <a:off x="838080" y="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80920" y="6091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Игры с забавными цифрами позволяют знакомить детей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цифрами и числами натурального ря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рядковым и количественным значением чис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своение счета и отсчета в пределах деся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вивают психические процессы: внимания (произвольно, концентрированности, объема); произвольной памяти; операций логического мышления (умения анализировать, сравнивать, сопоставлять, объединять); воображения, речь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7848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В основе методики Воскобовича лежит принцип:</a:t>
            </a:r>
            <a:br>
              <a:rPr sz="3200"/>
            </a:br>
            <a:r>
              <a:rPr b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 интерес – познание – творчество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7238880" y="4800600"/>
            <a:ext cx="1590840" cy="20574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35268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Пособие способствует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сенсорному развити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развитию психических процессов (память,  внимание , мышление , воображение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развивает математические , речевые , экологические предпосылки у детей от двух лет и школьного возра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5714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процессе игры коврограф превращается в волшебную поляну в Фиолетовом лесу ,на которой происходят различные чудеса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72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Times New Roman"/>
              </a:rPr>
              <a:t>Разноцветные веревочки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Rectangle 3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5697360" cy="41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Веревочками можно обводить и соединя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Rectangle 3" descr=""/>
          <p:cNvPicPr/>
          <p:nvPr/>
        </p:nvPicPr>
        <p:blipFill>
          <a:blip r:embed="rId2"/>
          <a:stretch/>
        </p:blipFill>
        <p:spPr>
          <a:xfrm rot="21295200">
            <a:off x="0" y="456840"/>
            <a:ext cx="4495680" cy="4267080"/>
          </a:xfrm>
          <a:prstGeom prst="rect">
            <a:avLst/>
          </a:prstGeom>
          <a:ln w="0">
            <a:noFill/>
          </a:ln>
        </p:spPr>
      </p:pic>
      <p:pic>
        <p:nvPicPr>
          <p:cNvPr id="477" name="Rectangle 3" descr=""/>
          <p:cNvPicPr/>
          <p:nvPr/>
        </p:nvPicPr>
        <p:blipFill>
          <a:blip r:embed="rId3"/>
          <a:stretch/>
        </p:blipFill>
        <p:spPr>
          <a:xfrm rot="325200">
            <a:off x="4648320" y="45684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648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троим домики для Дольки , Жужи и Незримки Всюсь .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А как им попасть к друг другу в гости ?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у конечно помогут волшебные веревоч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Rectangle 3" descr=""/>
          <p:cNvPicPr/>
          <p:nvPr/>
        </p:nvPicPr>
        <p:blipFill>
          <a:blip r:embed="rId2"/>
          <a:stretch/>
        </p:blipFill>
        <p:spPr>
          <a:xfrm rot="21228600">
            <a:off x="609480" y="609120"/>
            <a:ext cx="3810240" cy="3391200"/>
          </a:xfrm>
          <a:prstGeom prst="rect">
            <a:avLst/>
          </a:prstGeom>
          <a:ln w="0">
            <a:noFill/>
          </a:ln>
        </p:spPr>
      </p:pic>
      <p:pic>
        <p:nvPicPr>
          <p:cNvPr id="480" name="Rectangle 3" descr=""/>
          <p:cNvPicPr/>
          <p:nvPr/>
        </p:nvPicPr>
        <p:blipFill>
          <a:blip r:embed="rId3"/>
          <a:stretch/>
        </p:blipFill>
        <p:spPr>
          <a:xfrm rot="778200">
            <a:off x="4724280" y="685440"/>
            <a:ext cx="381024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05320" y="6094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А теперь попробуем закрыть глаза и пальчиком пройти по дорожкам. Куда мы попадем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Rectangle 3" descr=""/>
          <p:cNvPicPr/>
          <p:nvPr/>
        </p:nvPicPr>
        <p:blipFill>
          <a:blip r:embed="rId2"/>
          <a:stretch/>
        </p:blipFill>
        <p:spPr>
          <a:xfrm rot="20771400">
            <a:off x="609480" y="3200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83" name="Rectangle 3" descr=""/>
          <p:cNvPicPr/>
          <p:nvPr/>
        </p:nvPicPr>
        <p:blipFill>
          <a:blip r:embed="rId3"/>
          <a:stretch/>
        </p:blipFill>
        <p:spPr>
          <a:xfrm rot="1131000">
            <a:off x="4952520" y="335232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80920" y="3045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Можно строить разные фигур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Rectangle 3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486" name="Rectangle 3" descr=""/>
          <p:cNvPicPr/>
          <p:nvPr/>
        </p:nvPicPr>
        <p:blipFill>
          <a:blip r:embed="rId3"/>
          <a:stretch/>
        </p:blipFill>
        <p:spPr>
          <a:xfrm>
            <a:off x="4343400" y="2590920"/>
            <a:ext cx="449568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3:30Z</dcterms:created>
  <dc:creator>евросеть</dc:creator>
  <dc:description/>
  <dc:language>en-US</dc:language>
  <cp:lastModifiedBy>евросеть</cp:lastModifiedBy>
  <dcterms:modified xsi:type="dcterms:W3CDTF">2015-01-20T18:01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