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B7A-2126-4340-8713-79C17B06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AC70-DD32-4457-8D43-56A6ACC6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2EA-5B99-43F1-B835-D5FF0CD6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D62-96F7-4161-B377-83EB9B1A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CB81-9391-4600-8C36-3F2B4B27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E30A-77E8-4F7A-8C51-C50D30D4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E19F-346D-4831-9A61-E7C70F0B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4A84-5487-46CB-9179-F86F1EF2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826F-056C-4FCE-A549-CF7205CA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956D-5CF2-49C2-B370-60C58D86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A4AC-A22D-4141-B694-F25756A9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474-BED6-48D6-A61E-ADB6625A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C411-5E31-421F-BD1C-F3266090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5C09-9CE9-44ED-9E72-59336AC4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A4B5-DAE3-4BD8-AF95-74C48B69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0F40-F347-4C4F-BD3C-6D43D388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8A7F-0AEC-4758-9BEA-A723BDCE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7070-4F9D-493D-BB2A-E87A9701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D7B-219D-40D5-B7F1-FF261E02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124F-0E9A-411C-89A0-4C47063F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C870-3B20-415E-90F5-A7AB2165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B41-6527-4AC7-886D-5C27E313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D92-8A2D-4A06-8514-2D23D6A5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5A8-9A99-440B-817B-0E2EB154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E426-B12F-44EA-BF5C-B52CCDBDB8D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07FA-9190-47F9-9CCD-57F0B5F410D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06292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Vivaldi"/>
              </a:rPr>
              <a:t>Мастер-класс</a:t>
            </a:r>
            <a:br>
              <a:rPr sz="4400"/>
            </a:b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«Почта Деда Мороза»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          </a:t>
            </a:r>
            <a:r>
              <a:rPr b="0" i="1" lang="ru-RU" sz="1600" spc="-1" strike="noStrike">
                <a:solidFill>
                  <a:srgbClr val="e5ffff"/>
                </a:solidFill>
                <a:latin typeface="Tahoma"/>
              </a:rPr>
              <a:t>Воспитатель средней группы:  Скрипкина Елена Дмитриевна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1600" spc="-1" strike="noStrike">
                <a:solidFill>
                  <a:srgbClr val="e5ffff"/>
                </a:solidFill>
                <a:latin typeface="Tahoma"/>
              </a:rPr>
              <a:t>Каменск-Уральский</a:t>
            </a:r>
            <a:br>
              <a:rPr sz="1600"/>
            </a:br>
            <a:r>
              <a:rPr b="0" i="1" lang="ru-RU" sz="1600" spc="-1" strike="noStrike">
                <a:solidFill>
                  <a:srgbClr val="e5ffff"/>
                </a:solidFill>
                <a:latin typeface="Tahoma"/>
              </a:rPr>
              <a:t>2014г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92360" y="189000"/>
            <a:ext cx="5472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БДОУ №8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5ffff"/>
                </a:solidFill>
                <a:uFillTx/>
                <a:latin typeface="Tahoma"/>
              </a:rPr>
              <a:t>Цель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оддержать и сохранить веру в сказку, ожидание чуда, предвкушение праздника</a:t>
            </a:r>
            <a:br>
              <a:rPr sz="2400"/>
            </a:br>
            <a:br>
              <a:rPr sz="2400"/>
            </a:br>
            <a:r>
              <a:rPr b="0" lang="ru-RU" sz="3200" spc="-1" strike="noStrike" u="sng">
                <a:solidFill>
                  <a:srgbClr val="e5ffff"/>
                </a:solidFill>
                <a:uFillTx/>
                <a:latin typeface="Tahoma"/>
              </a:rPr>
              <a:t>Задачи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вать инициативность в создании новых образ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ь детей проявлять фантазию и творчеств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вивать художественный вкус в составлении композиции при украшении конвер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Из цветного картона изготовить конверты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25239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2492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ыкрасить гуашью деревянные бельевые прищепки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5560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48320" y="25239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5560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Изготовить украшенную еловую ветвь необходимого размер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К прищепкам привязать тесьму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25239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48320" y="2523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одписать конверты и украсить новогодними наклейками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25239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648320" y="2523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ивязать тесьму с прищепками к ветке, прикрепить конверты 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(наш дверной проем – запасной, и не используется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24600" y="198108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15560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15560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Нарисовать письма-желания Деду Морозу, подписать и вложить в конверты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5280" y="1844640"/>
            <a:ext cx="813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новогодними каникулами родители, в тайне от детей, достали письма из конвертов. Многие из них осуществили детские желания от лица Деда Мороз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верты, украшенные детьми, останутся в группе до следующего Нового года и вновь будут символом детской веры в чудо, снова передадут мечты детей главному волшебнику – Деду Морозу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3T01:48:10Z</dcterms:created>
  <dc:creator>лена</dc:creator>
  <dc:description/>
  <cp:keywords/>
  <dc:language>en-US</dc:language>
  <cp:lastModifiedBy>Лена</cp:lastModifiedBy>
  <cp:lastPrinted>1899-12-30T00:00:00Z</cp:lastPrinted>
  <dcterms:modified xsi:type="dcterms:W3CDTF">2015-01-20T10:09:17Z</dcterms:modified>
  <cp:revision>6</cp:revision>
  <dc:subject/>
  <dc:title>  Мастер-класс «Почта Деда Мороза»            Воспитатель средней группы:  Скрипкина Елена Дмитриевна   Каменск-Уральский 2015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50</vt:lpwstr>
  </property>
</Properties>
</file>