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AA6FDA-A167-4DE6-BCE6-C05E96217F4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AAA9E1-728F-44D2-B5BA-92D0B71D6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FBF72B-EC6B-4C1F-A484-E5810DAFE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A4DFB3-C485-40CD-91F8-AFDA580CF6C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691D7F-C279-4508-87A0-111057CDB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4C970F-1246-4171-8033-8CB8D7D3F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ECAE1E-F596-4E7D-A45A-6AD44D1F6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CB1BC2-F02E-4A8C-8B00-5BDAFF4C7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55E941-C847-4BD1-94E5-A62A3B108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21D057-E934-4D21-A677-D72C4D9D1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3DB9A1-0713-489B-8B05-3B90EE236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74B0BB-CA66-4FB7-A765-1B559C946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4360"/>
            <a:ext cx="2131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472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4360"/>
            <a:ext cx="2132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8BF4517-F8A9-4444-9668-D4477C153857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68360" y="692280"/>
            <a:ext cx="8351640" cy="53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Monotype Corsiva"/>
                <a:ea typeface="Lucida Sans Unicode"/>
              </a:rPr>
              <a:t>ГБОУ СОШ с.Елхов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Monotype Corsiva"/>
                <a:ea typeface="Lucida Sans Unicode"/>
              </a:rPr>
              <a:t>Биология+ математика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Monotype Corsiva"/>
                <a:ea typeface="Lucida Sans Unicode"/>
              </a:rPr>
              <a:t>интегрированный урок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Monotype Corsiva"/>
                <a:ea typeface="Lucida Sans Unicode"/>
              </a:rPr>
              <a:t>Работу подготовил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Monotype Corsiva"/>
                <a:ea typeface="Lucida Sans Unicode"/>
              </a:rPr>
              <a:t>Пронина Л.В. учитель математ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Monotype Corsiva"/>
                <a:ea typeface="Lucida Sans Unicode"/>
              </a:rPr>
              <a:t>Моисеева Н.Н. Учитель биолог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Monotype Corsiva"/>
                <a:ea typeface="Lucida Sans Unicode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Monotype Corsiva"/>
                <a:ea typeface="Lucida Sans Unicode"/>
              </a:rPr>
              <a:t>с.Красный Яр,20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395280" y="-139680"/>
            <a:ext cx="837396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nnabelle"/>
                <a:ea typeface="Microsoft YaHei"/>
              </a:rPr>
              <a:t>Я дышу, а значит, я живу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696000" y="119700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nnabelle"/>
                <a:ea typeface="Arial"/>
              </a:rPr>
              <a:t>В. С. Высоц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4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0"/>
            <a:ext cx="876924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nnabelle"/>
                <a:ea typeface="Microsoft YaHei"/>
              </a:rPr>
              <a:t>Я дышу, а значит, я живу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696000" y="119700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nnabelle"/>
                <a:ea typeface="Arial"/>
              </a:rPr>
              <a:t>В. С. Высоц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68360" y="1001520"/>
            <a:ext cx="82072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Задача №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ловек в среднем за сутки потребляет 430 г кислорода  и выделяет 800 г углекислого газ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ин гектар зеленых насаждений поглощает примерно столько же углекислого газа, сколько выдыхает 200 человек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этом выделяет 80 кг кислорода в сутки. Какое количество кислорода необходимо жителям город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читывающего 3213000 человек? Какова должна быть площадь зеленых насаждений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1216440"/>
            <a:ext cx="91440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Реш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1)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0,43  * 3213000 = 1381590 (кг кислорода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) 0,8  * 3213000 = 2570400 (кг углекислого газа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3)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1381590: 80  = 26875 (га зеленых насаждений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Ответ: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1381590 кг кислорода, 26875 га зеленых насаждений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0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" dur="1000" fill="hold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 fill="hold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611280" y="1052640"/>
            <a:ext cx="79930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Задача №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Для прироста 500г сухой массы сосны (без учета воды) дерево поглощает 920г углекислоты из воздуха и выделяет в атмосферу 720г кислород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Сколько будет взято углекислоты и будет выделено кислорода, если прирост сухой массы сосны составит 4кг 500г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03280" y="1047600"/>
            <a:ext cx="81010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  <a:ea typeface="Times New Roman"/>
              </a:rPr>
              <a:t>Решение № 2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4кг 500г=4500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4500:500=9(раз) больше стала масс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920·9=8280(г) углекисло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720·9=6480(г) кислоро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  <a:ea typeface="Times New Roman"/>
              </a:rPr>
              <a:t>Ответ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: 8кг 280г, 6кг 480г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" dur="500" fill="hold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 fill="hold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07T15:57:55Z</dcterms:created>
  <dc:creator>1</dc:creator>
  <dc:description/>
  <dc:language>en-US</dc:language>
  <cp:lastModifiedBy>Математика</cp:lastModifiedBy>
  <dcterms:modified xsi:type="dcterms:W3CDTF">2014-10-09T05:07:41Z</dcterms:modified>
  <cp:revision>25</cp:revision>
  <dc:subject/>
  <dc:title>Слайд 1</dc:title>
</cp:coreProperties>
</file>