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407C-C705-4349-A093-DE299046D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0A0B-1AFB-4FC5-9A83-496DEE73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99D3-F4E5-48FD-BF99-AEBCD30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ABF8-2CDF-4341-AA73-0D1C32E41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8F58-5599-4699-A318-D2888EE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2CD6-AC03-42AE-A4EB-C1AD5775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029D-1BD4-451B-B610-6820C4F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0E33-8FDA-48CD-A5BF-4AC90673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ABDD-6F63-4838-9C92-861B236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5489-DA38-47A8-917F-1AFEFCB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AEB1-FEAE-456D-A9FC-1B362794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8740-01A7-40AF-9C12-B68AADF9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9D96E6-6F1E-4D96-88F2-5DE5EFBCFD0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26028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.Растения выделяют при дыхании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7440" cy="524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92800" y="2052720"/>
            <a:ext cx="44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кислор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b)азо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)углекислый газ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d) х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7440" cy="524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5280" y="404640"/>
            <a:ext cx="69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Растения выделяют при фотосинтез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2133720"/>
            <a:ext cx="52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кислор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b)азо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c)углекислый газ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d) хл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7440" cy="524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404640"/>
            <a:ext cx="5210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какое время суток растение дыши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а) днё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b) ночью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c) ночью и дн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d) не дыш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7440" cy="524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202680"/>
            <a:ext cx="72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На 50 кв. км леса находится около 40 т пыли, а над такой же площадью                               безлесного пространства в 12 раз бол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тонн пыли находится над 1 га безлесного простран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50028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) 96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b) 4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c) 0,09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d) 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7440" cy="524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3336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ерево средней величины может беспечить дыхание 3-х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территории села Елх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ажено  100 взрослых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ите, сколько человек  обеспечивает                                кислородом такое количество деревь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860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) 10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b) 1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c) 3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d) 30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20:32:32Z</dcterms:created>
  <dc:creator>1</dc:creator>
  <dc:description/>
  <dc:language>en-US</dc:language>
  <cp:lastModifiedBy>Математика</cp:lastModifiedBy>
  <dcterms:modified xsi:type="dcterms:W3CDTF">2014-10-09T11:44:58Z</dcterms:modified>
  <cp:revision>10</cp:revision>
  <dc:subject/>
  <dc:title>Слайд 1</dc:title>
</cp:coreProperties>
</file>