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D3BF-C296-4AAD-BB87-32B95DE5B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B05C-246B-4548-AC2F-288202A1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8226C1-8678-4376-8DD7-5E5A8F71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A1D822-2C44-40FB-AEFE-5E713794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8B8E1D-EFFA-46D5-BA91-D8F48AB4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0963A0-190E-4ADB-B09D-058EE250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922FB9-02F2-4E4E-95F1-4AD80F3F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616D7F-0462-4695-9B3A-4290872A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66D964-9FCD-456C-A6D0-73A76552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5B1CCA-8F7E-4D1C-81AE-A4A4E4590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309981-536C-41C0-ABB7-896FE1EC9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ED0920-DC66-418A-912A-A7A808F6C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121E-FF32-49AA-AAF4-F2F7C5175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FDDAD1-EC8E-49D9-893E-0240F4C4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A14C88-0B2B-454A-B2FB-9E0B5DF5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6CC43E-2267-4674-BE11-6C2B90CA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549928-3AF8-49AF-A379-EA9530AC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EE6E4F-0DCC-46D7-A01E-70500BAF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655AB8-E465-438E-A3BC-9591CFCE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D2C471-1C3A-4358-8F30-B5D13B57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224489-7C4F-4BBE-887B-93FE0DC4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503067-2E36-43E8-8D5D-6E30A782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BAC756-5E80-4CBB-9192-D4C4AD027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24EF-D9FA-484E-BCA3-AE8EC8B9F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E5DAE0-3166-49C7-8D05-20B92F96E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8FB59-25AA-45BF-A89E-F243BC3BE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97856-403F-4DDA-B3F8-3658F25B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3D7CC-B172-4A1D-A9A8-9FBBD9E2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719591-0498-4EF8-9C65-74F3DA2F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EFE53-6619-49FE-9671-1DDC425D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DE987-62B7-402C-9769-69CF7658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ADE5B0-7E26-4DB5-B8FB-B2B5A156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62F9F-694B-471E-81FA-F471521E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67AA3-659E-410D-ACCB-19C9903F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76B9-427A-44DE-9738-463D817EA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BF0BB-134B-4571-BE04-A3EDB49B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36D30-79E1-481C-830C-172546ABB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29757-2C8F-4C03-80A7-DB9465F3D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0E6B2C-4078-4233-B4D7-0CCABB9B5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365F21-F7EB-4D1B-8B3C-304926BB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2CCAA5-C112-43F9-8E9F-6F88D860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FB5E9C-E804-4574-9525-1A3D819B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D6FFA3-61A4-40EE-8DBF-901C4DD0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7ACDB9-2E6F-4A30-8B51-70364F34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42AE1B-1FF7-46DC-93F5-0D0F46B5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2841-DBAC-4EC6-9857-0FA6A221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E98D4F-52AC-4C94-8E5C-38AF8C7E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E75868-E660-4195-BA73-8E17DB2A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5C3A2F-631D-40FB-8F5D-1C4FE4FA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67C42-3FA7-4D98-9467-B60F2FE92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F81029-AF7E-4109-A0E6-7DC59CAD6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0941A9-295D-4B58-BFD5-B219DFB6A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77309D-B013-4144-9727-2B6F5690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EA19D4-4E63-41E8-B9ED-3ACC4FAE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42F630-6C7B-488F-84E4-7DDFEBFD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47905C-B1D7-4276-80D8-3EF306BC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EF55D-BFAE-4886-8BC7-DCDD2A82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997E05-F24E-4715-8970-4A3768FC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88DC08-8271-475A-BB94-305DA8DC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B0A4A0-EB4C-4F2F-9157-78F63F8B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8AA3C4-169B-47F4-BED4-94430F47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F33C8B-B975-4B75-AEF0-6C5E3B86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FC7ADA-79ED-4A10-94B8-8D787CA7E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D98A2F-77B8-42FC-891B-A15FB3651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BC7FF0-5C80-4558-8E7C-8189EAE37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A59FBE-9F1A-47E6-85F3-258205A9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C50C7D-5ABE-4A3E-8438-33C9326E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75C5E-C93C-4FBB-BCDC-AC6A2590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660365-99E6-4FA8-BD13-C3A7C14D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A1113E-A95D-486B-8074-B32CDA8C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B26E52-A8FB-4B93-8647-99F06B38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0CCB9E-41D9-497B-BBF0-65AB13A3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16D054-BC5C-4105-8532-66CBB6E0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24651D-44E9-4528-BD57-8F0375FC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546BCF-862B-4074-9616-1AF74092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C88E79-3577-4813-8B02-014209E1D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09B526-EDFA-48C0-998D-D4E533562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6ED393-BE78-4FB0-8DDF-BBA67382A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0872-D913-491C-B19C-E02F5198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4519FE-57DB-47A3-90AB-B2A744B9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4593CD-4748-44AE-946D-F22B9495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FE7DC5-3EF8-4BA0-9A42-E62B07EF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801C63-DDB1-4D4F-821F-2CE4768F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862005-57C2-4379-B66B-EE1A1932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DEC8F8-DE08-44CE-B0C7-FF4B4C5B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1F1ECB-41E3-44A5-945D-B9A752C4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D39C9B-AB31-4E8F-B82C-6F9726A7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4746EF-4BE8-4400-AFFF-80E2EF38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6637DA-8A25-47C3-B62E-609F5F91D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5A348-AF2A-49C0-834C-ED9B6D0D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DFB395-CD50-4CF1-B84A-4B1068A6B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CD5AAA-C0B3-493E-A6BE-8BC5A6EA2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3407D1-A2A8-45B2-86D4-87C1D6D9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1CA041-3153-48E7-BE87-1B696D16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662EAF-AC60-4B03-974D-ECF09CEC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AA511C-69FF-44DC-AC3B-35FCF404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401B0F-51D2-4DB1-8088-EE500E9F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CA94A4-625F-4348-88C7-EEB3FC14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61AFB8-2F48-43FD-9F09-61EDECD2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DDBD71-511D-4235-A8C5-3CBDF06F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DB3B-631B-4987-96B0-12006922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309949-A7D9-4414-BBE4-063892DB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16B210-B03C-418F-BDA5-1461A7B65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7C5FB9-2235-4329-A7D2-B722077C4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F249-5C60-4039-BB1F-2A0609F5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154E-ACAD-4009-A98F-E99CA5DC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7F8E-B74C-42C6-BDD6-5406BC2F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A02A-096C-4245-8C8F-1933E741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7CC7-32C9-49F8-9275-E3ABF7BE0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A34D-3ECC-41D3-A0C6-0D50983EE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9922F-43D7-4E89-85B1-868D7A6E1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1A47D-30B8-4E73-BDD2-B094BCC5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65C32-B1DA-4A9E-BDA0-9142A15A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91BAC-0058-4E6C-808D-EA36C8AE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CC73B-CF3D-42AA-BD04-F65B1768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8475-5B6C-491A-AE1E-C0CF716E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E06B9-BDFC-4AC2-B1B4-75CDFE4B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BCBA0-F492-4C23-9377-2FEDD362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A9412-6812-4E8D-A4CE-FF4D26CB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75C50-DA2E-4136-8BB2-5DB02232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47652-D03E-41C1-B8AF-7B9FD3A9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7D69E-28B3-46B9-96A5-113148AB3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92947-C0BD-4C1E-947E-27831B2D1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9D2E30-5D02-4C99-BED3-2D8BE8DB6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5CA603-2DFA-419D-82FA-FE3D965E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2ACFE1-5A01-4770-9569-0046A888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1449-2CD9-4691-930B-BF39ACCF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429EF9-0F20-4740-AE8B-1545558F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A700EC-F2CB-47ED-9C1F-00CF31AC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FB5BA8-5CE0-4D5B-9CC2-B77402CF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FE3F97-8E50-4D42-A677-ABD51CA3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360ACB-9C61-4D8B-9893-121B5852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76684D-24ED-454A-9E64-86631C4C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2D9F69-158B-4E5D-A0CB-FB398003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9D3491-2AFE-40DC-85C3-A3F433AB4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D2AD71-584F-48F0-B545-61724FA04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17751-43EF-46D5-A921-ACDD6ADBE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98EC-A5DE-4542-8EAB-5CF0DE3C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C35E3-B9DE-4696-AEFC-708F23789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8764E-5CB3-42EA-AB81-C8AC2EFA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6EED9-35AC-43FA-9E92-7421D3D2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3D837-E659-4E4F-BEC7-657088E6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8A410-DF02-4C57-9CA6-EF0E2F09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6F60B-6FFF-483A-9CBF-FFAF7EA7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03FE0-04F6-4A44-807B-1FDADE6F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7397E-36F5-4EE7-A374-72345817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46A62-3BFB-46BA-BE2A-022BBFDC0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BA761-6EF8-4372-9B14-74C9F2A34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DB60-7485-4135-BF2F-8794AB56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BF956-76F6-4AE5-A0AC-B9AD70560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FCAA1-FF67-4064-B78E-86A5EBA07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18635-5E96-46B8-94A5-488F1B73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BF988-5E3A-476F-8257-435E937C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9B44F-1108-45EF-B743-483A4F3A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16B08-C662-4364-BE57-84781E05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8BE78-DAAE-4F44-AE76-3AA5CADD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85E56-4847-4FE9-BAED-77ED96CF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C56A4-01A1-45FC-9FFC-C6C0057A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7AFB7-8C7E-4D76-856B-21E0279D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1A6C-2C66-42F6-8CB1-4A5E9BA6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0F37D-F798-415C-9F52-9ACE77C7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0A85D-797F-438F-83B3-9F7538F5F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B0129-0B80-418E-9C03-C09E314E5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BD76D-D3D4-4412-8297-46F5E08BE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D75D3-47D3-42AA-B308-D0F2E1A2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EBE58-8A53-4CAF-A8F1-138B2299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91761-0A1E-493E-9341-ACC8583D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78C7E-208E-46E4-AA40-3CA8BFF2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0331C-8D32-485F-BFF2-AF93F5EE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F1167-0DFD-44CE-BE7B-BF9E2110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0154-5E4B-40B0-87CE-8E3A1354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0F5DB-BFAC-4E0A-B6B9-0564D05A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45FD9-97D9-4362-88B8-94EC1977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B3BD0-E9B4-434C-AB1A-37EB9111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3FA00-CEE0-42CA-A171-E61FFBA6C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93E33-6290-4DF6-A446-478DF03A9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393E2-19FA-410C-B663-5B46F6F6E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C97C5-F52C-4303-8CDF-51928AE3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0A507-9247-4C7F-AB6A-C242B5AC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F3A52-CE97-4DD3-9267-8BF5B49C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FD645-4D71-46E3-9C48-21B4EA74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AF56-CE82-4717-9DFA-FF9ACD62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10A82-575E-4C38-85BF-F046911E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C6BE7-0823-45C4-AB1F-A3118F91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AEA9C-1B62-4126-A1C8-42918973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825C0-ECA6-4E56-B777-6E00D214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6BB47-ACC7-40E8-9DA4-5C3EFC09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530F3-8AF5-4E90-B6D8-B458C29C0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B4D0D-7B86-445C-9F93-F869B0B11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ACD54C-CF22-48D1-83AB-D7FE45DBE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E62D49-D14D-4A09-81CC-51517188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B50F6C-86B6-4B55-A66C-0042DE4C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33A5-A8C9-46D2-9CA3-1E1BE627B30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7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85E6-D39E-450C-A6AB-B9B890B2A5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87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ffb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f1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bf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bf1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D683-242E-49E5-9E59-0D64DE25CAA2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3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C4EA-3E5C-4052-B4D2-C71C1ECD084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587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3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3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3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1D39-379C-46A5-91DB-A7978172DA9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ftr" idx="4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FC12-F4B2-48E0-BAC6-1DFA96C8CC8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43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44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45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E4CB-A295-4AD2-AAD7-6B1055ED91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719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554B-A83B-4371-9723-679548BF9C9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6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CB17-02CA-4708-821D-11FE34AC3A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f1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bf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bf1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4ACE-DDAD-44E2-B9F4-C9DE70384D8F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ffb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b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7D6C-5421-4509-BEF2-CEEBAD0B6B4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202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ffffff"/>
            </a:solidFill>
            <a:ln w="442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2CB9-C059-4E5F-B029-F6B68D313B7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1654-E8E7-4BCE-B07C-AAA3C6BE02C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F1AF-95D3-4209-8CB6-A0CD86785D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295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3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511F-4CD9-4CB1-A087-81D97492784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381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5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6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2B76-E56F-4923-8BD2-3AD7C4B132A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6"/>
          <p:cNvSpPr/>
          <p:nvPr/>
        </p:nvSpPr>
        <p:spPr>
          <a:xfrm>
            <a:off x="755640" y="1484280"/>
            <a:ext cx="7488360" cy="4608720"/>
          </a:xfrm>
          <a:prstGeom prst="rect">
            <a:avLst/>
          </a:prstGeom>
          <a:solidFill>
            <a:srgbClr val="99ccff">
              <a:alpha val="60000"/>
            </a:srgbClr>
          </a:solidFill>
          <a:ln cap="rnd" w="572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WordArt 7"/>
          <p:cNvSpPr txBox="1"/>
          <p:nvPr/>
        </p:nvSpPr>
        <p:spPr>
          <a:xfrm>
            <a:off x="971640" y="1700280"/>
            <a:ext cx="7272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istral"/>
              </a:rPr>
              <a:t>О Губкине родном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istral"/>
              <a:ea typeface="Mistral"/>
            </a:endParaRPr>
          </a:p>
        </p:txBody>
      </p:sp>
      <p:sp>
        <p:nvSpPr>
          <p:cNvPr id="768" name="WordArt 8"/>
          <p:cNvSpPr txBox="1"/>
          <p:nvPr/>
        </p:nvSpPr>
        <p:spPr>
          <a:xfrm>
            <a:off x="1187280" y="2708280"/>
            <a:ext cx="6480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istr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istral"/>
              </a:rPr>
              <a:t>стихами говорю..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istral"/>
              <a:ea typeface="Mistral"/>
            </a:endParaRPr>
          </a:p>
        </p:txBody>
      </p:sp>
      <p:sp>
        <p:nvSpPr>
          <p:cNvPr id="769" name="Rectangle 9"/>
          <p:cNvSpPr/>
          <p:nvPr/>
        </p:nvSpPr>
        <p:spPr>
          <a:xfrm>
            <a:off x="1150920" y="3621240"/>
            <a:ext cx="655308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(любимый город в творчестве губкинских поэт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WordArt 10"/>
          <p:cNvSpPr txBox="1"/>
          <p:nvPr/>
        </p:nvSpPr>
        <p:spPr>
          <a:xfrm>
            <a:off x="1258920" y="404640"/>
            <a:ext cx="63374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ffff"/>
                  </a:solidFill>
                  <a:miter/>
                </a:ln>
                <a:solidFill>
                  <a:srgbClr val="ff00ff">
                    <a:alpha val="74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стный журнал</a:t>
            </a:r>
            <a:endParaRPr b="0" lang="en-US" sz="1800" spc="1" strike="noStrike">
              <a:ln w="22320">
                <a:solidFill>
                  <a:srgbClr val="ffffff"/>
                </a:solidFill>
                <a:miter/>
              </a:ln>
              <a:solidFill>
                <a:srgbClr val="ff00ff">
                  <a:alpha val="74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1" name="TextBox 1"/>
          <p:cNvSpPr/>
          <p:nvPr/>
        </p:nvSpPr>
        <p:spPr>
          <a:xfrm>
            <a:off x="3508200" y="5010120"/>
            <a:ext cx="463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илова В.Д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атель МБДОУ №16 «Дюймовочка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ода Губкина, Белгородской об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5"/>
          <p:cNvSpPr/>
          <p:nvPr/>
        </p:nvSpPr>
        <p:spPr>
          <a:xfrm>
            <a:off x="1187280" y="4653000"/>
            <a:ext cx="684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 труде на радость дет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остроен Чудо – гра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Где  сказку на рассве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ас чудо – кони мча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Л. Агафон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WordArt 6"/>
          <p:cNvSpPr txBox="1"/>
          <p:nvPr/>
        </p:nvSpPr>
        <p:spPr>
          <a:xfrm>
            <a:off x="2195640" y="620640"/>
            <a:ext cx="4464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20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Чудо-Юдо-Гра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810" name="Rectangle 7"/>
          <p:cNvSpPr/>
          <p:nvPr/>
        </p:nvSpPr>
        <p:spPr>
          <a:xfrm>
            <a:off x="1692360" y="4221000"/>
            <a:ext cx="5688000" cy="2448000"/>
          </a:xfrm>
          <a:prstGeom prst="rect">
            <a:avLst/>
          </a:prstGeom>
          <a:solidFill>
            <a:srgbClr val="ff99cc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5f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WordArt 5"/>
          <p:cNvSpPr txBox="1"/>
          <p:nvPr/>
        </p:nvSpPr>
        <p:spPr>
          <a:xfrm>
            <a:off x="755640" y="260280"/>
            <a:ext cx="7920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ород Губкин – "жемчужина КМА",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73" name="Picture 6" descr="a604"/>
          <p:cNvPicPr/>
          <p:nvPr/>
        </p:nvPicPr>
        <p:blipFill>
          <a:blip r:embed="rId1"/>
          <a:stretch/>
        </p:blipFill>
        <p:spPr>
          <a:xfrm>
            <a:off x="539640" y="2349360"/>
            <a:ext cx="4103640" cy="3783240"/>
          </a:xfrm>
          <a:prstGeom prst="rect">
            <a:avLst/>
          </a:prstGeom>
          <a:ln w="0">
            <a:noFill/>
          </a:ln>
        </p:spPr>
      </p:pic>
      <p:sp>
        <p:nvSpPr>
          <p:cNvPr id="774" name="WordArt 7"/>
          <p:cNvSpPr txBox="1"/>
          <p:nvPr/>
        </p:nvSpPr>
        <p:spPr>
          <a:xfrm>
            <a:off x="900000" y="907920"/>
            <a:ext cx="7334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железнорудное сердце России",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75" name="WordArt 8"/>
          <p:cNvSpPr txBox="1"/>
          <p:nvPr/>
        </p:nvSpPr>
        <p:spPr>
          <a:xfrm>
            <a:off x="1619280" y="1628640"/>
            <a:ext cx="5448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ород сад, город-сказка!!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76" name="Rectangle 9"/>
          <p:cNvSpPr/>
          <p:nvPr/>
        </p:nvSpPr>
        <p:spPr>
          <a:xfrm>
            <a:off x="4716360" y="2781720"/>
            <a:ext cx="4427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99"/>
                </a:solidFill>
                <a:latin typeface="Monotype Corsiva"/>
              </a:rPr>
              <a:t>Мой город Губкин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99"/>
                </a:solidFill>
                <a:latin typeface="Monotype Corsiva"/>
              </a:rPr>
              <a:t>сердце КМ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99"/>
                </a:solidFill>
                <a:latin typeface="Monotype Corsiva"/>
              </a:rPr>
              <a:t>Единственн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99"/>
                </a:solidFill>
                <a:latin typeface="Monotype Corsiva"/>
              </a:rPr>
              <a:t>Неповторим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99"/>
                </a:solidFill>
                <a:latin typeface="Monotype Corsiva"/>
              </a:rPr>
              <a:t>А главное – любимы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99"/>
                </a:solidFill>
                <a:latin typeface="Monotype Corsiva"/>
              </a:rPr>
              <a:t>Л. Гончар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/>
          </p:nvPr>
        </p:nvSpPr>
        <p:spPr>
          <a:xfrm>
            <a:off x="4571640" y="1483920"/>
            <a:ext cx="3938760" cy="17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Я давно влюбле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В этот маленький город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Что меня одаря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Не хлебом единым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8" name="Picture 4" descr="a207"/>
          <p:cNvPicPr/>
          <p:nvPr/>
        </p:nvPicPr>
        <p:blipFill>
          <a:blip r:embed="rId1"/>
          <a:stretch/>
        </p:blipFill>
        <p:spPr>
          <a:xfrm>
            <a:off x="395280" y="1052640"/>
            <a:ext cx="4032360" cy="279540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5" descr="a216"/>
          <p:cNvPicPr/>
          <p:nvPr/>
        </p:nvPicPr>
        <p:blipFill>
          <a:blip r:embed="rId2"/>
          <a:stretch/>
        </p:blipFill>
        <p:spPr>
          <a:xfrm>
            <a:off x="4643280" y="3716280"/>
            <a:ext cx="4104000" cy="2592360"/>
          </a:xfrm>
          <a:prstGeom prst="rect">
            <a:avLst/>
          </a:prstGeom>
          <a:ln w="0">
            <a:noFill/>
          </a:ln>
        </p:spPr>
      </p:pic>
      <p:sp>
        <p:nvSpPr>
          <p:cNvPr id="78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fff00"/>
                </a:solidFill>
                <a:latin typeface="Garamond"/>
              </a:rPr>
              <a:t>Мой маленький центр во Вселенной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1" name="Rectangle 7"/>
          <p:cNvSpPr/>
          <p:nvPr/>
        </p:nvSpPr>
        <p:spPr>
          <a:xfrm>
            <a:off x="0" y="429264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аждой улицей о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аждым деревцем дор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. Репина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00"/>
            </a:gs>
            <a:gs pos="50000">
              <a:srgbClr val="ffffff"/>
            </a:gs>
            <a:gs pos="100000">
              <a:srgbClr val="99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Picture 7" descr="a201"/>
          <p:cNvPicPr/>
          <p:nvPr/>
        </p:nvPicPr>
        <p:blipFill>
          <a:blip r:embed="rId1"/>
          <a:stretch/>
        </p:blipFill>
        <p:spPr>
          <a:xfrm>
            <a:off x="755640" y="1844640"/>
            <a:ext cx="7632720" cy="4032360"/>
          </a:xfrm>
          <a:prstGeom prst="rect">
            <a:avLst/>
          </a:prstGeom>
          <a:ln w="0">
            <a:noFill/>
          </a:ln>
        </p:spPr>
      </p:pic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8065800" cy="150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. Волога и Н. Соколов о прошло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дного города в поэмах                         «Первооткрыватели» и «Жемчужина КМА»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336666"/>
                </a:solidFill>
                <a:latin typeface="Arial Black"/>
              </a:rPr>
              <a:t>Город Губкин и современность.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785" name="Picture 5" descr="a125"/>
          <p:cNvPicPr/>
          <p:nvPr/>
        </p:nvPicPr>
        <p:blipFill>
          <a:blip r:embed="rId1"/>
          <a:stretch/>
        </p:blipFill>
        <p:spPr>
          <a:xfrm>
            <a:off x="684360" y="1125360"/>
            <a:ext cx="7704000" cy="4824720"/>
          </a:xfrm>
          <a:prstGeom prst="rect">
            <a:avLst/>
          </a:prstGeom>
          <a:ln w="0">
            <a:noFill/>
          </a:ln>
        </p:spPr>
      </p:pic>
      <p:sp>
        <p:nvSpPr>
          <p:cNvPr id="786" name="Rectangle 6"/>
          <p:cNvSpPr/>
          <p:nvPr/>
        </p:nvSpPr>
        <p:spPr>
          <a:xfrm>
            <a:off x="1476360" y="4149720"/>
            <a:ext cx="59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ам светит солнце ласков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грают клумбы крас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иятно по аллеям погуля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. Вол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7"/>
          <p:cNvSpPr/>
          <p:nvPr/>
        </p:nvSpPr>
        <p:spPr>
          <a:xfrm>
            <a:off x="1908000" y="4076640"/>
            <a:ext cx="5112000" cy="1728720"/>
          </a:xfrm>
          <a:prstGeom prst="rect">
            <a:avLst/>
          </a:prstGeom>
          <a:solidFill>
            <a:srgbClr val="97cdcc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763280" y="188640"/>
            <a:ext cx="627372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Губкин – православный.</a:t>
            </a: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789" name="AutoShape 5"/>
          <p:cNvSpPr/>
          <p:nvPr/>
        </p:nvSpPr>
        <p:spPr>
          <a:xfrm>
            <a:off x="4716360" y="5084640"/>
            <a:ext cx="4249800" cy="1008360"/>
          </a:xfrm>
          <a:custGeom>
            <a:avLst/>
            <a:gdLst>
              <a:gd name="textAreaLeft" fmla="*/ 531000 w 4249800"/>
              <a:gd name="textAreaRight" fmla="*/ 3718800 w 4249800"/>
              <a:gd name="textAreaTop" fmla="*/ 126000 h 1008360"/>
              <a:gd name="textAreaBottom" fmla="*/ 10083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675" stAng="16200000" swAng="5400000"/>
                <a:lnTo>
                  <a:pt x="5400" y="2700"/>
                </a:lnTo>
                <a:lnTo>
                  <a:pt x="16200" y="2700"/>
                </a:lnTo>
                <a:lnTo>
                  <a:pt x="162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900" y="18900"/>
                </a:lnTo>
                <a:lnTo>
                  <a:pt x="18900" y="20925"/>
                </a:lnTo>
                <a:arcTo wR="675" hR="675" stAng="0" swAng="5400000"/>
                <a:lnTo>
                  <a:pt x="3375" y="21600"/>
                </a:lnTo>
                <a:arcTo wR="675" hR="675" stAng="5400000" swAng="5400000"/>
                <a:lnTo>
                  <a:pt x="27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400" y="675"/>
                </a:moveTo>
                <a:arcTo wR="675" hR="675" stAng="0" swAng="5400000"/>
                <a:lnTo>
                  <a:pt x="3375" y="1350"/>
                </a:lnTo>
                <a:arcTo wR="675" hR="675" stAng="16200000" swAng="-5400000"/>
                <a:arcTo wR="675" hR="675" stAng="10800000" swAng="-5400000"/>
                <a:lnTo>
                  <a:pt x="5400" y="2700"/>
                </a:lnTo>
              </a:path>
              <a:path fill="none" w="21600" h="21600">
                <a:moveTo>
                  <a:pt x="16200" y="675"/>
                </a:moveTo>
                <a:arcTo wR="675" hR="675" stAng="10800000" swAng="-5400000"/>
                <a:lnTo>
                  <a:pt x="18225" y="1350"/>
                </a:lnTo>
                <a:arcTo wR="675" hR="675" stAng="16200000" swAng="5400000"/>
                <a:arcTo wR="675" hR="675" stAng="0" swAng="5400000"/>
                <a:lnTo>
                  <a:pt x="16200" y="2700"/>
                </a:lnTo>
              </a:path>
              <a:path fill="none" w="21600" h="21600">
                <a:moveTo>
                  <a:pt x="2700" y="2025"/>
                </a:moveTo>
                <a:lnTo>
                  <a:pt x="2700" y="18900"/>
                </a:lnTo>
              </a:path>
              <a:path fill="none" w="21600" h="21600">
                <a:moveTo>
                  <a:pt x="18900" y="2025"/>
                </a:moveTo>
                <a:lnTo>
                  <a:pt x="18900" y="18900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пасо - Преображен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7"/>
          <p:cNvSpPr/>
          <p:nvPr/>
        </p:nvSpPr>
        <p:spPr>
          <a:xfrm>
            <a:off x="324000" y="2019240"/>
            <a:ext cx="43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6600"/>
                </a:solidFill>
                <a:latin typeface="Arial"/>
              </a:rPr>
              <a:t>Наш город просыпается под звон колоко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6600"/>
                </a:solidFill>
                <a:latin typeface="Arial"/>
              </a:rPr>
              <a:t>И утро улыбается в сиянии купо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6600"/>
                </a:solidFill>
                <a:latin typeface="Arial"/>
              </a:rPr>
              <a:t>В. Вол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Picture 10" descr="hram28"/>
          <p:cNvPicPr/>
          <p:nvPr/>
        </p:nvPicPr>
        <p:blipFill>
          <a:blip r:embed="rId1"/>
          <a:stretch/>
        </p:blipFill>
        <p:spPr>
          <a:xfrm>
            <a:off x="4788000" y="1700280"/>
            <a:ext cx="4033800" cy="3097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WordArt 4"/>
          <p:cNvSpPr txBox="1"/>
          <p:nvPr/>
        </p:nvSpPr>
        <p:spPr>
          <a:xfrm>
            <a:off x="1258920" y="476280"/>
            <a:ext cx="684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6633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се дорого мне в городе моем!</a:t>
            </a:r>
            <a:endParaRPr b="1" i="1" lang="en-US" sz="1800" spc="1" strike="noStrike">
              <a:ln w="12600">
                <a:solidFill>
                  <a:srgbClr val="6633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93" name="Picture 5" descr="a105"/>
          <p:cNvPicPr/>
          <p:nvPr/>
        </p:nvPicPr>
        <p:blipFill>
          <a:blip r:embed="rId2"/>
          <a:stretch/>
        </p:blipFill>
        <p:spPr>
          <a:xfrm>
            <a:off x="4859280" y="3716280"/>
            <a:ext cx="3944880" cy="273060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6" descr="a506"/>
          <p:cNvPicPr/>
          <p:nvPr/>
        </p:nvPicPr>
        <p:blipFill>
          <a:blip r:embed="rId3"/>
          <a:stretch/>
        </p:blipFill>
        <p:spPr>
          <a:xfrm>
            <a:off x="468360" y="1484280"/>
            <a:ext cx="3816360" cy="2685960"/>
          </a:xfrm>
          <a:prstGeom prst="rect">
            <a:avLst/>
          </a:prstGeom>
          <a:ln w="0">
            <a:noFill/>
          </a:ln>
        </p:spPr>
      </p:pic>
      <p:sp>
        <p:nvSpPr>
          <p:cNvPr id="795" name="Rectangle 7"/>
          <p:cNvSpPr/>
          <p:nvPr/>
        </p:nvSpPr>
        <p:spPr>
          <a:xfrm>
            <a:off x="5076720" y="1484280"/>
            <a:ext cx="36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Monotype Corsiva"/>
              </a:rPr>
              <a:t>Мой город – малая зем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Monotype Corsiva"/>
              </a:rPr>
              <a:t>В стране с названием Ру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Monotype Corsiva"/>
              </a:rPr>
              <a:t>И, несмотря на то, что мо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Monotype Corsiva"/>
              </a:rPr>
              <a:t>Всем сердцем им горжус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Monotype Corsiva"/>
              </a:rPr>
              <a:t>Л. Шат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8"/>
          <p:cNvSpPr/>
          <p:nvPr/>
        </p:nvSpPr>
        <p:spPr>
          <a:xfrm>
            <a:off x="395280" y="4365720"/>
            <a:ext cx="3960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Monotype Corsiva"/>
              </a:rPr>
              <a:t>Ты один такой в Росс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Monotype Corsiva"/>
              </a:rPr>
              <a:t>Губкин, город 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Monotype Corsiva"/>
              </a:rPr>
              <a:t>Губкин, город тополи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Monotype Corsiva"/>
              </a:rPr>
              <a:t>Город мой род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Monotype Corsiva"/>
              </a:rPr>
              <a:t>Л. Лун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834920" y="404280"/>
            <a:ext cx="5770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Фонтаны гор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10920" y="1052640"/>
            <a:ext cx="7931160" cy="79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Фонтаны Губкина! В них девять муз ликует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Каскады струй, затейный лад – пленяе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Picture 4" descr="a106"/>
          <p:cNvPicPr/>
          <p:nvPr/>
        </p:nvPicPr>
        <p:blipFill>
          <a:blip r:embed="rId1"/>
          <a:stretch/>
        </p:blipFill>
        <p:spPr>
          <a:xfrm>
            <a:off x="468360" y="1989000"/>
            <a:ext cx="3240000" cy="2303640"/>
          </a:xfrm>
          <a:prstGeom prst="rect">
            <a:avLst/>
          </a:prstGeom>
          <a:ln w="0">
            <a:noFill/>
          </a:ln>
        </p:spPr>
      </p:pic>
      <p:pic>
        <p:nvPicPr>
          <p:cNvPr id="800" name="Picture 5" descr="a604"/>
          <p:cNvPicPr/>
          <p:nvPr/>
        </p:nvPicPr>
        <p:blipFill>
          <a:blip r:embed="rId2"/>
          <a:stretch/>
        </p:blipFill>
        <p:spPr>
          <a:xfrm>
            <a:off x="4788000" y="1916280"/>
            <a:ext cx="3671640" cy="367164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6" descr="a122"/>
          <p:cNvPicPr/>
          <p:nvPr/>
        </p:nvPicPr>
        <p:blipFill>
          <a:blip r:embed="rId3"/>
          <a:stretch/>
        </p:blipFill>
        <p:spPr>
          <a:xfrm>
            <a:off x="468360" y="4508640"/>
            <a:ext cx="3240000" cy="2146320"/>
          </a:xfrm>
          <a:prstGeom prst="rect">
            <a:avLst/>
          </a:prstGeom>
          <a:ln w="0">
            <a:noFill/>
          </a:ln>
        </p:spPr>
      </p:pic>
      <p:sp>
        <p:nvSpPr>
          <p:cNvPr id="802" name="Rectangle 8"/>
          <p:cNvSpPr/>
          <p:nvPr/>
        </p:nvSpPr>
        <p:spPr>
          <a:xfrm>
            <a:off x="3995640" y="5670360"/>
            <a:ext cx="51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Всмотритесь, люди! Это волшебство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В раздумьях удивитесь! – Мастерств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Л. Агафо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60595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66"/>
                </a:solidFill>
                <a:latin typeface="Arial"/>
              </a:rPr>
              <a:t>Скверы гор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394920" y="5229000"/>
            <a:ext cx="4546440" cy="116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ff66"/>
                </a:solidFill>
                <a:latin typeface="Monotype Corsiva"/>
              </a:rPr>
              <a:t>Мы любим из цветов звер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ff66"/>
                </a:solidFill>
                <a:latin typeface="Monotype Corsiva"/>
              </a:rPr>
              <a:t>С их появленьем стало веселей.</a:t>
            </a:r>
            <a:r>
              <a:rPr b="1" lang="ru-RU" sz="2800" spc="-1" strike="noStrike">
                <a:solidFill>
                  <a:srgbClr val="cc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Picture 4" descr="a503"/>
          <p:cNvPicPr/>
          <p:nvPr/>
        </p:nvPicPr>
        <p:blipFill>
          <a:blip r:embed="rId1"/>
          <a:stretch/>
        </p:blipFill>
        <p:spPr>
          <a:xfrm>
            <a:off x="684360" y="1484280"/>
            <a:ext cx="3957480" cy="352260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5" descr="a512"/>
          <p:cNvPicPr/>
          <p:nvPr/>
        </p:nvPicPr>
        <p:blipFill>
          <a:blip r:embed="rId2"/>
          <a:stretch/>
        </p:blipFill>
        <p:spPr>
          <a:xfrm>
            <a:off x="5148360" y="3068640"/>
            <a:ext cx="3732120" cy="351936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6" descr="a511"/>
          <p:cNvPicPr/>
          <p:nvPr/>
        </p:nvPicPr>
        <p:blipFill>
          <a:blip r:embed="rId3"/>
          <a:stretch/>
        </p:blipFill>
        <p:spPr>
          <a:xfrm>
            <a:off x="6300720" y="333360"/>
            <a:ext cx="23925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3:40:29Z</dcterms:created>
  <dc:creator>Atomix</dc:creator>
  <dc:description/>
  <dc:language>en-US</dc:language>
  <cp:lastModifiedBy>Майя</cp:lastModifiedBy>
  <dcterms:modified xsi:type="dcterms:W3CDTF">2015-01-20T08:49:16Z</dcterms:modified>
  <cp:revision>4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