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9AC-5422-498B-A571-CE40473B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E86-05B4-4B75-98E4-D3E44C8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F84-F829-4A80-98BB-D86C8A2F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D43-E024-43EF-B33D-2413A5CD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5C98-65B2-4DC6-93F7-5DDDE87E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5993-033C-44C5-8871-2464256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0182-1D47-41F2-AA62-5178244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EBDE-2287-4F26-9404-83251C60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B914-EA72-4A56-B44D-3B342EB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5FB-6449-4425-95D4-690708B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8C46-7441-444A-8B79-33535C3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813-8265-40D3-B7CA-E262DC8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85A0-392B-4643-BC7A-6F0FBEF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727-334C-4C55-8767-87FCBCA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70A-EB7B-46E1-9FF4-5EEFA38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DE06-0497-4390-AAFB-CE3B7A0D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E59A-B916-4143-B363-938F1A5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C8B6-E591-4529-BA99-2E246394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CE64-ACE4-4E1E-A9E3-4DF46C5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FF2F-0505-4681-8F7E-3708148D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DCF5-D7C4-486A-B4C7-AEBAF792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5313-CADC-40CC-8960-C2C675E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EAD-1F05-422D-ACED-88751CA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9EB1-7513-412D-BE59-08DD739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4E68-0ABB-4295-9823-44EBD82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1B66-AB45-49EE-A172-7B578D6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C1B9-06C1-47AB-89C2-A9D9EB1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259F-0073-4599-92AA-47FF7AF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9427-5DB1-474A-BB39-0F5886E7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A15C-21AE-4DA3-A847-646D61A0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55B85-D799-4857-A897-8EBCFCD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B134B-0EE1-4F99-B5F0-EB807568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86114-3BBF-4FD0-B83A-ACE9EB3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8D3-1CDC-461A-9F90-3427733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121FB-4216-4A26-8B15-9A28C2E6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C4CA1-58E9-4B22-B1B4-9955B528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17AFA-8D66-4307-B785-9062451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94D00-35FC-414E-9965-C39B33B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7E2B6-EC78-4B30-90F4-8ED5C4C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AF292-4141-468A-847E-D64C1E9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36954-EE6A-4AE4-B37B-0F22E0C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A4D31-EDCE-4B68-B4C3-44C7D396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3B820-F275-45DF-89EF-60B01E6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83B-BC03-47EA-A2DD-A8476A2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FD-8105-4EF3-BC20-EAB9C10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4A7-B246-442A-A4EC-0253F91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3B8-9FE2-4C0E-8BFB-3EB96D8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2EE-0DAF-4A1B-9315-A08AF6E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C5C0-AFB5-4D1E-BE00-F84193142F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572-D5B4-4155-9965-922459BF4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7C1F-9540-4515-842C-F2FD9A56D2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3131-DA09-4B40-9932-CDA8B524EC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 наличия гумуса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 механического состава 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321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чвенный профиль –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ертикальный разрез почвы от поверхности до материнской по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енный профиль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6027" b="0"/>
          <a:stretch/>
        </p:blipFill>
        <p:spPr>
          <a:xfrm>
            <a:off x="395280" y="1125360"/>
            <a:ext cx="5402160" cy="5399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6011640" y="620280"/>
            <a:ext cx="209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значить вклад В. В. Докучаева в изучении поч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ть определение понятию «почва», определить факторы почвообразования, обозначить основное свойство почвы, рассмотреть почвенные профи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накомиться с основными видами поч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edff"/>
                </a:solidFill>
                <a:latin typeface="Arial"/>
              </a:rPr>
              <a:t>Кодированный диктант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І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. В. Ломо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 В. Докуч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дор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ноз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нская по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ноз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йменные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венный проф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ІІ вариа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 В. Докуч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нская по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. В. Ломо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венный проф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йменные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дор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ноз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ноз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15, вопросы и задания на С 92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05408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Добра мать для своих детей, а земля – для всех люд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емля – мать человеку, его кормилица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62720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Arial Black"/>
              </a:rPr>
              <a:t>– это рыхлый плодородный поверхностный слой суши, образование которого происходило в течение длительного времени в процессе взаимодействия материнской породы, растений, животных, микроорганизмов, климата и рельефа</a:t>
            </a:r>
            <a:r>
              <a:rPr b="0" lang="ru-RU" sz="3600" spc="-1" strike="noStrike">
                <a:solidFill>
                  <a:srgbClr val="6699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36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803640" y="3645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314172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80360" y="3068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лье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1-03-22T21:43:04Z</dcterms:modified>
  <cp:revision>20</cp:revision>
  <dc:subject/>
  <dc:title>PowerPoint Presentation</dc:title>
</cp:coreProperties>
</file>