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14CB-C97C-4156-8600-A20AAA46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B7E9-A40F-4E5D-B19E-5B2E8294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E207-09D5-4025-9580-A5871F98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AD4D-B7B2-4317-B875-3742A6F4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B3AF-9541-45FD-AE4F-6988192A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70BB-C497-4F2C-95A0-400D4C54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FE6-285F-421D-959C-6CB6AC3A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F67-5DFF-4DB1-91A2-92A9060E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235-8603-4AF1-A9AC-A0E8F5DD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C28-9542-4FC3-81C7-2C07AABC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199-54AF-4F70-8CE5-DAD443B6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7C19-C90F-401D-9FCB-D168EAD6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9B2A-BE77-438D-BDA7-DEEBF265A96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Факультатив «Культура речи»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5 класс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жливая оценка и вежливая критика (фрагмент практического занятия с использованием ИК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-логопед Макарова Н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Материалы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кушкина, О.И. Использование информационных технологий в различных областях специального образования [Текст]: автореф. дис. ... д-ра пед. наук: 13.00.03 / Кукушкина Ольга Ильинична. - М., 2005. - 58 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a4"/>
                </a:solidFill>
                <a:latin typeface="Arial"/>
              </a:rPr>
              <a:t>Вежливая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a4"/>
                </a:solidFill>
                <a:latin typeface="Arial"/>
              </a:rPr>
              <a:t>оценка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1628280"/>
            <a:ext cx="6400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Умеешь ли ты вежливо оценить чью-нибудь работу, человека, его внешность и характер? Помнишь ли ты, как зеркальце отвечало на вопрос царицы из «Сказки о мертвой царевне и семи богатырях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ы прекрасна, спору н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царевна всех миле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х румяней и бел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правда ли, зеркальце умело вежливо сказать правд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72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Представь себе, что ты Хозяйка Медной горы и должна выбрать ответ, чтобы оценить работу Данилы-мастера. Набери номер наиболее вежливой оцен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бе еще надо много работать, Данила-масте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вои работы мне совсем не нравя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но, что ты много потрудился, Данила, и эти работы гораздо искуснее. Еще не все хорошо у тебя получается, но если ты постараешься, то Каменный цветок оживет у тебя в рук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Анализ ответов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53499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Arial"/>
              </a:rPr>
              <a:t>1 или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Arial"/>
              </a:rPr>
              <a:t>Боюсь, что у такой Хозяйки, п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Arial"/>
              </a:rPr>
              <a:t>такой оценке Данила не захоч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Arial"/>
              </a:rPr>
              <a:t>а может быть, и не смож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Arial"/>
              </a:rPr>
              <a:t>работать. Не жди тог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Arial"/>
              </a:rPr>
              <a:t>Каменного цвет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cc99"/>
                </a:solidFill>
                <a:latin typeface="Arial"/>
              </a:rPr>
              <a:t>От такой оценки труда Данила поверит в свои силы и сделает все, что позволит ему мастерство и вдохновение. Считайте, что Каменный цветок у вас в руках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MCj04338180000[1]"/>
          <p:cNvPicPr/>
          <p:nvPr/>
        </p:nvPicPr>
        <p:blipFill>
          <a:blip r:embed="rId1"/>
          <a:stretch/>
        </p:blipFill>
        <p:spPr>
          <a:xfrm>
            <a:off x="5651640" y="1773360"/>
            <a:ext cx="1512720" cy="115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MCj04338230000[1]"/>
          <p:cNvPicPr/>
          <p:nvPr/>
        </p:nvPicPr>
        <p:blipFill>
          <a:blip r:embed="rId2"/>
          <a:stretch/>
        </p:blipFill>
        <p:spPr>
          <a:xfrm>
            <a:off x="5867280" y="4653000"/>
            <a:ext cx="1511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a4"/>
                </a:solidFill>
                <a:latin typeface="Arial"/>
              </a:rPr>
              <a:t>Вежливая крити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верное, тебе иногда приходится высказывать свое мнение о человеке, его поступках, работе. И это мнение у тебя не совсем положительно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ь себе, что героев сказки «Лиса и Журавль» пригласил к себе в гости Ежик. Во время обеда они высказывают свое мнение о том, как их принимали в гост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7128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333360"/>
            <a:ext cx="8540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хорошо было на званом обеде. И вежливое обращение и хорошее угощение. Жаль только попробовать ничего не удалось. Не подумала хозяйка о подходящей посу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ж не знаю, зачем пригласили меня на обед. Ни крошечки нельзя съесть из этой посуды. Больше не просите – не при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у принадлежит первое высказыван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торое высказыван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Анализ ответов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Журав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Лис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ы угадал прави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Ли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Журав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ь внимательне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MCj04338230000[1]"/>
          <p:cNvPicPr/>
          <p:nvPr/>
        </p:nvPicPr>
        <p:blipFill>
          <a:blip r:embed="rId1"/>
          <a:stretch/>
        </p:blipFill>
        <p:spPr>
          <a:xfrm>
            <a:off x="5940360" y="1484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MCj04338240000[1]"/>
          <p:cNvPicPr/>
          <p:nvPr/>
        </p:nvPicPr>
        <p:blipFill>
          <a:blip r:embed="rId2"/>
          <a:stretch/>
        </p:blipFill>
        <p:spPr>
          <a:xfrm>
            <a:off x="6516720" y="4365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Как ты думаешь, что мог сказать Ежик?</a:t>
            </a:r>
            <a:br>
              <a:rPr sz="3200"/>
            </a:b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Выбери (укажи номер) наиболее вежливой критики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уравль был добрее и вежливее, Лисонька. Он тебя не обидел ни одним слов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сонька, ты, мне кажется, не совсем права. Ведь ты первая пригласила Журавля к себе в г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у, ребята, вы оба не правы. И мирить я вас не бу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Анализ ответов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268280"/>
            <a:ext cx="8540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Arial"/>
              </a:rPr>
              <a:t>1,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Arial"/>
              </a:rPr>
              <a:t>Ты – молодец, понял, что критика должна быть доброжелатель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941c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941c"/>
                </a:solidFill>
                <a:latin typeface="Arial"/>
              </a:rPr>
              <a:t>Ежик, наверное, слишком прямолинеен в своей оценке и своих выводах. С такой критикой не надо спешит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MCj04338230000[1]"/>
          <p:cNvPicPr/>
          <p:nvPr/>
        </p:nvPicPr>
        <p:blipFill>
          <a:blip r:embed="rId1"/>
          <a:stretch/>
        </p:blipFill>
        <p:spPr>
          <a:xfrm>
            <a:off x="6012000" y="2349360"/>
            <a:ext cx="1296720" cy="1150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MCj04338180000[1]"/>
          <p:cNvPicPr/>
          <p:nvPr/>
        </p:nvPicPr>
        <p:blipFill>
          <a:blip r:embed="rId2"/>
          <a:stretch/>
        </p:blipFill>
        <p:spPr>
          <a:xfrm>
            <a:off x="6300720" y="5157720"/>
            <a:ext cx="1440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2:55:13Z</dcterms:created>
  <dc:creator>Макаров Антон</dc:creator>
  <dc:description/>
  <dc:language>en-US</dc:language>
  <cp:lastModifiedBy>Ищкшы</cp:lastModifiedBy>
  <dcterms:modified xsi:type="dcterms:W3CDTF">2015-01-20T13:30:26Z</dcterms:modified>
  <cp:revision>4</cp:revision>
  <dc:subject/>
  <dc:title>Вежливая оценка.</dc:title>
</cp:coreProperties>
</file>