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491-547C-4AB7-82DF-687102C9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4DC-CA41-46D1-9177-4438F9D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5F5-0EB8-4F12-A295-A4AE5B47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7AC-BA56-41BA-A828-C12663FA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BE5-D823-4278-BFB1-2ED09BDB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B03-D2FF-4DCA-A4B6-BA91C70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F98-929F-454C-9D26-5C9ACA4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EE37-CA57-4B25-8C3A-53A27A0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56D-605A-4CFC-AFAE-0F990F7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A6A-71CC-46F8-B75C-F501C9B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76BA-30F5-4CED-8AE9-A41814F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DD3-F5A3-438F-8916-B27AC1F8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034F-7458-413A-83A1-1897195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6E0B-981B-4E0E-81CB-88AAC47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D44-344B-427B-88B3-23B5E146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40E6-8040-46F9-B43B-31A5BEF1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8E53-A8C3-49BF-9ECA-2C17DA02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40B9-548B-4743-A2B0-4E319028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200A-D772-4EEF-B9CE-D669610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8484-5137-4C63-AFFC-A85FBFF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D509-42BB-49A2-AA11-9A02AFBE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D0F9-3FF7-4B49-AE43-FD5CA89D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D9E-FF61-4615-9AA1-53C852F7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E492-3DD0-4CF4-8561-B0515AB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5EF6-9EE7-4A9B-BA8C-D1C0458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46DC-92EE-4C1D-BEDA-595D6FA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D060-5177-4313-8640-6FD242E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ABBB-B7F9-4372-81B8-CDFF1257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1BCA-278C-4313-906E-1F56ABE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761E-AAE5-4BC6-9588-BB4CD55B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23EF-5E53-4745-AD2E-90E3897A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8D3C-BAB5-4E66-8097-4380A996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4DBA-BD3C-44A0-988B-8194C78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4C7-5B7B-4E6E-9908-C9999D5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CFA0-5086-4B1B-BFCC-083DE4A7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86E5-D16A-433F-B616-D9F4445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C912-D1A2-4F4B-9889-37B42A6F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6615-343E-4EC9-B8E8-6EAF1EB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F856B-58FF-4DE6-80CC-29FB79C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C832-849B-48D4-A650-7FAF5DB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6FEC-47EC-412E-8004-6FFFC69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1B0D-CE2C-47CF-A291-0A16FE52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A765-9497-4285-86E2-CE71FA99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62E-AE52-44B4-B039-A6ED53AB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8DA-A291-4E9D-BFD5-A9DEB81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1D9-4607-4D24-8E2C-8D8C7D7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3F8-855B-4E8A-A2BF-B4C0702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813-EC72-4D16-8ACE-DA88FC9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7E7B9-F329-453C-BAE9-F6A233BE9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16A1EE1-F918-4102-B319-78A582711BF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8427200">
            <a:off x="8574840" y="-16560"/>
            <a:ext cx="128124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AE40AB6-A3F8-4369-AD06-5220405CE4EB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8670960" y="26640"/>
            <a:ext cx="128412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8633520" y="211680"/>
            <a:ext cx="1130400" cy="17319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1" name=""/>
            <p:cNvSpPr/>
            <p:nvPr/>
          </p:nvSpPr>
          <p:spPr>
            <a:xfrm>
              <a:off x="42480" y="6132960"/>
              <a:ext cx="1905480" cy="1135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8840" y="6267960"/>
              <a:ext cx="124200" cy="2250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80" y="6603480"/>
              <a:ext cx="1386000" cy="7171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6080" y="6662880"/>
              <a:ext cx="918360" cy="654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9240" y="6180120"/>
              <a:ext cx="235800" cy="2116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22120" y="7284240"/>
              <a:ext cx="132840" cy="195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720" y="6311520"/>
              <a:ext cx="337680" cy="669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9640" y="6281640"/>
              <a:ext cx="636840" cy="3042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7680" y="6462000"/>
              <a:ext cx="272880" cy="117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73360" y="6276600"/>
                  <a:ext cx="274680" cy="151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756440" y="6232680"/>
                  <a:ext cx="75240" cy="2044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33200" y="6530040"/>
                <a:ext cx="1040760" cy="437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5400" y="6799320"/>
                <a:ext cx="426600" cy="258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8560" y="6439320"/>
                <a:ext cx="187200" cy="415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360" y="6522840"/>
                  <a:ext cx="1472760" cy="7696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5760" y="6596640"/>
                  <a:ext cx="139680" cy="291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4200" y="6351480"/>
                  <a:ext cx="340920" cy="236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118" name=""/>
            <p:cNvSpPr/>
            <p:nvPr/>
          </p:nvSpPr>
          <p:spPr>
            <a:xfrm flipH="1">
              <a:off x="9569520" y="4584240"/>
              <a:ext cx="358560" cy="2497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636120" y="2332080"/>
              <a:ext cx="358560" cy="285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121" name="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122" name=""/>
              <p:cNvSpPr/>
              <p:nvPr/>
            </p:nvSpPr>
            <p:spPr>
              <a:xfrm rot="18427200">
                <a:off x="9502200" y="1899000"/>
                <a:ext cx="10836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124" name="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320" y="14400"/>
            <a:ext cx="9807480" cy="74739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2720" y="1665000"/>
            <a:ext cx="7056720" cy="250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88E8A9B-FA3B-489A-9B09-F3184E2BE31C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175" name=""/>
            <p:cNvSpPr/>
            <p:nvPr/>
          </p:nvSpPr>
          <p:spPr>
            <a:xfrm>
              <a:off x="310680" y="309600"/>
              <a:ext cx="3936240" cy="1779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240" y="456480"/>
              <a:ext cx="3925800" cy="176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0160" y="601560"/>
              <a:ext cx="2603520" cy="1608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179" name=""/>
              <p:cNvSpPr/>
              <p:nvPr/>
            </p:nvSpPr>
            <p:spPr>
              <a:xfrm>
                <a:off x="3508560" y="1634400"/>
                <a:ext cx="370800" cy="374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6000" y="258840"/>
                <a:ext cx="4174200" cy="1891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7720" y="276120"/>
                <a:ext cx="2949480" cy="1074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6400" y="438840"/>
                <a:ext cx="397080" cy="717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81040" y="937800"/>
                <a:ext cx="1208520" cy="636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185" name=""/>
            <p:cNvSpPr/>
            <p:nvPr/>
          </p:nvSpPr>
          <p:spPr>
            <a:xfrm rot="7320000">
              <a:off x="8591760" y="5137560"/>
              <a:ext cx="110016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8564760" y="5113440"/>
              <a:ext cx="10965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8749440" y="5096520"/>
              <a:ext cx="72792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89" name=""/>
              <p:cNvSpPr/>
              <p:nvPr/>
            </p:nvSpPr>
            <p:spPr>
              <a:xfrm rot="7320000">
                <a:off x="8727480" y="55818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553240" y="5127120"/>
                <a:ext cx="116604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858520" y="5244120"/>
                <a:ext cx="82548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9386640" y="5028120"/>
                <a:ext cx="10980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989200" y="5248800"/>
                <a:ext cx="33732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93600" y="5572080"/>
            <a:ext cx="7504200" cy="8031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4240" y="2127240"/>
            <a:ext cx="979560" cy="4208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311640" y="1258920"/>
            <a:ext cx="4105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оощрения и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казания: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быть?"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16000" y="4858920"/>
            <a:ext cx="431964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ванникова Наталья Петровна,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0000" y="181080"/>
            <a:ext cx="842472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чреждение социального обслуживания Ханты – Мансийского автономного округа – 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Реабилитационный Центр для детей и подростков «Гармо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45080" y="7164360"/>
            <a:ext cx="223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Нягань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36360" y="394920"/>
            <a:ext cx="4465800" cy="6356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040360" y="1619280"/>
            <a:ext cx="4691160" cy="5545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6000" y="250920"/>
            <a:ext cx="4537080" cy="64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ч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казания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Ошибочное мнение многих родителей, что без ремня ничего хорошего из ребенка выйти не мож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Несдержанность родителей, срыв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устота родителей внутри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8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8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8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539280"/>
            <a:ext cx="9072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зическое наказание притупляет все лучшие качества в детях, способствует развитию в них лжи, лицемерия, трусости и жестокости, возбуждает злобу и ненависть к стар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672000" y="2843280"/>
            <a:ext cx="5975280" cy="42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6000" y="826920"/>
            <a:ext cx="5256000" cy="532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бодная личность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может сформироваться  в семейном рабств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енок остает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своем мнени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 перестает быть жизнерадостным, становится угрюмым и скры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01_05_00"/>
          <p:cNvPicPr/>
          <p:nvPr/>
        </p:nvPicPr>
        <p:blipFill>
          <a:blip r:embed="rId1"/>
          <a:stretch/>
        </p:blipFill>
        <p:spPr>
          <a:xfrm>
            <a:off x="5400720" y="826920"/>
            <a:ext cx="4392720" cy="5473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1115640"/>
            <a:ext cx="4896000" cy="38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ивн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ра воздействия на провинившегося ребенка - это ваше временное пренебрежение общением с н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545080" y="1403280"/>
            <a:ext cx="3429000" cy="514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f6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302760"/>
            <a:ext cx="8856720" cy="1676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лавный метод воспитания - это УБЕЖ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162160" y="2265480"/>
            <a:ext cx="5904000" cy="461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6920" y="324000"/>
            <a:ext cx="4824360" cy="648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ворите с ребенком, общайтесь с ним, ищите примеры  положительного подтвержд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оих мысле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ясните, почему его поступок заслуживае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08360" y="1403280"/>
            <a:ext cx="5040360" cy="539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24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огда косвенное воздействие оказывает на ребенка более сильное влияние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вает полезнее прочитать рассказ или сказку, в которых говорится о подобны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456000" y="2914560"/>
            <a:ext cx="6048360" cy="427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6000" y="394920"/>
            <a:ext cx="9864720" cy="230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ахваливайте ребенк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ощрять детей надо в меру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поощрение стало стимуло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не навредило общему делу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016000" y="2843280"/>
            <a:ext cx="6194520" cy="45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5329440" cy="723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е спешите наказывать.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ячность - плохая помощница воспитател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Не откладывайте наказание на слишком долгие сроки, иначе наказание превратится в месть. А месть не достойна челове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Есть дети, которых не возьмешь ни наказанием, ни добром, но великодушное отношение в конце - концов спас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532080" y="-1606680"/>
            <a:ext cx="2228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ая помощ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545080" y="826920"/>
            <a:ext cx="431964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394920"/>
            <a:ext cx="979344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</a:rPr>
              <a:t>Ситуация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чером мама забрала дочку Соню из Реабилитационного Центра, где воспитатель группы, которую посещает Соня, пожаловалась, что девочка плохо вела себя, сломала постройку Вити и ударила Сашу по голове кубиком. Дома мама  накричала на дочь: «Да в кого же ты у нас такая, все время на тебя жалуются. Мне это уже надоело!». После чего она наказала дочку и поставила в угол. Права ли мама? Как поступили бы вы?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16360" y="3274920"/>
            <a:ext cx="3497400" cy="42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7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5774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« Наказание - это причинение вреда  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причиняющему вред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Похвала- педагогический домкрат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В.Кротов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«Кто не возьмет лаской,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             не возьмет и строгостью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Народная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289080" y="4067280"/>
            <a:ext cx="3435480" cy="34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16000" y="324000"/>
            <a:ext cx="9577440" cy="54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итуация 2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все успехи и достижения взрослые в знак благодарности делают подарки ребенку. Когда дочь заняла призовое  место в конкурсе, в качестве поощрения бабушка купила ей в подарок книгу  А.С.Пушкина и конфеты. А Надя, развернув подарок, сделала гримасу и объявила во всеуслышание: «Книжки у нас есть, а конфеты такие дешевые не нужны!» И отвернулась. Какие допущены ошибки в воспитании? Как поступили бы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672000" y="4643280"/>
            <a:ext cx="201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7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1640" y="302760"/>
            <a:ext cx="43912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туация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763640"/>
            <a:ext cx="97934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 просит купить конструктор. А взрослые обещают: «Вот закончишь учебную четверть без троек, тогда и купим конструктор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допущены ошиб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поступили бы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335640" y="3708360"/>
            <a:ext cx="2521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8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8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8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60000" y="394920"/>
            <a:ext cx="943308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омните! Ваше внимание, любовь, ласка, дружеское участие и расположение могут сделать для вашего ребенка больше, чем самый дорогой подар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944720" y="2808360"/>
            <a:ext cx="6048360" cy="454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154160" y="1619280"/>
            <a:ext cx="813744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2664000" cy="193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00360" y="3924360"/>
            <a:ext cx="6573600" cy="335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5280" y="370080"/>
            <a:ext cx="80661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анкет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84208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19280" y="1766880"/>
          <a:ext cx="8858160" cy="4916520"/>
        </p:xfrm>
        <a:graphic>
          <a:graphicData uri="http://schemas.openxmlformats.org/drawingml/2006/table">
            <a:tbl>
              <a:tblPr/>
              <a:tblGrid>
                <a:gridCol w="595080"/>
                <a:gridCol w="3024360"/>
                <a:gridCol w="1620720"/>
                <a:gridCol w="1747800"/>
                <a:gridCol w="1870200"/>
              </a:tblGrid>
              <a:tr h="34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анк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 №1. Как вы считаете, можно л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замечание чужому ребенк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замечания своему ребенк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чать на чужого ребен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чать на своего ребен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ить чужого ребен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ить своего ребен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84208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5160" y="-1703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19280" y="250920"/>
          <a:ext cx="9001080" cy="6973920"/>
        </p:xfrm>
        <a:graphic>
          <a:graphicData uri="http://schemas.openxmlformats.org/drawingml/2006/table">
            <a:tbl>
              <a:tblPr/>
              <a:tblGrid>
                <a:gridCol w="576000"/>
                <a:gridCol w="3392640"/>
                <a:gridCol w="1614600"/>
                <a:gridCol w="1392120"/>
                <a:gridCol w="202572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анк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олностью 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трудно сказ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совершенно не 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 №2. Согласны ли вы со следующими утверждениям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можно шлепнуть, потому что боль невелика, а польза значитель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 ответил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 в детстве тоже наказывали, но это мне не навредил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можно ударить только тогда, когда уже нет других способов воз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й так рассердишься, что рука сама поднима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наставить дитя «на путь истинный», применять средства физического наказания можно и нуж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7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84208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76360" y="826920"/>
          <a:ext cx="8856720" cy="5759640"/>
        </p:xfrm>
        <a:graphic>
          <a:graphicData uri="http://schemas.openxmlformats.org/drawingml/2006/table">
            <a:tbl>
              <a:tblPr/>
              <a:tblGrid>
                <a:gridCol w="503280"/>
                <a:gridCol w="3362040"/>
                <a:gridCol w="1687680"/>
                <a:gridCol w="1455840"/>
                <a:gridCol w="184788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я ни был рассержен, я всегда могу сдержаться, чтобы не ударить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ь ребенка, конечно, нельзя, но высказать все, что ты о нем думаешь, мож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юбой ситуации я могу не унизить человеческое достоинство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я не прав, то могу искренне попросить прощения у ребен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оей жизни я никогда не ударил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576720" y="394920"/>
            <a:ext cx="9069480" cy="657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87280" y="1476360"/>
            <a:ext cx="8929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постоянно ставили мальчика в угол. Однажды он сказал своему отцу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Еще раз поставишь в угол, сбегу к бабушке.           С вами больше жить не бу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ы ли родители? Как поступили бы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000" y="179280"/>
            <a:ext cx="54864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им ситу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60720" y="4427640"/>
            <a:ext cx="237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8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04720" y="466200"/>
            <a:ext cx="9072720" cy="628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Ребенок плохо ведет себя на улице и в гостях (то есть в те моменты, когда на него устремлены взоры других людей). Мать кричит: «Ах, ты… Да как ты смеешь! Да я тебе…» и дает подзатыльник ребенку. Права ли она? Как поступили бы вы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7640" y="4572000"/>
            <a:ext cx="22273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87280" y="466200"/>
            <a:ext cx="9577440" cy="628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В семье родился маленький ребенок. Старший ребенок - ученик третьего класса, резко изменился: стал плаксивым, все чаще и чаще стал проявлять агрессивность по отношению к родителям, маленький ребенок тоже стал предметом агрессии. В очередной раз, когда мама попросила посидеть с малышом, третьеклассник ответил: « Я в няньки не нанимался!».     Родители были страшно возмущены,  последовало наказание за провинность.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Правы ли родители?                                                    Как поступили бы вы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777080" y="5508720"/>
            <a:ext cx="1513080" cy="18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0360" y="826920"/>
            <a:ext cx="228924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92000" y="684360"/>
            <a:ext cx="61279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поступи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ить ли наказ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408720" y="3992400"/>
            <a:ext cx="3168720" cy="3137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/>
  <dc:description/>
  <dc:language>en-US</dc:language>
  <cp:lastModifiedBy>Admin</cp:lastModifiedBy>
  <dcterms:modified xsi:type="dcterms:W3CDTF">2011-02-24T20:36:46Z</dcterms:modified>
  <cp:revision>13</cp:revision>
  <dc:subject/>
  <dc:title>Учитель: Таневич В.А. 20010-20011 уч.г.</dc:title>
</cp:coreProperties>
</file>