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24B-4621-46DF-88C4-6426EC96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8F7-1A8C-4DAF-A233-B3B837A9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97B-CEA5-482A-9EFE-70606D2B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0C5-9614-4581-800F-EFC48F73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6AC-A1E7-4054-BE6A-27A5B626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43A-DC60-422E-BED6-7C5DB171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DEE-9887-4382-A348-BEC05FBE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978-052F-4261-985F-CE7C37FF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3C9-6EAA-4E48-A874-235D8486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541-923D-4C08-B789-637DB112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F4A-4514-47A0-BEA0-AA0818B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A10-1778-4E71-9FDC-6C2CA85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5326-467B-4945-BFF0-A0626C3FD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620640"/>
            <a:ext cx="74898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           </a:t>
            </a: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щественный смотр    знаний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по литературному чтению</a:t>
            </a:r>
            <a:br>
              <a:rPr sz="4800"/>
            </a:br>
            <a:br>
              <a:rPr sz="48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м дальше в будущее смотрим, тем больше прошлым дорожим 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4652640"/>
            <a:ext cx="64008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3416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Цели 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3840" y="1484280"/>
            <a:ext cx="83898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и систематизировать знания по теме «Устное народное творчество. Фольклор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знания основных терминов и умение эмоционально, выразительно выступать перед аудитор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видеть красоту и богатство русской речи, воспитывать бережное отношение к н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c85a"/>
                </a:solidFill>
                <a:uFillTx/>
                <a:latin typeface="Calibri"/>
              </a:rPr>
              <a:t>Этапы ОСЗ: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6920" y="1628640"/>
            <a:ext cx="7488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иц- 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ь себ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та творческих про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                                          </a:t>
            </a:r>
            <a:r>
              <a:rPr b="1" lang="en-US" sz="4800" spc="-1" strike="noStrike" u="sng">
                <a:solidFill>
                  <a:srgbClr val="00c85a"/>
                </a:solidFill>
                <a:uFillTx/>
                <a:latin typeface="Times New Roman"/>
                <a:ea typeface="Times New Roman"/>
              </a:rPr>
              <a:t>I </a:t>
            </a:r>
            <a:r>
              <a:rPr b="1" lang="ru-RU" sz="4800" spc="-1" strike="noStrike" u="sng">
                <a:solidFill>
                  <a:srgbClr val="00c85a"/>
                </a:solidFill>
                <a:uFillTx/>
                <a:latin typeface="Times New Roman"/>
                <a:ea typeface="Times New Roman"/>
              </a:rPr>
              <a:t>этап</a:t>
            </a:r>
            <a:br>
              <a:rPr sz="4800"/>
            </a:br>
            <a:r>
              <a:rPr b="1" lang="ru-RU" sz="4800" spc="-1" strike="noStrike" u="sng">
                <a:solidFill>
                  <a:srgbClr val="00c85a"/>
                </a:solidFill>
                <a:uFillTx/>
                <a:latin typeface="Calibri"/>
              </a:rPr>
              <a:t>Блиц-опрос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86920" y="3499920"/>
            <a:ext cx="748836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7672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                                       </a:t>
            </a:r>
            <a:r>
              <a:rPr b="1" lang="en-US" sz="4800" spc="-1" strike="noStrike" u="sng">
                <a:solidFill>
                  <a:srgbClr val="00c85a"/>
                </a:solidFill>
                <a:uFillTx/>
                <a:latin typeface="Times New Roman"/>
                <a:ea typeface="Times New Roman"/>
              </a:rPr>
              <a:t>II </a:t>
            </a:r>
            <a:r>
              <a:rPr b="1" lang="ru-RU" sz="4800" spc="-1" strike="noStrike" u="sng">
                <a:solidFill>
                  <a:srgbClr val="00c85a"/>
                </a:solidFill>
                <a:uFillTx/>
                <a:latin typeface="Times New Roman"/>
                <a:ea typeface="Times New Roman"/>
              </a:rPr>
              <a:t>этап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c85a"/>
                </a:solidFill>
                <a:uFillTx/>
                <a:latin typeface="Times New Roman"/>
                <a:ea typeface="Times New Roman"/>
              </a:rPr>
              <a:t>Проверь себя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748836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484360" y="3284640"/>
            <a:ext cx="453564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                                     </a:t>
            </a:r>
            <a:r>
              <a:rPr b="1" lang="en-US" sz="4800" spc="-1" strike="noStrike" u="sng">
                <a:solidFill>
                  <a:srgbClr val="00c85a"/>
                </a:solidFill>
                <a:uFillTx/>
                <a:latin typeface="Times New Roman"/>
                <a:ea typeface="Times New Roman"/>
              </a:rPr>
              <a:t>III </a:t>
            </a:r>
            <a:r>
              <a:rPr b="1" lang="ru-RU" sz="4800" spc="-1" strike="noStrike" u="sng">
                <a:solidFill>
                  <a:srgbClr val="00c85a"/>
                </a:solidFill>
                <a:uFillTx/>
                <a:latin typeface="Times New Roman"/>
                <a:ea typeface="Times New Roman"/>
              </a:rPr>
              <a:t>этап</a:t>
            </a:r>
            <a:br>
              <a:rPr sz="4800"/>
            </a:br>
            <a:r>
              <a:rPr b="1" lang="ru-RU" sz="4800" spc="-1" strike="noStrike" u="sng">
                <a:solidFill>
                  <a:srgbClr val="00c85a"/>
                </a:solidFill>
                <a:uFillTx/>
                <a:latin typeface="Calibri"/>
              </a:rPr>
              <a:t>Защита творческих проекто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748836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39178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         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1979640" y="2205000"/>
            <a:ext cx="1584360" cy="158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5"/>
          <p:cNvSpPr/>
          <p:nvPr/>
        </p:nvSpPr>
        <p:spPr>
          <a:xfrm>
            <a:off x="5724360" y="2205000"/>
            <a:ext cx="1584360" cy="1584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33080" y="3958920"/>
            <a:ext cx="1222560" cy="11721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8"/>
          <p:cNvSpPr/>
          <p:nvPr/>
        </p:nvSpPr>
        <p:spPr>
          <a:xfrm>
            <a:off x="2340000" y="2637000"/>
            <a:ext cx="21600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9"/>
          <p:cNvSpPr/>
          <p:nvPr/>
        </p:nvSpPr>
        <p:spPr>
          <a:xfrm>
            <a:off x="2987640" y="2637000"/>
            <a:ext cx="21600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0"/>
          <p:cNvSpPr/>
          <p:nvPr/>
        </p:nvSpPr>
        <p:spPr>
          <a:xfrm>
            <a:off x="6084720" y="2637000"/>
            <a:ext cx="21600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1"/>
          <p:cNvSpPr/>
          <p:nvPr/>
        </p:nvSpPr>
        <p:spPr>
          <a:xfrm>
            <a:off x="6732720" y="2637000"/>
            <a:ext cx="21564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2"/>
          <p:cNvSpPr/>
          <p:nvPr/>
        </p:nvSpPr>
        <p:spPr>
          <a:xfrm>
            <a:off x="4140360" y="4076640"/>
            <a:ext cx="21564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3"/>
          <p:cNvSpPr/>
          <p:nvPr/>
        </p:nvSpPr>
        <p:spPr>
          <a:xfrm>
            <a:off x="4859280" y="4076640"/>
            <a:ext cx="21600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уга 14"/>
          <p:cNvSpPr/>
          <p:nvPr/>
        </p:nvSpPr>
        <p:spPr>
          <a:xfrm>
            <a:off x="2340000" y="2781360"/>
            <a:ext cx="863640" cy="720720"/>
          </a:xfrm>
          <a:custGeom>
            <a:avLst/>
            <a:gdLst>
              <a:gd name="textAreaLeft" fmla="*/ 41400 w 863640"/>
              <a:gd name="textAreaRight" fmla="*/ 829440 w 863640"/>
              <a:gd name="textAreaTop" fmla="*/ 501120 h 720720"/>
              <a:gd name="textAreaBottom" fmla="*/ 721080 h 720720"/>
            </a:gdLst>
            <a:ahLst/>
            <a:rect l="textAreaLeft" t="textAreaTop" r="textAreaRight" b="textAreaBottom"/>
            <a:pathLst>
              <a:path stroke="0" w="863600" h="720725">
                <a:moveTo>
                  <a:pt x="829346" y="501025"/>
                </a:moveTo>
                <a:lnTo>
                  <a:pt x="829346" y="501025"/>
                </a:lnTo>
                <a:arcTo wR="431800" hR="360363" stAng="1169113" swAng="8337612"/>
                <a:lnTo>
                  <a:pt x="431800" y="360363"/>
                </a:lnTo>
                <a:close/>
              </a:path>
              <a:path fill="none" w="863600" h="720725">
                <a:moveTo>
                  <a:pt x="829346" y="501025"/>
                </a:moveTo>
                <a:lnTo>
                  <a:pt x="829346" y="501025"/>
                </a:lnTo>
                <a:arcTo wR="431800" hR="360363" stAng="1169113" swAng="8337612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7"/>
          <p:cNvSpPr/>
          <p:nvPr/>
        </p:nvSpPr>
        <p:spPr>
          <a:xfrm>
            <a:off x="6156360" y="3357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Дуга 19"/>
          <p:cNvSpPr/>
          <p:nvPr/>
        </p:nvSpPr>
        <p:spPr>
          <a:xfrm rot="21384000">
            <a:off x="4241880" y="4768560"/>
            <a:ext cx="876240" cy="992160"/>
          </a:xfrm>
          <a:custGeom>
            <a:avLst/>
            <a:gdLst>
              <a:gd name="textAreaLeft" fmla="*/ 50040 w 876240"/>
              <a:gd name="textAreaRight" fmla="*/ 835200 w 876240"/>
              <a:gd name="textAreaTop" fmla="*/ 0 h 992160"/>
              <a:gd name="textAreaBottom" fmla="*/ 285480 h 992160"/>
            </a:gdLst>
            <a:ahLst/>
            <a:rect l="textAreaLeft" t="textAreaTop" r="textAreaRight" b="textAreaBottom"/>
            <a:pathLst>
              <a:path stroke="0" w="876300" h="992188">
                <a:moveTo>
                  <a:pt x="50117" y="265699"/>
                </a:moveTo>
                <a:lnTo>
                  <a:pt x="50117" y="265699"/>
                </a:lnTo>
                <a:arcTo wR="438150" hR="496094" stAng="-8958014" swAng="7282276"/>
                <a:lnTo>
                  <a:pt x="438150" y="496094"/>
                </a:lnTo>
                <a:close/>
              </a:path>
              <a:path fill="none" w="876300" h="992188">
                <a:moveTo>
                  <a:pt x="50117" y="265699"/>
                </a:moveTo>
                <a:lnTo>
                  <a:pt x="50117" y="265699"/>
                </a:lnTo>
                <a:arcTo wR="438150" hR="496094" stAng="-8958014" swAng="7282276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1187280" y="692280"/>
            <a:ext cx="763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вою работу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н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                                   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748836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2" name="Рисунок 5" descr="teacherflowers563c1eiz2.jpg"/>
          <p:cNvPicPr/>
          <p:nvPr/>
        </p:nvPicPr>
        <p:blipFill>
          <a:blip r:embed="rId2"/>
          <a:stretch/>
        </p:blipFill>
        <p:spPr>
          <a:xfrm>
            <a:off x="2411280" y="1639800"/>
            <a:ext cx="4537080" cy="396108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9144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ШашковаО</cp:lastModifiedBy>
  <dcterms:modified xsi:type="dcterms:W3CDTF">2014-10-22T14:38:54Z</dcterms:modified>
  <cp:revision>57</cp:revision>
  <dc:subject/>
  <dc:title>Слайд 1</dc:title>
</cp:coreProperties>
</file>