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E568-BB9D-4E2D-B9C1-FFE18D0BAD6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6684-FE3B-4F2A-AD15-D58DA7A460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2E99-4E5C-4A65-9230-6331D16F56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FF6A-6553-4304-9769-7C6C809061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7BC9-02C2-45AA-A171-7ED4827565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8D1A-5192-4D69-AC21-D598FD360F8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5532-1BF4-4865-A7B1-3C8572A180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CB76-BBF3-42FE-81EF-EFEAEB7ADF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F937-F882-4B3A-8C24-716360781F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E622-F805-4DF7-B9FB-144853AAF4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33E4-D3F0-4C21-81F4-572CBC06DF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0AFC-28C4-4B79-A5A9-95BD3B2439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8E68-C107-4261-B942-93E0E08BE2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B613-BDBD-420F-AC39-ADEFA291FB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7714-6973-47E2-9070-6B6CC9E0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357-8D0B-4DAE-9880-E8239B0C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EF0-F59D-460C-8126-8A1018E1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764B-5F34-45BD-B2B1-9087BC5C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C0D1-26FB-471C-A5AC-6A259AC8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1DFF-30DE-44CD-BF1F-5A6276AD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D935-6712-4ACA-A6DB-B946999E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0B62-4CD7-4575-B37B-29BE79FF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8EA2-1081-4B84-8349-6893F0E3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B40A-8F27-4DDC-B0AE-1C1DE22B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55C8-281F-4338-8EB6-22C3B8AB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B8C-4857-4B01-97CC-7FEB77F7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FEF2-B348-454C-A6EF-A7EB62D8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4168-C795-4F6B-A70C-EFC66FC5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C9D1-E186-4FA1-AF36-81B55FEB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638E-B0D7-4B99-ADFD-6379EEED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7F23-6746-4CCA-BCB1-8239521D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CD4A-7649-449B-BB3F-CD4E4531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F00E-0993-49A3-8876-9E88DE16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DBEA-9E9B-41F1-ACA2-3F4ED046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DC7-E47C-438A-A7C6-62CCCCB3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DE11-B664-4E13-908C-03F1E528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63A-D5E4-4720-ABDC-988F78C1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3286-98BB-4420-BBCC-FD608B98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8B3E-922D-4445-ACF1-F9D9BB30E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9D8A-8FF2-4BCC-9158-38E1693E7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03280" y="1773000"/>
            <a:ext cx="6369120" cy="13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обенности воспитания детей с ОВЗ методом арт-терап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а Золина Татьяна Петров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2000" y="-12960"/>
            <a:ext cx="7354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74ebc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000" y="765000"/>
            <a:ext cx="8002440" cy="58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отерапия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сихотерапия и психокоррекц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ность и метафоричность язы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защищен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профессиональные режиссе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Documents and Settings\Порошина\Рабочий стол\с1.jpg"/>
          <p:cNvPicPr/>
          <p:nvPr/>
        </p:nvPicPr>
        <p:blipFill>
          <a:blip r:embed="rId2"/>
          <a:stretch/>
        </p:blipFill>
        <p:spPr>
          <a:xfrm>
            <a:off x="2590920" y="3379680"/>
            <a:ext cx="3852720" cy="345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i?id=11876967-11"/>
          <p:cNvPicPr/>
          <p:nvPr/>
        </p:nvPicPr>
        <p:blipFill>
          <a:blip r:embed="rId3"/>
          <a:stretch/>
        </p:blipFill>
        <p:spPr>
          <a:xfrm>
            <a:off x="6443640" y="620640"/>
            <a:ext cx="223200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-12960"/>
            <a:ext cx="7354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74ebc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08000" y="692280"/>
            <a:ext cx="6778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отерапия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«Психодрама на столе») – метод психотерапевтического воздействия на детей и взрослых с использованием иг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етод игротерапии может быть использован как в групповой, так и в индивидуальной рабо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2" descr="i?id=125775573-14"/>
          <p:cNvPicPr/>
          <p:nvPr/>
        </p:nvPicPr>
        <p:blipFill>
          <a:blip r:embed="rId2"/>
          <a:stretch/>
        </p:blipFill>
        <p:spPr>
          <a:xfrm>
            <a:off x="4356000" y="3594240"/>
            <a:ext cx="360072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-12960"/>
            <a:ext cx="7354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74ebc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8000" y="692280"/>
            <a:ext cx="6778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узыкотерап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система психоматической  коррекции здоровья человека с помощью музыкально-акустических воз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узыка вызывает различные терапевтические эффекты. Ее можно использовать для влияния на  самочувствие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i?id=1662447-09"/>
          <p:cNvPicPr/>
          <p:nvPr/>
        </p:nvPicPr>
        <p:blipFill>
          <a:blip r:embed="rId2"/>
          <a:stretch/>
        </p:blipFill>
        <p:spPr>
          <a:xfrm>
            <a:off x="4572000" y="3573360"/>
            <a:ext cx="360036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5"/>
          <p:cNvSpPr/>
          <p:nvPr/>
        </p:nvSpPr>
        <p:spPr>
          <a:xfrm>
            <a:off x="2643120" y="765000"/>
            <a:ext cx="6265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53735"/>
                </a:solidFill>
                <a:latin typeface="Arial"/>
              </a:rPr>
              <a:t>Арт - терапия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 это увлекательнейший мир, в котором вам предстоит совершить много самостоятельных открытий, а главное, это эффективно, доступно, безопасн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Arial"/>
              </a:rPr>
              <a:t>ИНТЕРЕС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Заключ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23640" y="155736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яет собой метод коррекции и развития            посредством творче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вивает мелкую моторику,  творчество и воображ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ет эмоционально-положительный настрой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традиционные формы работы доставляют детям множество положительных эмоций, что помогает преодолевать робость, стр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нностью арт-терапии выступает не результат (творческий продукт), а сама личность участ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792360" y="1989000"/>
            <a:ext cx="758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4356000" y="2852640"/>
            <a:ext cx="7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859040" y="2575080"/>
            <a:ext cx="6400800" cy="174924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1403280" y="115920"/>
            <a:ext cx="720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 –терап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ермин был введен в 1938 Андрианом Хиллом) – использование  всех видов искусства,  все чаще  рассматривается  как инструмент  помощи,    способствующей формированию здоровой и творческой личности, а также реализация на практике  таких функций, как  адаптационная, коррекционная, профилактическая, регулятивная,  реабилитационная, мобилизу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3780000" y="3645000"/>
            <a:ext cx="417672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3548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4ebc"/>
                </a:solidFill>
                <a:latin typeface="Calibri"/>
              </a:rPr>
              <a:t>Цель  и задачи арт-терап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000" y="1700280"/>
            <a:ext cx="8002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гармонизация развития личности через развитие способности самовыражения и самопозн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395280" y="3338640"/>
            <a:ext cx="7848720" cy="2538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Виды арт-терап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Группа 3"/>
          <p:cNvGrpSpPr/>
          <p:nvPr/>
        </p:nvGrpSpPr>
        <p:grpSpPr>
          <a:xfrm>
            <a:off x="587520" y="2130480"/>
            <a:ext cx="7794360" cy="3541680"/>
            <a:chOff x="587520" y="2130480"/>
            <a:chExt cx="7794360" cy="3541680"/>
          </a:xfrm>
        </p:grpSpPr>
        <p:sp>
          <p:nvSpPr>
            <p:cNvPr id="99" name="Прямоугольник 4"/>
            <p:cNvSpPr/>
            <p:nvPr/>
          </p:nvSpPr>
          <p:spPr>
            <a:xfrm>
              <a:off x="3138480" y="3886200"/>
              <a:ext cx="2571480" cy="539640"/>
            </a:xfrm>
            <a:prstGeom prst="rect">
              <a:avLst/>
            </a:prstGeom>
            <a:gradFill rotWithShape="0">
              <a:gsLst>
                <a:gs pos="0">
                  <a:srgbClr val="8064a2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рап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ямоугольник 5"/>
            <p:cNvSpPr/>
            <p:nvPr/>
          </p:nvSpPr>
          <p:spPr>
            <a:xfrm>
              <a:off x="587520" y="3954600"/>
              <a:ext cx="1995480" cy="539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Ориг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6"/>
            <p:cNvSpPr/>
            <p:nvPr/>
          </p:nvSpPr>
          <p:spPr>
            <a:xfrm>
              <a:off x="6170760" y="2670120"/>
              <a:ext cx="2104920" cy="541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Из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оугольник 7"/>
            <p:cNvSpPr/>
            <p:nvPr/>
          </p:nvSpPr>
          <p:spPr>
            <a:xfrm>
              <a:off x="3138480" y="2130480"/>
              <a:ext cx="2571480" cy="539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казк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оугольник 8"/>
            <p:cNvSpPr/>
            <p:nvPr/>
          </p:nvSpPr>
          <p:spPr>
            <a:xfrm>
              <a:off x="2297160" y="5127840"/>
              <a:ext cx="2128680" cy="539640"/>
            </a:xfrm>
            <a:prstGeom prst="rect">
              <a:avLst/>
            </a:prstGeom>
            <a:gradFill rotWithShape="0">
              <a:gsLst>
                <a:gs pos="0">
                  <a:srgbClr val="fcd5b5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Музык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оугольник 9"/>
            <p:cNvSpPr/>
            <p:nvPr/>
          </p:nvSpPr>
          <p:spPr>
            <a:xfrm>
              <a:off x="6276960" y="3954600"/>
              <a:ext cx="2104920" cy="539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Игр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оугольник 12"/>
            <p:cNvSpPr/>
            <p:nvPr/>
          </p:nvSpPr>
          <p:spPr>
            <a:xfrm>
              <a:off x="5297400" y="5132520"/>
              <a:ext cx="2104920" cy="539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Цвет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Прямоугольник 14"/>
            <p:cNvSpPr/>
            <p:nvPr/>
          </p:nvSpPr>
          <p:spPr>
            <a:xfrm>
              <a:off x="642960" y="2670120"/>
              <a:ext cx="2128680" cy="541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соч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Прямая со стрелкой 15"/>
            <p:cNvCxnSpPr>
              <a:stCxn id="99" idx="0"/>
              <a:endCxn id="102" idx="2"/>
            </p:cNvCxnSpPr>
            <p:nvPr/>
          </p:nvCxnSpPr>
          <p:spPr>
            <a:xfrm flipV="1">
              <a:off x="4422600" y="2670840"/>
              <a:ext cx="2520" cy="121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8" name="Прямая со стрелкой 17"/>
            <p:cNvCxnSpPr>
              <a:stCxn id="99" idx="0"/>
              <a:endCxn id="101" idx="1"/>
            </p:cNvCxnSpPr>
            <p:nvPr/>
          </p:nvCxnSpPr>
          <p:spPr>
            <a:xfrm flipV="1">
              <a:off x="4424760" y="2940480"/>
              <a:ext cx="1746000" cy="94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9" name="Прямая со стрелкой 18"/>
            <p:cNvCxnSpPr>
              <a:stCxn id="99" idx="0"/>
              <a:endCxn id="106" idx="3"/>
            </p:cNvCxnSpPr>
            <p:nvPr/>
          </p:nvCxnSpPr>
          <p:spPr>
            <a:xfrm flipH="1" flipV="1">
              <a:off x="2770200" y="2940480"/>
              <a:ext cx="1654200" cy="94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0" name="Прямая со стрелкой 19"/>
            <p:cNvCxnSpPr>
              <a:stCxn id="99" idx="1"/>
              <a:endCxn id="100" idx="3"/>
            </p:cNvCxnSpPr>
            <p:nvPr/>
          </p:nvCxnSpPr>
          <p:spPr>
            <a:xfrm flipH="1">
              <a:off x="2583000" y="4156200"/>
              <a:ext cx="555480" cy="6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1" name="Прямая со стрелкой 21"/>
            <p:cNvCxnSpPr>
              <a:stCxn id="99" idx="3"/>
              <a:endCxn id="104" idx="1"/>
            </p:cNvCxnSpPr>
            <p:nvPr/>
          </p:nvCxnSpPr>
          <p:spPr>
            <a:xfrm>
              <a:off x="5710680" y="4156200"/>
              <a:ext cx="567000" cy="6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112" name="Прямая со стрелкой 7188"/>
          <p:cNvCxnSpPr/>
          <p:nvPr/>
        </p:nvCxnSpPr>
        <p:spPr>
          <a:xfrm>
            <a:off x="3142800" y="4438800"/>
            <a:ext cx="1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Прямая со стрелкой 7190"/>
          <p:cNvCxnSpPr/>
          <p:nvPr/>
        </p:nvCxnSpPr>
        <p:spPr>
          <a:xfrm>
            <a:off x="5711400" y="4447800"/>
            <a:ext cx="108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Занятие по изодеятельности</a:t>
            </a:r>
            <a:br>
              <a:rPr sz="2800"/>
            </a:b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«Деревенский пейзаж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123640" y="155736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ыражение детей с ОВЗ через рисунок, снятие эмоционального напряжения, воспитания дружеских отношений, развитие мелкой моторики, вообра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детей технике «пластилинография», передавать характерные особенности деревенского пейзажа; закреплять знания о цветах, воспитывать бережное отношение к прир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арт-терап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зотерап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работ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Алгоритм и результат  занят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7280" y="1257480"/>
            <a:ext cx="7499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ксационное упражнение «Волшебная поляна», упражнение на ассоциативного воображения, подбор предметов для пейзажа (дом, домашние животные, деревья и т.д.), выполнение работы, рефлексия заня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3924360" y="2924280"/>
            <a:ext cx="4425840" cy="3262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Занятие на тему:</a:t>
            </a:r>
            <a:br>
              <a:rPr sz="2800"/>
            </a:b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«Волшебная полян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56880" y="1380600"/>
            <a:ext cx="6985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монизация психоэмоционального состояния детей, воспитания дружеских отношений, развитие мелкой моторики, воображения, активизация словарного запа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арт-терап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есоч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работ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4557600" y="4797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i?id=12360407-10"/>
          <p:cNvPicPr/>
          <p:nvPr/>
        </p:nvPicPr>
        <p:blipFill>
          <a:blip r:embed="rId2"/>
          <a:stretch/>
        </p:blipFill>
        <p:spPr>
          <a:xfrm>
            <a:off x="2484360" y="4151160"/>
            <a:ext cx="2359080" cy="202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Порошина\Рабочий стол\п.jpg"/>
          <p:cNvPicPr/>
          <p:nvPr/>
        </p:nvPicPr>
        <p:blipFill>
          <a:blip r:embed="rId3"/>
          <a:stretch/>
        </p:blipFill>
        <p:spPr>
          <a:xfrm>
            <a:off x="5219640" y="3675240"/>
            <a:ext cx="3586320" cy="2612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-12960"/>
            <a:ext cx="7354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74ebc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4000" y="692280"/>
            <a:ext cx="8002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терап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лечение цветом. Ученые доказали, что, изменяя световой и цветовой режимы, можно воздействовать на функции вегетативной нервной системы, эндокринных желез и другие жизненно важные органы и процессы в организ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C:\Documents and Settings\Порошина\Рабочий стол\ц1.jpg"/>
          <p:cNvPicPr/>
          <p:nvPr/>
        </p:nvPicPr>
        <p:blipFill>
          <a:blip r:embed="rId2"/>
          <a:stretch/>
        </p:blipFill>
        <p:spPr>
          <a:xfrm>
            <a:off x="3133800" y="2852640"/>
            <a:ext cx="544680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-12960"/>
            <a:ext cx="7354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74ebc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1280" y="692280"/>
            <a:ext cx="7715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игами</a:t>
            </a: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ложенная бумага) —   древнее искусство складывания фигурок из бумаг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ческое ориг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журавлик и специальная декоративна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умага для ориг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ростое оригами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 — стиль с использованием только складок горой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11" descr="i?id=927722-08"/>
          <p:cNvPicPr/>
          <p:nvPr/>
        </p:nvPicPr>
        <p:blipFill>
          <a:blip r:embed="rId4"/>
          <a:stretch/>
        </p:blipFill>
        <p:spPr>
          <a:xfrm>
            <a:off x="2700360" y="3902040"/>
            <a:ext cx="2808360" cy="259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Orizuru"/>
          <p:cNvPicPr/>
          <p:nvPr/>
        </p:nvPicPr>
        <p:blipFill>
          <a:blip r:embed="rId5"/>
          <a:stretch/>
        </p:blipFill>
        <p:spPr>
          <a:xfrm>
            <a:off x="5940360" y="3429000"/>
            <a:ext cx="273528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20:27Z</dcterms:created>
  <dc:creator>ppsworld.ru</dc:creator>
  <dc:description/>
  <dc:language>en-US</dc:language>
  <cp:lastModifiedBy>111</cp:lastModifiedBy>
  <dcterms:modified xsi:type="dcterms:W3CDTF">2014-10-01T13:06:11Z</dcterms:modified>
  <cp:revision>29</cp:revision>
  <dc:subject/>
  <dc:title>PRESENTATION  NAME</dc:title>
</cp:coreProperties>
</file>