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C34-E033-4CA0-BDBC-B29B4979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D54-35C0-41D7-9D73-E29771F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D73-891D-4801-ABA9-1828860B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C72-F4DC-4EAF-8801-24E705BA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BFA-BC9C-4297-BF16-E901E646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058-6DCA-4798-AB78-E4C5ACEF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EA1-FD55-4A40-9DDB-DF36C10A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19E-9FFF-4200-AA85-C022311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A4F-88AA-4A25-B042-FD29A300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E0B-8BE1-4F9A-AA4D-8F6B8FB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230-6ACE-44E9-ADA9-F9A4739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3DC-35B8-43A1-828F-4BC5365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3DF6-F3AD-4D74-9885-3B625B44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Требуется активный продавец девушка - Есть работа (вакансии) - Поиск Прокопьевск Объявления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Сладости картинки"/>
          <p:cNvPicPr/>
          <p:nvPr/>
        </p:nvPicPr>
        <p:blipFill>
          <a:blip r:embed="rId1"/>
          <a:stretch/>
        </p:blipFill>
        <p:spPr>
          <a:xfrm>
            <a:off x="468360" y="343080"/>
            <a:ext cx="6551640" cy="65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i?id=f72a73dbb9040cc4374977c25faf3e7c-57-144&amp;n=24"/>
          <p:cNvPicPr/>
          <p:nvPr/>
        </p:nvPicPr>
        <p:blipFill>
          <a:blip r:embed="rId2"/>
          <a:srcRect l="0" t="0" r="0" b="14535"/>
          <a:stretch/>
        </p:blipFill>
        <p:spPr>
          <a:xfrm>
            <a:off x="6948360" y="2997360"/>
            <a:ext cx="1822680" cy="154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i?id=2df7b855f1606e3f5e16e69132c107ca-113-144&amp;n=24"/>
          <p:cNvPicPr/>
          <p:nvPr/>
        </p:nvPicPr>
        <p:blipFill>
          <a:blip r:embed="rId3"/>
          <a:stretch/>
        </p:blipFill>
        <p:spPr>
          <a:xfrm>
            <a:off x="7380360" y="4699080"/>
            <a:ext cx="142704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77080" y="62064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Урок математики в 1-м классе компенсирующего обучения по тем…"/>
          <p:cNvPicPr/>
          <p:nvPr/>
        </p:nvPicPr>
        <p:blipFill>
          <a:blip r:embed="rId1"/>
          <a:stretch/>
        </p:blipFill>
        <p:spPr>
          <a:xfrm>
            <a:off x="0" y="0"/>
            <a:ext cx="4600440" cy="573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Весы"/>
          <p:cNvPicPr/>
          <p:nvPr/>
        </p:nvPicPr>
        <p:blipFill>
          <a:blip r:embed="rId2"/>
          <a:stretch/>
        </p:blipFill>
        <p:spPr>
          <a:xfrm>
            <a:off x="5191200" y="3213000"/>
            <a:ext cx="34574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?id=de84831a75e775e6e3a16a301f7f05cf-94-144&amp;n=24"/>
          <p:cNvPicPr/>
          <p:nvPr/>
        </p:nvPicPr>
        <p:blipFill>
          <a:blip r:embed="rId1"/>
          <a:stretch/>
        </p:blipFill>
        <p:spPr>
          <a:xfrm>
            <a:off x="0" y="1844640"/>
            <a:ext cx="3924360" cy="293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асса для денег комбинированная INKiESS 86 PL"/>
          <p:cNvPicPr/>
          <p:nvPr/>
        </p:nvPicPr>
        <p:blipFill>
          <a:blip r:embed="rId2"/>
          <a:stretch/>
        </p:blipFill>
        <p:spPr>
          <a:xfrm>
            <a:off x="4067280" y="3044880"/>
            <a:ext cx="50767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&quot;ВЕДОМОСТИ Урал&quot; :: Новости :: Новости Екатеринбурга, журнал…"/>
          <p:cNvPicPr/>
          <p:nvPr/>
        </p:nvPicPr>
        <p:blipFill>
          <a:blip r:embed="rId1"/>
          <a:stretch/>
        </p:blipFill>
        <p:spPr>
          <a:xfrm>
            <a:off x="155520" y="46080"/>
            <a:ext cx="7224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201924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43280" y="4356000"/>
            <a:ext cx="3348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99872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2073240" cy="2751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Единый каталог поставщиков: Комплект продавца (фартук, пилотка)"/>
          <p:cNvPicPr/>
          <p:nvPr/>
        </p:nvPicPr>
        <p:blipFill>
          <a:blip r:embed="rId3"/>
          <a:stretch/>
        </p:blipFill>
        <p:spPr>
          <a:xfrm>
            <a:off x="3851280" y="33336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867280" y="335772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хлебопек изображений, стоковых фотографий и иллюстраций Big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Лучшие стеллажи здесь - Лучшие стеллажи здес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&quot;OOO&quot; - контакты, товары, услуги, це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Два года тюрьмы за букет роз &quot; Страница 3 &quot; Уфимский Журна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Издательская деятельность Церкви Международные Рождественские образовательные чтения. Официальный сай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С прилавок магазинов исчезнет неправильное моло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Ростов-на-Дону - инвесторам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usiness - Advertising - Desigh of exhibition stands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22:52:31Z</dcterms:created>
  <dc:creator>Хозяин</dc:creator>
  <dc:description/>
  <dc:language>en-US</dc:language>
  <cp:lastModifiedBy>Хозяин</cp:lastModifiedBy>
  <dcterms:modified xsi:type="dcterms:W3CDTF">2014-12-12T04:32:05Z</dcterms:modified>
  <cp:revision>3</cp:revision>
  <dc:subject/>
  <dc:title>Слайд 1</dc:title>
</cp:coreProperties>
</file>