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F99-2195-4FC6-AEC2-A6516841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765-2485-40A9-BCCB-2BC61D9B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CE3-2BAC-45F8-AA51-E35E430F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4A8-7F08-4D35-9267-5F642A1F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A0EA4-45F6-44F2-B39D-E1F0549A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9C154-7267-4E72-84E4-17457BDC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339A4-4C1D-4A5D-994C-061BC6A1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11240-097B-4227-B6AF-3403F94F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C4128-CF2D-4F48-983B-CF34343D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208B7-3F53-4893-9AA3-8EDC4120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39A76-A399-49F6-918E-8E65A26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E3E-2B2F-4872-AA25-2C20A231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4C609-6B3A-45B2-9EE8-855FFB3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E06F0-BEB0-46B3-8800-368412B7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B792F-FB36-49F8-B082-737971A8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B1E78-DBA9-42F6-839B-2A3CD903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6DA1A-3B66-46B5-B2F0-0C835A8F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8F5-99BC-45EC-8CD3-F4991E75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656-6670-44CC-B7A2-AA597E95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EB2-8C51-405D-94C8-DD7AC215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982-520A-44F8-8655-1C0D0B84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FE7-8689-4813-81A7-7708F838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FD4-5EBC-4560-ACF0-B692AFB5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B54-0994-4EA6-B8BA-CB1057CA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99CD-2BE8-4A2D-ADC4-800AED4CB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F1C5-112F-498C-8543-AC55EE4B1B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ГКВОУ ЦО Самарской области филиал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ff"/>
                </a:solidFill>
                <a:latin typeface="Tahoma"/>
              </a:rPr>
              <a:t>Ш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стереометрия"/>
          <p:cNvPicPr/>
          <p:nvPr/>
        </p:nvPicPr>
        <p:blipFill>
          <a:blip r:embed="rId1"/>
          <a:stretch/>
        </p:blipFill>
        <p:spPr>
          <a:xfrm>
            <a:off x="2124000" y="2565360"/>
            <a:ext cx="5256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Шар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зывается тело, которое состоит из всех точек пространства, находящихся на расстоянии, не большем данного, от данной то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539640" y="333360"/>
            <a:ext cx="77774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Опрделение шар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88" name="Picture 5" descr="22"/>
          <p:cNvPicPr/>
          <p:nvPr/>
        </p:nvPicPr>
        <p:blipFill>
          <a:blip r:embed="rId1"/>
          <a:stretch/>
        </p:blipFill>
        <p:spPr>
          <a:xfrm>
            <a:off x="2771640" y="328464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Точка называется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центром шара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, а данное расстояние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радиусом шара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Граница шара называется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шаровой поверхностью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, или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сферой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Любой отрезок, соединяющий центр шара с точкой шаровой поверхности, называется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радиусом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Отрезок, соединяются две точки шаровой поверхности и проходящий через центр шара, называется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диаметром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.  Концы любого диаметра называется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диаметрольно противоположными точками шара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16000" y="476280"/>
            <a:ext cx="684072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лементы шар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1" name="Picture 6" descr="фигура"/>
          <p:cNvPicPr/>
          <p:nvPr/>
        </p:nvPicPr>
        <p:blipFill>
          <a:blip r:embed="rId1"/>
          <a:stretch/>
        </p:blipFill>
        <p:spPr>
          <a:xfrm>
            <a:off x="6156360" y="5013360"/>
            <a:ext cx="223200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Площадь сферы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 радиуса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 вычисляется по форм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ahoma"/>
              </a:rPr>
              <a:t>S=4</a:t>
            </a:r>
            <a:r>
              <a:rPr b="1" i="1" lang="ru-RU" sz="3200" spc="-1" strike="noStrike">
                <a:solidFill>
                  <a:srgbClr val="ff6600"/>
                </a:solidFill>
                <a:latin typeface="Tahoma"/>
              </a:rPr>
              <a:t>п</a:t>
            </a:r>
            <a:r>
              <a:rPr b="1" i="1" lang="en-US" sz="3200" spc="-1" strike="noStrike">
                <a:solidFill>
                  <a:srgbClr val="ff6600"/>
                </a:solidFill>
                <a:latin typeface="Tahoma"/>
              </a:rPr>
              <a:t>R^2</a:t>
            </a:r>
            <a:r>
              <a:rPr b="1" i="1" lang="ru-RU" sz="32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Площадь боковой поверхности шара это площадь сфе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66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лощадь поверхности шар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4" name="Picture 5" descr="17"/>
          <p:cNvPicPr/>
          <p:nvPr/>
        </p:nvPicPr>
        <p:blipFill>
          <a:blip r:embed="rId1"/>
          <a:stretch/>
        </p:blipFill>
        <p:spPr>
          <a:xfrm>
            <a:off x="2340000" y="3500280"/>
            <a:ext cx="48960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Объем шара</a:t>
            </a:r>
            <a:r>
              <a:rPr b="0" lang="ru-RU" sz="4400" spc="-1" strike="noStrike">
                <a:solidFill>
                  <a:srgbClr val="66ffff"/>
                </a:solidFill>
                <a:latin typeface="Tahoma"/>
              </a:rPr>
              <a:t> раве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ahoma"/>
              </a:rPr>
              <a:t>V=</a:t>
            </a:r>
            <a:r>
              <a:rPr b="0" lang="ru-RU" sz="4400" spc="-1" strike="noStrike">
                <a:solidFill>
                  <a:srgbClr val="66ffff"/>
                </a:solidFill>
                <a:latin typeface="Tahoma"/>
              </a:rPr>
              <a:t>4/3п</a:t>
            </a:r>
            <a:r>
              <a:rPr b="0" lang="en-US" sz="4400" spc="-1" strike="noStrike">
                <a:solidFill>
                  <a:srgbClr val="66ffff"/>
                </a:solidFill>
                <a:latin typeface="Tahoma"/>
              </a:rPr>
              <a:t>R^3</a:t>
            </a:r>
            <a:r>
              <a:rPr b="0" lang="ru-RU" sz="4400" spc="-1" strike="noStrike">
                <a:solidFill>
                  <a:srgbClr val="66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1332000" y="260280"/>
            <a:ext cx="633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ъем шара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Picture 5" descr="6"/>
          <p:cNvPicPr/>
          <p:nvPr/>
        </p:nvPicPr>
        <p:blipFill>
          <a:blip r:embed="rId1"/>
          <a:stretch/>
        </p:blipFill>
        <p:spPr>
          <a:xfrm>
            <a:off x="2916360" y="3429000"/>
            <a:ext cx="39607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904760"/>
            <a:ext cx="89647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Чугунный шар регулятора имеет массу 10к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йти диаметр шара (плотность чугуна 7,2г/см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^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V=M/P, 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     7,2г/см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^3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=7,2кг/м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^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V=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10кг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7,3кг/м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^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3=1,4м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^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3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V=4/3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R^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1,4=4/3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*R^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R^3=1,4 /4/3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R^3=1,05/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м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^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R=0,14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м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611280" y="333360"/>
            <a:ext cx="7777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менение знаний в 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0" name="Picture 5" descr="11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2:42:05Z</dcterms:created>
  <dc:creator>Гость</dc:creator>
  <dc:description/>
  <dc:language>en-US</dc:language>
  <cp:lastModifiedBy>Пользователь</cp:lastModifiedBy>
  <dcterms:modified xsi:type="dcterms:W3CDTF">2015-01-08T19:28:05Z</dcterms:modified>
  <cp:revision>4</cp:revision>
  <dc:subject/>
  <dc:title>Слайд 1</dc:title>
</cp:coreProperties>
</file>