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7F72-7587-4456-B7C0-7D7A9BBEE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4BD4-8669-4357-9D5D-24F55C4CA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этап 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6509-10B4-4925-8243-600B3F068A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3DFF-5220-404E-AE46-4A81DE415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этап 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FF78-B99D-431D-942D-6CD1578104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0A2C-62DB-4B33-A06F-CABAD6783D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FC4-1985-472D-8D5E-AD503F1C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8A0-B6F0-4E0D-81C7-14C1EC23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DD5-A7F3-4033-A1BB-D3FC3A63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596-33D6-4A8F-913C-1D55A388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EFD-B8A6-47EA-B2CD-C99E3906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328-EE08-4925-8FF6-8157BE7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817-E316-44E6-A580-B610FC6A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168-1FC3-4900-8185-24731E5A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05C-C2CB-4CC3-A098-1C77A918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D87-7ACD-4D95-A6FF-E4E7DDE3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4AB-BB7B-4E02-B36B-9B0E7BE9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794-A842-412D-8991-8FEE822B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F061-FEA3-4EC4-B903-D710B53D5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.wmf"/><Relationship Id="rId17" Type="http://schemas.openxmlformats.org/officeDocument/2006/relationships/image" Target="../media/image3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9.wmf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4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4.wmf"/><Relationship Id="rId33" Type="http://schemas.openxmlformats.org/officeDocument/2006/relationships/oleObject" Target="../embeddings/oleObject13.bin"/><Relationship Id="rId34" Type="http://schemas.openxmlformats.org/officeDocument/2006/relationships/image" Target="../media/image5.wmf"/><Relationship Id="rId35" Type="http://schemas.openxmlformats.org/officeDocument/2006/relationships/oleObject" Target="../embeddings/oleObject14.bin"/><Relationship Id="rId36" Type="http://schemas.openxmlformats.org/officeDocument/2006/relationships/image" Target="../media/image5.wmf"/><Relationship Id="rId37" Type="http://schemas.openxmlformats.org/officeDocument/2006/relationships/oleObject" Target="../embeddings/oleObject15.bin"/><Relationship Id="rId38" Type="http://schemas.openxmlformats.org/officeDocument/2006/relationships/image" Target="../media/image4.wmf"/><Relationship Id="rId39" Type="http://schemas.openxmlformats.org/officeDocument/2006/relationships/oleObject" Target="../embeddings/oleObject16.bin"/><Relationship Id="rId40" Type="http://schemas.openxmlformats.org/officeDocument/2006/relationships/image" Target="../media/image5.wmf"/><Relationship Id="rId41" Type="http://schemas.openxmlformats.org/officeDocument/2006/relationships/image" Target="../media/image3.png"/><Relationship Id="rId42" Type="http://schemas.openxmlformats.org/officeDocument/2006/relationships/oleObject" Target="../embeddings/oleObject17.bin"/><Relationship Id="rId43" Type="http://schemas.openxmlformats.org/officeDocument/2006/relationships/image" Target="../media/image10.wmf"/><Relationship Id="rId44" Type="http://schemas.openxmlformats.org/officeDocument/2006/relationships/oleObject" Target="../embeddings/oleObject18.bin"/><Relationship Id="rId45" Type="http://schemas.openxmlformats.org/officeDocument/2006/relationships/image" Target="../media/image11.wmf"/><Relationship Id="rId46" Type="http://schemas.openxmlformats.org/officeDocument/2006/relationships/oleObject" Target="../embeddings/oleObject19.bin"/><Relationship Id="rId47" Type="http://schemas.openxmlformats.org/officeDocument/2006/relationships/image" Target="../media/image12.wmf"/><Relationship Id="rId48" Type="http://schemas.openxmlformats.org/officeDocument/2006/relationships/oleObject" Target="../embeddings/oleObject20.bin"/><Relationship Id="rId49" Type="http://schemas.openxmlformats.org/officeDocument/2006/relationships/image" Target="../media/image13.wmf"/><Relationship Id="rId50" Type="http://schemas.openxmlformats.org/officeDocument/2006/relationships/oleObject" Target="../embeddings/oleObject21.bin"/><Relationship Id="rId51" Type="http://schemas.openxmlformats.org/officeDocument/2006/relationships/image" Target="../media/image14.wmf"/><Relationship Id="rId5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4360" y="907920"/>
            <a:ext cx="813564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простейших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игонометрических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авнений.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2376360" cy="3841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1944720" cy="8017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395280" y="3357720"/>
            <a:ext cx="1512720" cy="350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395280" y="3789360"/>
            <a:ext cx="1727280" cy="779400"/>
          </a:xfrm>
          <a:prstGeom prst="rect">
            <a:avLst/>
          </a:prstGeom>
          <a:ln w="0">
            <a:noFill/>
          </a:ln>
        </p:spPr>
      </p:pic>
      <p:sp>
        <p:nvSpPr>
          <p:cNvPr id="413" name="Line 55"/>
          <p:cNvSpPr/>
          <p:nvPr/>
        </p:nvSpPr>
        <p:spPr>
          <a:xfrm>
            <a:off x="471636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7"/>
          <p:cNvSpPr/>
          <p:nvPr/>
        </p:nvSpPr>
        <p:spPr>
          <a:xfrm>
            <a:off x="876240" y="54936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58"/>
          <p:cNvSpPr/>
          <p:nvPr/>
        </p:nvSpPr>
        <p:spPr>
          <a:xfrm>
            <a:off x="6205680" y="6922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5076720" y="1773360"/>
            <a:ext cx="2016360" cy="7826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7"/>
          <a:stretch/>
        </p:blipFill>
        <p:spPr>
          <a:xfrm>
            <a:off x="5148360" y="2565360"/>
            <a:ext cx="1944720" cy="7714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8"/>
          <a:stretch/>
        </p:blipFill>
        <p:spPr>
          <a:xfrm>
            <a:off x="5148360" y="3429000"/>
            <a:ext cx="1584360" cy="3762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9"/>
          <a:stretch/>
        </p:blipFill>
        <p:spPr>
          <a:xfrm>
            <a:off x="5148360" y="3789360"/>
            <a:ext cx="122400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76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8560" y="76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76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83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98920" y="76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1197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1;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26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45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458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465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465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20000" y="51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76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76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76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61080" y="83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76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134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∞;+∞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0000" y="1270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5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45813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458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465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98920" y="45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5013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1;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508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0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76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76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76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83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76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76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76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83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45813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458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45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465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51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∞;+∞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458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413000"/>
            <a:ext cx="3168360" cy="3816000"/>
            <a:chOff x="2843280" y="1413000"/>
            <a:chExt cx="3168360" cy="3816000"/>
          </a:xfrm>
        </p:grpSpPr>
        <p:sp>
          <p:nvSpPr>
            <p:cNvPr id="92" name=""/>
            <p:cNvSpPr/>
            <p:nvPr/>
          </p:nvSpPr>
          <p:spPr>
            <a:xfrm>
              <a:off x="3477240" y="2401560"/>
              <a:ext cx="1902240" cy="1821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43280" y="3397320"/>
              <a:ext cx="31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78040" y="2782800"/>
                  <a:ext cx="35244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5" name=""/>
            <p:cNvSpPr/>
            <p:nvPr/>
          </p:nvSpPr>
          <p:spPr>
            <a:xfrm>
              <a:off x="4429080" y="2239200"/>
              <a:ext cx="0" cy="231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4031280" y="1413000"/>
                  <a:ext cx="45936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000240" y="2935800"/>
                  <a:ext cx="473040" cy="49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3714840" y="4154760"/>
                  <a:ext cx="729720" cy="107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"/>
          <p:cNvGrpSpPr/>
          <p:nvPr/>
        </p:nvGrpSpPr>
        <p:grpSpPr>
          <a:xfrm>
            <a:off x="4356000" y="2349360"/>
            <a:ext cx="936360" cy="1873440"/>
            <a:chOff x="4356000" y="2349360"/>
            <a:chExt cx="936360" cy="1873440"/>
          </a:xfrm>
        </p:grpSpPr>
        <p:sp>
          <p:nvSpPr>
            <p:cNvPr id="100" name=""/>
            <p:cNvSpPr/>
            <p:nvPr/>
          </p:nvSpPr>
          <p:spPr>
            <a:xfrm>
              <a:off x="4356000" y="2349360"/>
              <a:ext cx="14400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6000" y="4078080"/>
              <a:ext cx="1425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4958280" y="3357000"/>
              <a:ext cx="262800" cy="179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93320" y="3357000"/>
              <a:ext cx="462960" cy="358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430160" y="3357360"/>
              <a:ext cx="65952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4428360" y="3537000"/>
              <a:ext cx="527400" cy="419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4428360" y="3776400"/>
              <a:ext cx="327960" cy="239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4428720" y="3955680"/>
              <a:ext cx="198000" cy="120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428360" y="2494080"/>
              <a:ext cx="21564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428360" y="2565360"/>
              <a:ext cx="430920" cy="50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28720" y="2638440"/>
              <a:ext cx="575280" cy="72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644000" y="2781360"/>
              <a:ext cx="503640" cy="577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932720" y="3000240"/>
              <a:ext cx="286560" cy="358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148360" y="3143160"/>
              <a:ext cx="14400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419640" y="2492640"/>
            <a:ext cx="2015640" cy="937800"/>
            <a:chOff x="3419640" y="2492640"/>
            <a:chExt cx="2015640" cy="937800"/>
          </a:xfrm>
        </p:grpSpPr>
        <p:sp>
          <p:nvSpPr>
            <p:cNvPr id="115" name=""/>
            <p:cNvSpPr/>
            <p:nvPr/>
          </p:nvSpPr>
          <p:spPr>
            <a:xfrm rot="16200000">
              <a:off x="3424320" y="3281400"/>
              <a:ext cx="144360" cy="15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5285880" y="3281040"/>
              <a:ext cx="14292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504320" y="2563560"/>
              <a:ext cx="192960" cy="26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504320" y="2628720"/>
              <a:ext cx="385920" cy="463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503960" y="2695680"/>
              <a:ext cx="515880" cy="660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697280" y="2828880"/>
              <a:ext cx="450720" cy="528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955040" y="3029040"/>
              <a:ext cx="257400" cy="328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148360" y="3159360"/>
              <a:ext cx="129600" cy="19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5160" y="3141360"/>
              <a:ext cx="30888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1840" y="2926080"/>
              <a:ext cx="54504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30680" y="2781360"/>
              <a:ext cx="775440" cy="57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4400" y="2636640"/>
              <a:ext cx="621720" cy="50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9840" y="2565360"/>
              <a:ext cx="38592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73560" y="2492640"/>
              <a:ext cx="23220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419640" y="2492280"/>
            <a:ext cx="2015640" cy="934920"/>
            <a:chOff x="3419640" y="2492280"/>
            <a:chExt cx="2015640" cy="934920"/>
          </a:xfrm>
        </p:grpSpPr>
        <p:sp>
          <p:nvSpPr>
            <p:cNvPr id="130" name=""/>
            <p:cNvSpPr/>
            <p:nvPr/>
          </p:nvSpPr>
          <p:spPr>
            <a:xfrm>
              <a:off x="3419640" y="3284640"/>
              <a:ext cx="162000" cy="142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3640" y="3284640"/>
              <a:ext cx="161640" cy="142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467960" y="2565360"/>
              <a:ext cx="200520" cy="26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468320" y="2630520"/>
              <a:ext cx="401760" cy="463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467960" y="2697120"/>
              <a:ext cx="53676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669200" y="2828880"/>
              <a:ext cx="469440" cy="528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937040" y="3029040"/>
              <a:ext cx="268200" cy="328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138280" y="3159000"/>
              <a:ext cx="135000" cy="19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00640" y="3143160"/>
              <a:ext cx="32148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81640" y="2927160"/>
              <a:ext cx="566640" cy="43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62280" y="2781360"/>
              <a:ext cx="806760" cy="57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22120" y="2638440"/>
              <a:ext cx="646920" cy="50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7640" y="2565360"/>
              <a:ext cx="40140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28560" y="2492280"/>
              <a:ext cx="24120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356000" y="2349360"/>
            <a:ext cx="1079280" cy="1871280"/>
            <a:chOff x="4356000" y="2349360"/>
            <a:chExt cx="1079280" cy="1871280"/>
          </a:xfrm>
        </p:grpSpPr>
        <p:sp>
          <p:nvSpPr>
            <p:cNvPr id="145" name=""/>
            <p:cNvSpPr/>
            <p:nvPr/>
          </p:nvSpPr>
          <p:spPr>
            <a:xfrm rot="5400000">
              <a:off x="4363200" y="2342160"/>
              <a:ext cx="150120" cy="16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4363200" y="4063320"/>
              <a:ext cx="149760" cy="16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046840" y="3322440"/>
              <a:ext cx="304200" cy="18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4740840" y="3322800"/>
              <a:ext cx="534960" cy="372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436640" y="3322800"/>
              <a:ext cx="762120" cy="49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4436640" y="3508920"/>
              <a:ext cx="610200" cy="43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4436640" y="3758760"/>
              <a:ext cx="379080" cy="249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4436640" y="3945240"/>
              <a:ext cx="228960" cy="12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434840" y="2424600"/>
              <a:ext cx="249120" cy="298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434840" y="2498760"/>
              <a:ext cx="49860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436640" y="2574360"/>
              <a:ext cx="664920" cy="749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684320" y="2723760"/>
              <a:ext cx="582480" cy="600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019480" y="2950920"/>
              <a:ext cx="331560" cy="37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268600" y="3100320"/>
              <a:ext cx="166680" cy="223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00416 0.14051 E">
                                      <p:cBhvr>
                                        <p:cTn id="7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96296E-006 L -0.10642 0.14051 E">
                                      <p:cBhvr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96296E-006 L 0.12865 0.14051 E">
                                      <p:cBhvr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2731 L -0.00382 0.13449 E">
                                      <p:cBhvr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38 -0.00648 L -0.02483 0.15532 E">
                                      <p:cBhvr>
                                        <p:cTn id="15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416 L -0.12986 0.15532 E">
                                      <p:cBhvr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6 L 0.15764 0.15764 E">
                                      <p:cBhvr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588 L -0.00382 0.15139 E">
                                      <p:cBhvr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4 0.05648 L -0.01059 0.15092 E">
                                      <p:cBhvr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 0.01458 L -0.13003 0.15092 E">
                                      <p:cBhvr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96296E-006 L 0.12865 0.15092 E">
                                      <p:cBhvr>
                                        <p:cTn id="2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648 L -0.01355 0.14468 E">
                                      <p:cBhvr>
                                        <p:cTn id="2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1458 L -0.02032 0.16157 E">
                                      <p:cBhvr>
                                        <p:cTn id="3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64 0.05648 L 0.15208 0.16157 E">
                                      <p:cBhvr>
                                        <p:cTn id="3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85185E-006 L -0.12188 0.15116 E">
                                      <p:cBhvr>
                                        <p:cTn id="337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0.05648 L -0.02153 0.16157 E">
                                      <p:cBhvr>
                                        <p:cTn id="34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4859280" y="907920"/>
            <a:ext cx="3743280" cy="1150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859280" y="5445000"/>
            <a:ext cx="3743280" cy="12225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859280" y="4365720"/>
            <a:ext cx="3743280" cy="107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859280" y="3213000"/>
            <a:ext cx="3743280" cy="1150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11280" y="5445000"/>
            <a:ext cx="3743280" cy="1222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11280" y="4365720"/>
            <a:ext cx="3743280" cy="1079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11280" y="3213000"/>
            <a:ext cx="3743280" cy="115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1280" y="2060640"/>
            <a:ext cx="3743280" cy="1150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11280" y="907920"/>
            <a:ext cx="3743280" cy="115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34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s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242100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cos (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195640" y="2205000"/>
                <a:ext cx="7984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Rectangle 5"/>
          <p:cNvSpPr/>
          <p:nvPr/>
        </p:nvSpPr>
        <p:spPr>
          <a:xfrm>
            <a:off x="4859280" y="2060640"/>
            <a:ext cx="3743280" cy="115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349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588000" y="2133720"/>
                <a:ext cx="5749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Rectangle 5"/>
          <p:cNvSpPr/>
          <p:nvPr/>
        </p:nvSpPr>
        <p:spPr>
          <a:xfrm>
            <a:off x="4859280" y="907920"/>
            <a:ext cx="3743280" cy="1150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526080" y="907920"/>
                <a:ext cx="4431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900000" y="36529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tg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95640" y="3141720"/>
                <a:ext cx="8125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516720" y="3284640"/>
                <a:ext cx="647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755640" y="46274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s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545160" y="4365720"/>
                <a:ext cx="44460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322360" y="4365720"/>
                <a:ext cx="6670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900000" y="57736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ctg 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295360" y="5778360"/>
                <a:ext cx="744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489720" y="5589720"/>
                <a:ext cx="573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Rectangle 5"/>
          <p:cNvSpPr/>
          <p:nvPr/>
        </p:nvSpPr>
        <p:spPr>
          <a:xfrm>
            <a:off x="4859280" y="836640"/>
            <a:ext cx="374328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859280" y="5445000"/>
            <a:ext cx="3743280" cy="1222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859280" y="3213000"/>
            <a:ext cx="3743280" cy="1079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4859280" y="2060640"/>
            <a:ext cx="3743280" cy="1222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859280" y="4292640"/>
            <a:ext cx="37432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18900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числ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411280" y="836640"/>
                <a:ext cx="720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11280" y="907920"/>
            <a:ext cx="7991280" cy="5759640"/>
            <a:chOff x="611280" y="907920"/>
            <a:chExt cx="7991280" cy="5759640"/>
          </a:xfrm>
        </p:grpSpPr>
        <p:sp>
          <p:nvSpPr>
            <p:cNvPr id="193" name="Rectangle 5"/>
            <p:cNvSpPr/>
            <p:nvPr/>
          </p:nvSpPr>
          <p:spPr>
            <a:xfrm>
              <a:off x="4859280" y="907920"/>
              <a:ext cx="3743280" cy="1150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>
              <a:off x="4859280" y="5445000"/>
              <a:ext cx="3743280" cy="1222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4859280" y="4365720"/>
              <a:ext cx="3743280" cy="1079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4859280" y="3213000"/>
              <a:ext cx="3743280" cy="1150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611280" y="5445000"/>
              <a:ext cx="3743280" cy="122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>
              <a:off x="611280" y="4365720"/>
              <a:ext cx="3743280" cy="1079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"/>
            <p:cNvSpPr/>
            <p:nvPr/>
          </p:nvSpPr>
          <p:spPr>
            <a:xfrm>
              <a:off x="611280" y="3213000"/>
              <a:ext cx="3743280" cy="1150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611280" y="2060640"/>
              <a:ext cx="3743280" cy="1150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5"/>
            <p:cNvSpPr/>
            <p:nvPr/>
          </p:nvSpPr>
          <p:spPr>
            <a:xfrm>
              <a:off x="611280" y="907920"/>
              <a:ext cx="3743280" cy="1150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971640" y="981000"/>
              <a:ext cx="2665440" cy="1060560"/>
              <a:chOff x="971640" y="981000"/>
              <a:chExt cx="2665440" cy="1060560"/>
            </a:xfrm>
          </p:grpSpPr>
          <p:sp>
            <p:nvSpPr>
              <p:cNvPr id="203" name=""/>
              <p:cNvSpPr/>
              <p:nvPr/>
            </p:nvSpPr>
            <p:spPr>
              <a:xfrm>
                <a:off x="971640" y="1341360"/>
                <a:ext cx="22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rcsin (-1)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4" name=""/>
                  <p:cNvSpPr txBox="1"/>
                  <p:nvPr/>
                </p:nvSpPr>
                <p:spPr>
                  <a:xfrm>
                    <a:off x="2987640" y="981000"/>
                    <a:ext cx="649440" cy="1060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05" name=""/>
            <p:cNvGrpSpPr/>
            <p:nvPr/>
          </p:nvGrpSpPr>
          <p:grpSpPr>
            <a:xfrm>
              <a:off x="826920" y="2205000"/>
              <a:ext cx="3330720" cy="936720"/>
              <a:chOff x="826920" y="2205000"/>
              <a:chExt cx="3330720" cy="936720"/>
            </a:xfrm>
          </p:grpSpPr>
          <p:sp>
            <p:nvSpPr>
              <p:cNvPr id="206" name=""/>
              <p:cNvSpPr/>
              <p:nvPr/>
            </p:nvSpPr>
            <p:spPr>
              <a:xfrm>
                <a:off x="826920" y="2421000"/>
                <a:ext cx="331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rccos (        )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7" name=""/>
                  <p:cNvSpPr txBox="1"/>
                  <p:nvPr/>
                </p:nvSpPr>
                <p:spPr>
                  <a:xfrm>
                    <a:off x="2195640" y="2205000"/>
                    <a:ext cx="798480" cy="93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8" name=""/>
                  <p:cNvSpPr txBox="1"/>
                  <p:nvPr/>
                </p:nvSpPr>
                <p:spPr>
                  <a:xfrm>
                    <a:off x="3492360" y="2205000"/>
                    <a:ext cx="665280" cy="93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09" name=""/>
            <p:cNvGrpSpPr/>
            <p:nvPr/>
          </p:nvGrpSpPr>
          <p:grpSpPr>
            <a:xfrm>
              <a:off x="4859280" y="2060640"/>
              <a:ext cx="3743280" cy="1150920"/>
              <a:chOff x="4859280" y="2060640"/>
              <a:chExt cx="3743280" cy="1150920"/>
            </a:xfrm>
          </p:grpSpPr>
          <p:sp>
            <p:nvSpPr>
              <p:cNvPr id="210" name="Rectangle 5"/>
              <p:cNvSpPr/>
              <p:nvPr/>
            </p:nvSpPr>
            <p:spPr>
              <a:xfrm>
                <a:off x="4859280" y="2060640"/>
                <a:ext cx="3743280" cy="1150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5076720" y="2133720"/>
                <a:ext cx="3313080" cy="936360"/>
                <a:chOff x="5076720" y="2133720"/>
                <a:chExt cx="3313080" cy="9363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076720" y="2349360"/>
                  <a:ext cx="3313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rccos (        ) =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13" name=""/>
                    <p:cNvSpPr txBox="1"/>
                    <p:nvPr/>
                  </p:nvSpPr>
                  <p:spPr>
                    <a:xfrm>
                      <a:off x="6445080" y="2133720"/>
                      <a:ext cx="798120" cy="936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14" name=""/>
                    <p:cNvSpPr txBox="1"/>
                    <p:nvPr/>
                  </p:nvSpPr>
                  <p:spPr>
                    <a:xfrm>
                      <a:off x="7786440" y="2133720"/>
                      <a:ext cx="574200" cy="936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215" name="Rectangle 5"/>
            <p:cNvSpPr/>
            <p:nvPr/>
          </p:nvSpPr>
          <p:spPr>
            <a:xfrm>
              <a:off x="4859280" y="907920"/>
              <a:ext cx="3743280" cy="1150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92720" y="1268280"/>
              <a:ext cx="22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rcsin (-1)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7451640" y="981000"/>
                  <a:ext cx="750960" cy="106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5148360" y="3716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rctg          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6156360" y="3429000"/>
                  <a:ext cx="83484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7453440" y="3284640"/>
                  <a:ext cx="64764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21" name=""/>
            <p:cNvGrpSpPr/>
            <p:nvPr/>
          </p:nvGrpSpPr>
          <p:grpSpPr>
            <a:xfrm>
              <a:off x="900000" y="3284640"/>
              <a:ext cx="3168720" cy="936360"/>
              <a:chOff x="900000" y="3284640"/>
              <a:chExt cx="3168720" cy="936360"/>
            </a:xfrm>
          </p:grpSpPr>
          <p:sp>
            <p:nvSpPr>
              <p:cNvPr id="222" name=""/>
              <p:cNvSpPr/>
              <p:nvPr/>
            </p:nvSpPr>
            <p:spPr>
              <a:xfrm>
                <a:off x="900000" y="3665520"/>
                <a:ext cx="316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rctg          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3" name=""/>
                  <p:cNvSpPr txBox="1"/>
                  <p:nvPr/>
                </p:nvSpPr>
                <p:spPr>
                  <a:xfrm>
                    <a:off x="1908000" y="3412080"/>
                    <a:ext cx="834840" cy="73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3205080" y="3284640"/>
                    <a:ext cx="647640" cy="93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25" name=""/>
            <p:cNvGrpSpPr/>
            <p:nvPr/>
          </p:nvGrpSpPr>
          <p:grpSpPr>
            <a:xfrm>
              <a:off x="900000" y="4365720"/>
              <a:ext cx="3097440" cy="1060200"/>
              <a:chOff x="900000" y="4365720"/>
              <a:chExt cx="3097440" cy="1060200"/>
            </a:xfrm>
          </p:grpSpPr>
          <p:sp>
            <p:nvSpPr>
              <p:cNvPr id="226" name=""/>
              <p:cNvSpPr/>
              <p:nvPr/>
            </p:nvSpPr>
            <p:spPr>
              <a:xfrm>
                <a:off x="900000" y="4653000"/>
                <a:ext cx="266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rcsin (      )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7" name=""/>
                  <p:cNvSpPr txBox="1"/>
                  <p:nvPr/>
                </p:nvSpPr>
                <p:spPr>
                  <a:xfrm>
                    <a:off x="3348000" y="4365720"/>
                    <a:ext cx="649440" cy="1060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8" name=""/>
                  <p:cNvSpPr txBox="1"/>
                  <p:nvPr/>
                </p:nvSpPr>
                <p:spPr>
                  <a:xfrm>
                    <a:off x="2195640" y="4365720"/>
                    <a:ext cx="637920" cy="98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29" name=""/>
            <p:cNvSpPr/>
            <p:nvPr/>
          </p:nvSpPr>
          <p:spPr>
            <a:xfrm>
              <a:off x="5219640" y="472428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rcsin (      )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7596360" y="4365720"/>
                  <a:ext cx="75060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6515280" y="4437000"/>
                  <a:ext cx="637920" cy="98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32" name=""/>
            <p:cNvGrpSpPr/>
            <p:nvPr/>
          </p:nvGrpSpPr>
          <p:grpSpPr>
            <a:xfrm>
              <a:off x="900000" y="5589720"/>
              <a:ext cx="3329280" cy="936360"/>
              <a:chOff x="900000" y="5589720"/>
              <a:chExt cx="3329280" cy="936360"/>
            </a:xfrm>
          </p:grpSpPr>
          <p:sp>
            <p:nvSpPr>
              <p:cNvPr id="233" name=""/>
              <p:cNvSpPr/>
              <p:nvPr/>
            </p:nvSpPr>
            <p:spPr>
              <a:xfrm>
                <a:off x="900000" y="5805360"/>
                <a:ext cx="331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rcctg (        )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4" name=""/>
                  <p:cNvSpPr txBox="1"/>
                  <p:nvPr/>
                </p:nvSpPr>
                <p:spPr>
                  <a:xfrm>
                    <a:off x="2268360" y="5589720"/>
                    <a:ext cx="798840" cy="93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5" name=""/>
                  <p:cNvSpPr txBox="1"/>
                  <p:nvPr/>
                </p:nvSpPr>
                <p:spPr>
                  <a:xfrm>
                    <a:off x="3564000" y="5589720"/>
                    <a:ext cx="665280" cy="93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36" name=""/>
            <p:cNvSpPr/>
            <p:nvPr/>
          </p:nvSpPr>
          <p:spPr>
            <a:xfrm>
              <a:off x="5003640" y="5805360"/>
              <a:ext cx="33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rcctg (        )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6372360" y="5589720"/>
                  <a:ext cx="798480" cy="93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7697880" y="5589720"/>
                  <a:ext cx="604800" cy="93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9" name="Rectangle 5"/>
          <p:cNvSpPr/>
          <p:nvPr/>
        </p:nvSpPr>
        <p:spPr>
          <a:xfrm>
            <a:off x="4859280" y="836640"/>
            <a:ext cx="3743280" cy="115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859280" y="5445000"/>
            <a:ext cx="3743280" cy="1222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859280" y="4365720"/>
            <a:ext cx="3743280" cy="107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4859280" y="1989000"/>
            <a:ext cx="3743280" cy="1222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859280" y="3213000"/>
            <a:ext cx="3743280" cy="11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42920" y="18900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те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26920" y="260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 x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76500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gt;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-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равнение корней  не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1557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ые случа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24000" y="1989000"/>
            <a:ext cx="4032000" cy="3311640"/>
            <a:chOff x="324000" y="1989000"/>
            <a:chExt cx="4032000" cy="3311640"/>
          </a:xfrm>
        </p:grpSpPr>
        <p:grpSp>
          <p:nvGrpSpPr>
            <p:cNvPr id="249" name=""/>
            <p:cNvGrpSpPr/>
            <p:nvPr/>
          </p:nvGrpSpPr>
          <p:grpSpPr>
            <a:xfrm>
              <a:off x="324000" y="1989000"/>
              <a:ext cx="4032000" cy="3311640"/>
              <a:chOff x="324000" y="1989000"/>
              <a:chExt cx="4032000" cy="3311640"/>
            </a:xfrm>
          </p:grpSpPr>
          <p:sp>
            <p:nvSpPr>
              <p:cNvPr id="250" name=""/>
              <p:cNvSpPr/>
              <p:nvPr/>
            </p:nvSpPr>
            <p:spPr>
              <a:xfrm>
                <a:off x="324000" y="1989000"/>
                <a:ext cx="2016000" cy="1103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40000" y="1989000"/>
                <a:ext cx="2016000" cy="1103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4000" y="3092400"/>
                <a:ext cx="2016000" cy="1104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340000" y="3092400"/>
                <a:ext cx="2016000" cy="1104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4000" y="4197240"/>
                <a:ext cx="2016000" cy="1103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40000" y="4197240"/>
                <a:ext cx="2016000" cy="1103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40000" y="1989000"/>
                <a:ext cx="0" cy="331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4000" y="3092400"/>
                <a:ext cx="403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4000" y="4197240"/>
                <a:ext cx="403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4000" y="1989000"/>
                <a:ext cx="0" cy="331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6000" y="1989000"/>
                <a:ext cx="0" cy="331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4000" y="1989000"/>
                <a:ext cx="40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24000" y="5300640"/>
                <a:ext cx="40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Oval 17"/>
            <p:cNvSpPr/>
            <p:nvPr/>
          </p:nvSpPr>
          <p:spPr>
            <a:xfrm>
              <a:off x="3038400" y="2276640"/>
              <a:ext cx="5709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142d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>
              <a:off x="3324600" y="2084040"/>
              <a:ext cx="0" cy="86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9"/>
            <p:cNvSpPr/>
            <p:nvPr/>
          </p:nvSpPr>
          <p:spPr>
            <a:xfrm>
              <a:off x="2800800" y="2564280"/>
              <a:ext cx="11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20" descr="BD14868_"/>
            <p:cNvPicPr/>
            <p:nvPr/>
          </p:nvPicPr>
          <p:blipFill>
            <a:blip r:embed="rId2"/>
            <a:stretch/>
          </p:blipFill>
          <p:spPr>
            <a:xfrm>
              <a:off x="3000240" y="2517840"/>
              <a:ext cx="75240" cy="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Oval 21"/>
            <p:cNvSpPr/>
            <p:nvPr/>
          </p:nvSpPr>
          <p:spPr>
            <a:xfrm>
              <a:off x="3038400" y="3380040"/>
              <a:ext cx="5709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142d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2"/>
            <p:cNvSpPr/>
            <p:nvPr/>
          </p:nvSpPr>
          <p:spPr>
            <a:xfrm>
              <a:off x="3324600" y="3236400"/>
              <a:ext cx="0" cy="86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3"/>
            <p:cNvSpPr/>
            <p:nvPr/>
          </p:nvSpPr>
          <p:spPr>
            <a:xfrm>
              <a:off x="2800800" y="3620520"/>
              <a:ext cx="11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Picture 24" descr="BD14868_"/>
            <p:cNvPicPr/>
            <p:nvPr/>
          </p:nvPicPr>
          <p:blipFill>
            <a:blip r:embed="rId3"/>
            <a:stretch/>
          </p:blipFill>
          <p:spPr>
            <a:xfrm>
              <a:off x="3278520" y="3342240"/>
              <a:ext cx="75600" cy="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25" descr="BD14868_"/>
            <p:cNvPicPr/>
            <p:nvPr/>
          </p:nvPicPr>
          <p:blipFill>
            <a:blip r:embed="rId4"/>
            <a:stretch/>
          </p:blipFill>
          <p:spPr>
            <a:xfrm>
              <a:off x="3285720" y="3860640"/>
              <a:ext cx="75600" cy="759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72" name="Object 26"/>
            <p:cNvGraphicFramePr/>
            <p:nvPr/>
          </p:nvGraphicFramePr>
          <p:xfrm>
            <a:off x="3848760" y="2372040"/>
            <a:ext cx="128880" cy="14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Object 2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48760" y="2372040"/>
                      <a:ext cx="128880" cy="14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4" name="Object 27"/>
            <p:cNvGraphicFramePr/>
            <p:nvPr/>
          </p:nvGraphicFramePr>
          <p:xfrm>
            <a:off x="3848760" y="3427920"/>
            <a:ext cx="128880" cy="142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5" name="Object 2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48760" y="3427920"/>
                      <a:ext cx="128880" cy="14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Object 28"/>
            <p:cNvGraphicFramePr/>
            <p:nvPr/>
          </p:nvGraphicFramePr>
          <p:xfrm>
            <a:off x="3365640" y="2023920"/>
            <a:ext cx="141840" cy="169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7" name="Object 2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65640" y="2023920"/>
                      <a:ext cx="141840" cy="16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Object 29"/>
            <p:cNvGraphicFramePr/>
            <p:nvPr/>
          </p:nvGraphicFramePr>
          <p:xfrm>
            <a:off x="3372120" y="3187800"/>
            <a:ext cx="141480" cy="168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9" name="Object 2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72120" y="3187800"/>
                      <a:ext cx="141480" cy="16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Oval 30"/>
            <p:cNvSpPr/>
            <p:nvPr/>
          </p:nvSpPr>
          <p:spPr>
            <a:xfrm>
              <a:off x="3038400" y="4483800"/>
              <a:ext cx="5709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142d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1"/>
            <p:cNvSpPr/>
            <p:nvPr/>
          </p:nvSpPr>
          <p:spPr>
            <a:xfrm>
              <a:off x="3324600" y="4292280"/>
              <a:ext cx="0" cy="86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2"/>
            <p:cNvSpPr/>
            <p:nvPr/>
          </p:nvSpPr>
          <p:spPr>
            <a:xfrm>
              <a:off x="2800800" y="4723920"/>
              <a:ext cx="11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3" name="Object 33"/>
            <p:cNvGraphicFramePr/>
            <p:nvPr/>
          </p:nvGraphicFramePr>
          <p:xfrm>
            <a:off x="3848760" y="4532400"/>
            <a:ext cx="128880" cy="14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4" name="Object 3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848760" y="4532400"/>
                      <a:ext cx="12888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Object 34"/>
            <p:cNvGraphicFramePr/>
            <p:nvPr/>
          </p:nvGraphicFramePr>
          <p:xfrm>
            <a:off x="3372120" y="4243680"/>
            <a:ext cx="141480" cy="168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6" name="Object 3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372120" y="4243680"/>
                      <a:ext cx="141480" cy="16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87" name="Picture 35" descr="BD14868_"/>
            <p:cNvPicPr/>
            <p:nvPr/>
          </p:nvPicPr>
          <p:blipFill>
            <a:blip r:embed="rId17"/>
            <a:stretch/>
          </p:blipFill>
          <p:spPr>
            <a:xfrm>
              <a:off x="3562200" y="4676400"/>
              <a:ext cx="75600" cy="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36"/>
            <p:cNvSpPr/>
            <p:nvPr/>
          </p:nvSpPr>
          <p:spPr>
            <a:xfrm>
              <a:off x="1174320" y="2241720"/>
              <a:ext cx="177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9" name="Object 37"/>
            <p:cNvGraphicFramePr/>
            <p:nvPr/>
          </p:nvGraphicFramePr>
          <p:xfrm>
            <a:off x="514080" y="2324160"/>
            <a:ext cx="1657800" cy="5234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290" name="Object 37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514080" y="2324160"/>
                      <a:ext cx="1657800" cy="52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1" name="Object 38"/>
            <p:cNvGraphicFramePr/>
            <p:nvPr/>
          </p:nvGraphicFramePr>
          <p:xfrm>
            <a:off x="514080" y="3236400"/>
            <a:ext cx="1589400" cy="7394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92" name="Object 38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4080" y="3236400"/>
                      <a:ext cx="1589400" cy="73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39"/>
            <p:cNvGraphicFramePr/>
            <p:nvPr/>
          </p:nvGraphicFramePr>
          <p:xfrm>
            <a:off x="667080" y="4495320"/>
            <a:ext cx="1350000" cy="52272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294" name="Object 39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667080" y="4495320"/>
                      <a:ext cx="1350000" cy="5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5" name=""/>
          <p:cNvSpPr/>
          <p:nvPr/>
        </p:nvSpPr>
        <p:spPr>
          <a:xfrm>
            <a:off x="395280" y="4724280"/>
            <a:ext cx="187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3573360"/>
            <a:ext cx="187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2637000"/>
            <a:ext cx="1871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6093000"/>
            <a:ext cx="5184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18"/>
          <p:cNvGraphicFramePr/>
          <p:nvPr/>
        </p:nvGraphicFramePr>
        <p:xfrm>
          <a:off x="755640" y="5877000"/>
          <a:ext cx="3672000" cy="4316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00" name="Object 1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55640" y="5877000"/>
                    <a:ext cx="367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4572000" y="189000"/>
            <a:ext cx="0" cy="645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26028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x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1484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ые случа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16360" y="692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gt;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-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равнение корней  не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788000" y="1989000"/>
            <a:ext cx="4176720" cy="3311640"/>
            <a:chOff x="4788000" y="1989000"/>
            <a:chExt cx="4176720" cy="3311640"/>
          </a:xfrm>
        </p:grpSpPr>
        <p:grpSp>
          <p:nvGrpSpPr>
            <p:cNvPr id="306" name=""/>
            <p:cNvGrpSpPr/>
            <p:nvPr/>
          </p:nvGrpSpPr>
          <p:grpSpPr>
            <a:xfrm>
              <a:off x="4788000" y="1989000"/>
              <a:ext cx="4176720" cy="3311640"/>
              <a:chOff x="4788000" y="1989000"/>
              <a:chExt cx="4176720" cy="3311640"/>
            </a:xfrm>
          </p:grpSpPr>
          <p:sp>
            <p:nvSpPr>
              <p:cNvPr id="307" name=""/>
              <p:cNvSpPr/>
              <p:nvPr/>
            </p:nvSpPr>
            <p:spPr>
              <a:xfrm>
                <a:off x="4788000" y="1989000"/>
                <a:ext cx="2088360" cy="1103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76360" y="1989000"/>
                <a:ext cx="2088360" cy="1103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88000" y="3092400"/>
                <a:ext cx="2088360" cy="1104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76360" y="3092400"/>
                <a:ext cx="2088360" cy="1104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88000" y="4197240"/>
                <a:ext cx="2088360" cy="1103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876360" y="4197240"/>
                <a:ext cx="2088360" cy="1103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876360" y="1989000"/>
                <a:ext cx="0" cy="331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88000" y="3092400"/>
                <a:ext cx="417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88000" y="4197240"/>
                <a:ext cx="417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88000" y="1989000"/>
                <a:ext cx="0" cy="331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964720" y="1989000"/>
                <a:ext cx="0" cy="331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88000" y="1989000"/>
                <a:ext cx="41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88000" y="5300640"/>
                <a:ext cx="41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Oval 33"/>
            <p:cNvSpPr/>
            <p:nvPr/>
          </p:nvSpPr>
          <p:spPr>
            <a:xfrm>
              <a:off x="7599600" y="2276640"/>
              <a:ext cx="59148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142d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7896240" y="2084040"/>
              <a:ext cx="0" cy="86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>
              <a:off x="7353720" y="2564280"/>
              <a:ext cx="118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42" descr="BD14868_"/>
            <p:cNvPicPr/>
            <p:nvPr/>
          </p:nvPicPr>
          <p:blipFill>
            <a:blip r:embed="rId26"/>
            <a:stretch/>
          </p:blipFill>
          <p:spPr>
            <a:xfrm>
              <a:off x="7846560" y="2756160"/>
              <a:ext cx="78120" cy="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Oval 43"/>
            <p:cNvSpPr/>
            <p:nvPr/>
          </p:nvSpPr>
          <p:spPr>
            <a:xfrm>
              <a:off x="7599600" y="3380040"/>
              <a:ext cx="59148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142d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44"/>
            <p:cNvSpPr/>
            <p:nvPr/>
          </p:nvSpPr>
          <p:spPr>
            <a:xfrm>
              <a:off x="7896240" y="3236400"/>
              <a:ext cx="0" cy="86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5"/>
            <p:cNvSpPr/>
            <p:nvPr/>
          </p:nvSpPr>
          <p:spPr>
            <a:xfrm>
              <a:off x="7353720" y="3620520"/>
              <a:ext cx="118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47" descr="BD14868_"/>
            <p:cNvPicPr/>
            <p:nvPr/>
          </p:nvPicPr>
          <p:blipFill>
            <a:blip r:embed="rId27"/>
            <a:stretch/>
          </p:blipFill>
          <p:spPr>
            <a:xfrm>
              <a:off x="7550640" y="3571560"/>
              <a:ext cx="78120" cy="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48" descr="BD14868_"/>
            <p:cNvPicPr/>
            <p:nvPr/>
          </p:nvPicPr>
          <p:blipFill>
            <a:blip r:embed="rId28"/>
            <a:stretch/>
          </p:blipFill>
          <p:spPr>
            <a:xfrm>
              <a:off x="8142480" y="3571560"/>
              <a:ext cx="78120" cy="759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29" name="Object 49"/>
            <p:cNvGraphicFramePr/>
            <p:nvPr/>
          </p:nvGraphicFramePr>
          <p:xfrm>
            <a:off x="8439120" y="2372040"/>
            <a:ext cx="133560" cy="1425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30" name="Object 49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439120" y="2372040"/>
                      <a:ext cx="133560" cy="14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Object 50"/>
            <p:cNvGraphicFramePr/>
            <p:nvPr/>
          </p:nvGraphicFramePr>
          <p:xfrm>
            <a:off x="8439120" y="3427920"/>
            <a:ext cx="133560" cy="1425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32" name="Object 50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8439120" y="3427920"/>
                      <a:ext cx="133560" cy="14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3" name="Object 51"/>
            <p:cNvGraphicFramePr/>
            <p:nvPr/>
          </p:nvGraphicFramePr>
          <p:xfrm>
            <a:off x="7938720" y="2023920"/>
            <a:ext cx="146880" cy="1692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334" name="Object 51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938720" y="2023920"/>
                      <a:ext cx="146880" cy="16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5" name="Object 52"/>
            <p:cNvGraphicFramePr/>
            <p:nvPr/>
          </p:nvGraphicFramePr>
          <p:xfrm>
            <a:off x="7945560" y="3187800"/>
            <a:ext cx="146520" cy="16884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336" name="Object 52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7945560" y="3187800"/>
                      <a:ext cx="146520" cy="16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Oval 53"/>
            <p:cNvSpPr/>
            <p:nvPr/>
          </p:nvSpPr>
          <p:spPr>
            <a:xfrm>
              <a:off x="7599600" y="4483800"/>
              <a:ext cx="59148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142d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5"/>
            <p:cNvSpPr/>
            <p:nvPr/>
          </p:nvSpPr>
          <p:spPr>
            <a:xfrm>
              <a:off x="7896240" y="4292280"/>
              <a:ext cx="0" cy="86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56"/>
            <p:cNvSpPr/>
            <p:nvPr/>
          </p:nvSpPr>
          <p:spPr>
            <a:xfrm>
              <a:off x="7353720" y="4723920"/>
              <a:ext cx="118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0" name="Object 57"/>
            <p:cNvGraphicFramePr/>
            <p:nvPr/>
          </p:nvGraphicFramePr>
          <p:xfrm>
            <a:off x="8439120" y="4532400"/>
            <a:ext cx="133560" cy="14292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341" name="Object 57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8439120" y="4532400"/>
                      <a:ext cx="133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2" name="Object 58"/>
            <p:cNvGraphicFramePr/>
            <p:nvPr/>
          </p:nvGraphicFramePr>
          <p:xfrm>
            <a:off x="7945560" y="4243680"/>
            <a:ext cx="146520" cy="16884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343" name="Object 58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7945560" y="4243680"/>
                      <a:ext cx="146520" cy="16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44" name="Picture 59" descr="BD14868_"/>
            <p:cNvPicPr/>
            <p:nvPr/>
          </p:nvPicPr>
          <p:blipFill>
            <a:blip r:embed="rId41"/>
            <a:stretch/>
          </p:blipFill>
          <p:spPr>
            <a:xfrm>
              <a:off x="7846560" y="4436280"/>
              <a:ext cx="78120" cy="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60"/>
            <p:cNvSpPr/>
            <p:nvPr/>
          </p:nvSpPr>
          <p:spPr>
            <a:xfrm>
              <a:off x="5681880" y="2241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6" name="Object 61"/>
            <p:cNvGraphicFramePr/>
            <p:nvPr/>
          </p:nvGraphicFramePr>
          <p:xfrm>
            <a:off x="4887000" y="2228040"/>
            <a:ext cx="1911960" cy="73836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347" name="Object 61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4887000" y="2228040"/>
                      <a:ext cx="1911960" cy="7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8" name="Object 62"/>
            <p:cNvGraphicFramePr/>
            <p:nvPr/>
          </p:nvGraphicFramePr>
          <p:xfrm>
            <a:off x="4935960" y="3332520"/>
            <a:ext cx="1292040" cy="52344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349" name="Object 62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4935960" y="3332520"/>
                      <a:ext cx="1292040" cy="52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Object 63"/>
            <p:cNvGraphicFramePr/>
            <p:nvPr/>
          </p:nvGraphicFramePr>
          <p:xfrm>
            <a:off x="4966560" y="4387320"/>
            <a:ext cx="1753200" cy="73836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351" name="Object 63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4966560" y="4387320"/>
                      <a:ext cx="1753200" cy="7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2" name=""/>
          <p:cNvSpPr/>
          <p:nvPr/>
        </p:nvSpPr>
        <p:spPr>
          <a:xfrm>
            <a:off x="4932360" y="2492280"/>
            <a:ext cx="187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32360" y="3573360"/>
            <a:ext cx="187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32360" y="4653000"/>
            <a:ext cx="187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587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537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23"/>
          <p:cNvGraphicFramePr/>
          <p:nvPr/>
        </p:nvGraphicFramePr>
        <p:xfrm>
          <a:off x="4932360" y="5300640"/>
          <a:ext cx="4032360" cy="5936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358" name="Object 23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4932360" y="5300640"/>
                    <a:ext cx="40323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0"/>
          <p:cNvGraphicFramePr/>
          <p:nvPr/>
        </p:nvGraphicFramePr>
        <p:xfrm>
          <a:off x="4932360" y="5805360"/>
          <a:ext cx="3546360" cy="89532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360" name="Object 20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4932360" y="5805360"/>
                    <a:ext cx="35463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700360" y="189000"/>
            <a:ext cx="41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155736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   2 sin  x = 1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39640" y="2349360"/>
            <a:ext cx="3311640" cy="1019880"/>
            <a:chOff x="539640" y="2349360"/>
            <a:chExt cx="3311640" cy="10198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1042920" y="2349360"/>
                  <a:ext cx="280836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539640" y="2422080"/>
              <a:ext cx="7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).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39640" y="3213000"/>
            <a:ext cx="3011400" cy="644400"/>
            <a:chOff x="539640" y="3213000"/>
            <a:chExt cx="3011400" cy="644400"/>
          </a:xfrm>
        </p:grpSpPr>
        <p:sp>
          <p:nvSpPr>
            <p:cNvPr id="367" name=""/>
            <p:cNvSpPr/>
            <p:nvPr/>
          </p:nvSpPr>
          <p:spPr>
            <a:xfrm>
              <a:off x="539640" y="328608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1187280" y="3213000"/>
                  <a:ext cx="236376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9" name=""/>
          <p:cNvGrpSpPr/>
          <p:nvPr/>
        </p:nvGrpSpPr>
        <p:grpSpPr>
          <a:xfrm>
            <a:off x="611280" y="4076640"/>
            <a:ext cx="2814480" cy="698400"/>
            <a:chOff x="611280" y="4076640"/>
            <a:chExt cx="2814480" cy="698400"/>
          </a:xfrm>
        </p:grpSpPr>
        <p:sp>
          <p:nvSpPr>
            <p:cNvPr id="370" name=""/>
            <p:cNvSpPr/>
            <p:nvPr/>
          </p:nvSpPr>
          <p:spPr>
            <a:xfrm>
              <a:off x="611280" y="414792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1332000" y="4076640"/>
                  <a:ext cx="209376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2" name=""/>
          <p:cNvGrpSpPr/>
          <p:nvPr/>
        </p:nvGrpSpPr>
        <p:grpSpPr>
          <a:xfrm>
            <a:off x="539640" y="5084640"/>
            <a:ext cx="2952720" cy="555480"/>
            <a:chOff x="539640" y="5084640"/>
            <a:chExt cx="2952720" cy="555480"/>
          </a:xfrm>
        </p:grpSpPr>
        <p:sp>
          <p:nvSpPr>
            <p:cNvPr id="373" name=""/>
            <p:cNvSpPr/>
            <p:nvPr/>
          </p:nvSpPr>
          <p:spPr>
            <a:xfrm>
              <a:off x="539640" y="508464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1187280" y="5084640"/>
                  <a:ext cx="230508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932360" y="1197000"/>
                <a:ext cx="38894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πk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932360" y="2205000"/>
                <a:ext cx="3322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n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952880" y="3068640"/>
                <a:ext cx="3878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πk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4284720" y="4221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корней не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51280" y="5084640"/>
                <a:ext cx="5041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πk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2916360" y="404640"/>
            <a:ext cx="3166920" cy="1055880"/>
            <a:chOff x="2916360" y="404640"/>
            <a:chExt cx="3166920" cy="1055880"/>
          </a:xfrm>
        </p:grpSpPr>
        <p:sp>
          <p:nvSpPr>
            <p:cNvPr id="381" name=""/>
            <p:cNvSpPr/>
            <p:nvPr/>
          </p:nvSpPr>
          <p:spPr>
            <a:xfrm>
              <a:off x="2987640" y="691920"/>
              <a:ext cx="1008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16360" y="62064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564000" y="404640"/>
                  <a:ext cx="2519280" cy="10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4" name="TextBox 3"/>
          <p:cNvSpPr/>
          <p:nvPr/>
        </p:nvSpPr>
        <p:spPr>
          <a:xfrm>
            <a:off x="1547640" y="1989000"/>
            <a:ext cx="6696360" cy="3020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(x+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) 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= ±arccos1/2 + 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= 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±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±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5"/>
          <p:cNvSpPr/>
          <p:nvPr/>
        </p:nvSpPr>
        <p:spPr>
          <a:xfrm>
            <a:off x="1476360" y="2421000"/>
            <a:ext cx="6624720" cy="2654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x/3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стим по формулам при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й слу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3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3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219640" y="549360"/>
            <a:ext cx="3097080" cy="993600"/>
            <a:chOff x="5219640" y="549360"/>
            <a:chExt cx="3097080" cy="993600"/>
          </a:xfrm>
        </p:grpSpPr>
        <p:sp>
          <p:nvSpPr>
            <p:cNvPr id="387" name=""/>
            <p:cNvSpPr/>
            <p:nvPr/>
          </p:nvSpPr>
          <p:spPr>
            <a:xfrm>
              <a:off x="5219640" y="765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5868720" y="549360"/>
                  <a:ext cx="2448000" cy="99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π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468360" y="25560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ри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4211640" y="692280"/>
          <a:ext cx="3530520" cy="95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692280"/>
                    <a:ext cx="35305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Text Box 5"/>
          <p:cNvSpPr/>
          <p:nvPr/>
        </p:nvSpPr>
        <p:spPr>
          <a:xfrm>
            <a:off x="538920" y="1773360"/>
            <a:ext cx="15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124000" y="1628640"/>
          <a:ext cx="3084480" cy="91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1628640"/>
                    <a:ext cx="3084480" cy="9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Text Box 8"/>
          <p:cNvSpPr/>
          <p:nvPr/>
        </p:nvSpPr>
        <p:spPr>
          <a:xfrm>
            <a:off x="326880" y="256536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ывая четность косинуса, 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684360" y="3068640"/>
          <a:ext cx="2711160" cy="91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3068640"/>
                    <a:ext cx="27111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Text Box 10"/>
          <p:cNvSpPr/>
          <p:nvPr/>
        </p:nvSpPr>
        <p:spPr>
          <a:xfrm>
            <a:off x="3710880" y="328464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1"/>
          <p:cNvGraphicFramePr/>
          <p:nvPr/>
        </p:nvGraphicFramePr>
        <p:xfrm>
          <a:off x="539640" y="4005360"/>
          <a:ext cx="7964640" cy="865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0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4005360"/>
                    <a:ext cx="79646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2"/>
          <p:cNvGraphicFramePr/>
          <p:nvPr/>
        </p:nvGraphicFramePr>
        <p:xfrm>
          <a:off x="684360" y="4941720"/>
          <a:ext cx="3443040" cy="789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2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4941720"/>
                    <a:ext cx="34430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14"/>
          <p:cNvSpPr/>
          <p:nvPr/>
        </p:nvSpPr>
        <p:spPr>
          <a:xfrm>
            <a:off x="527760" y="580536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16"/>
          <p:cNvGraphicFramePr/>
          <p:nvPr/>
        </p:nvGraphicFramePr>
        <p:xfrm>
          <a:off x="5364000" y="1557360"/>
          <a:ext cx="2873520" cy="965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5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64000" y="1557360"/>
                    <a:ext cx="2873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9"/>
          <p:cNvGraphicFramePr/>
          <p:nvPr/>
        </p:nvGraphicFramePr>
        <p:xfrm>
          <a:off x="1728720" y="5616720"/>
          <a:ext cx="3959280" cy="906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7" name="Object 1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28720" y="5616720"/>
                    <a:ext cx="395928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TextBox 1"/>
          <p:cNvSpPr/>
          <p:nvPr/>
        </p:nvSpPr>
        <p:spPr>
          <a:xfrm>
            <a:off x="1189800" y="866880"/>
            <a:ext cx="29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9:06:59Z</dcterms:created>
  <dc:creator>****</dc:creator>
  <dc:description/>
  <dc:language>en-US</dc:language>
  <cp:lastModifiedBy>****</cp:lastModifiedBy>
  <dcterms:modified xsi:type="dcterms:W3CDTF">2013-12-21T14:26:04Z</dcterms:modified>
  <cp:revision>48</cp:revision>
  <dc:subject/>
  <dc:title>Слайд 1</dc:title>
</cp:coreProperties>
</file>