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3A4-9928-4D04-9D5F-FFFF45CC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36F-BABA-4664-B450-E2B4514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402-A4DF-4CFC-AEFD-58D57B23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52F-E48C-44AB-A262-3B6F9F81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E16-9284-40DD-9B3A-EE1FA1EB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8720-6148-4816-B5F7-8B56C86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C7EC-92A1-47DD-9572-DD4C56E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617C-24BD-4CD1-A29A-E118A3CA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EA71-4BE8-4B0C-8CF7-150E94F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C9E-9AE8-44AC-B47F-616DA8A0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A9D-0366-4D7E-901B-EE12431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E53-954A-4A3D-B2A3-1D200DF6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613-6770-4180-B89D-C7B31F3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CC3F-E8D7-408A-A593-B4C7B12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68B-7E5F-4EAA-84F7-37C84FA6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E6CB-8110-436D-9058-4E31AD8F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4993-47AF-4891-B938-BCF82208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D56F-26BF-4CE9-83FB-C0E6C5D3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A589-B84F-4250-B7D6-15B789D0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C385-41F9-49D7-AFF6-76A3C135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3FB5-9C5F-4E09-AFE3-9F315A93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E9A1D-FAA4-4C2A-862B-7A2CA4B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D11-3C4C-4ED9-AD4F-7A034314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4AD6-6458-4EF3-8587-3906C1AB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475A-9BB5-4017-8EB2-CB745AC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9D89-FCF3-41C4-8DE2-21875FD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97B0-C0A0-497B-8F76-6C14790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B6A5-4785-4D0A-A9E6-D54E6D63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74CC-E21D-458C-A89E-60F774EA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3E17-577C-4992-B100-A3D797C3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43CA-CD60-49E7-869B-E42B5D7F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1ED39-5C5A-4174-9ACE-678556F9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0D2C-5E67-433C-8244-590C16FC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43E-FC40-4EA4-9D56-AFA95D0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0CC2-81F1-4249-8ACF-151A4BCE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225B1-96DE-49F1-BCD5-7DDB3948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9965-A919-4C98-83D8-39BA1684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6573-0D13-4976-97AD-9058822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C4F8-F99B-452A-BFF7-F1CCB0C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7C35-C28F-455C-9066-772F6797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523D-5C3A-4492-8C72-E15C7CE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144C-939E-44C1-963C-B92EFC3C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230F-EB5A-42D4-B330-9721F34B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957-BD17-4C7F-9FB2-C9B8BF81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F44-5FC3-4679-A741-F1E1E1A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0B9-036B-4E5A-99B3-3D5296C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7B2-A4CF-4F98-9074-917850E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6B6-1EBF-4856-837A-D3C80476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FA0C-9976-41FD-8925-4230B07E285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801C-8BD4-4D24-957B-7A11B5E4EE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EB0D-7183-4315-9206-1E255CDC1CB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2865-1500-4B0E-93CE-8ADFF6941E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monosov.pomorsu.ru/img/vid_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91960" y="-49320"/>
            <a:ext cx="8334360" cy="2560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и студенты ФГОУ СПО Л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. ТМ 1-23 Макеева Екатерина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ринов Иль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Calligraph"/>
              </a:rPr>
              <a:t>Академия наук в Петербург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5" descr="2_1106660416"/>
          <p:cNvPicPr/>
          <p:nvPr/>
        </p:nvPicPr>
        <p:blipFill>
          <a:blip r:embed="rId1">
            <a:lum contrast="18000"/>
          </a:blip>
          <a:srcRect l="0" t="959" r="2854" b="0"/>
          <a:stretch/>
        </p:blipFill>
        <p:spPr>
          <a:xfrm>
            <a:off x="250920" y="1844640"/>
            <a:ext cx="8604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660033"/>
                </a:solidFill>
                <a:latin typeface="Calligraph"/>
              </a:rPr>
              <a:t>Ломоносов показывает Екатерине </a:t>
            </a:r>
            <a:r>
              <a:rPr b="0" i="1" lang="en-US" sz="4900" spc="-1" strike="noStrike">
                <a:solidFill>
                  <a:srgbClr val="660033"/>
                </a:solidFill>
                <a:latin typeface="Book Antiqua"/>
              </a:rPr>
              <a:t>II</a:t>
            </a:r>
            <a:r>
              <a:rPr b="0" lang="en-US" sz="4900" spc="-1" strike="noStrike">
                <a:solidFill>
                  <a:srgbClr val="660033"/>
                </a:solidFill>
                <a:latin typeface="Calligraph"/>
              </a:rPr>
              <a:t> </a:t>
            </a:r>
            <a:r>
              <a:rPr b="0" lang="ru-RU" sz="4900" spc="-1" strike="noStrike">
                <a:solidFill>
                  <a:srgbClr val="660033"/>
                </a:solidFill>
                <a:latin typeface="Calligraph"/>
              </a:rPr>
              <a:t>свою мозаику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4" descr="ekat"/>
          <p:cNvPicPr/>
          <p:nvPr/>
        </p:nvPicPr>
        <p:blipFill>
          <a:blip r:embed="rId1"/>
          <a:stretch/>
        </p:blipFill>
        <p:spPr>
          <a:xfrm>
            <a:off x="1187280" y="1714680"/>
            <a:ext cx="675504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Calligraph"/>
              </a:rPr>
              <a:t>Московский университе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5" descr="msu5"/>
          <p:cNvPicPr/>
          <p:nvPr/>
        </p:nvPicPr>
        <p:blipFill>
          <a:blip r:embed="rId1"/>
          <a:stretch/>
        </p:blipFill>
        <p:spPr>
          <a:xfrm>
            <a:off x="1330200" y="1246320"/>
            <a:ext cx="64818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660033"/>
                </a:solidFill>
                <a:latin typeface="Calligraph"/>
              </a:rPr>
              <a:t>Могила Ломоносова в Александро-Невской лавре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4" descr="могила в Александро_невской лавре"/>
          <p:cNvPicPr/>
          <p:nvPr/>
        </p:nvPicPr>
        <p:blipFill>
          <a:blip r:embed="rId1"/>
          <a:stretch/>
        </p:blipFill>
        <p:spPr>
          <a:xfrm>
            <a:off x="2784600" y="1700280"/>
            <a:ext cx="3659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ml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765000"/>
            <a:ext cx="3714480" cy="45291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660033"/>
                </a:solidFill>
                <a:latin typeface="Calligraph"/>
              </a:rPr>
              <a:t>Окрестности с.Ломоносово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5" descr="Окрестности села Ломоносово.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20720" y="1700280"/>
            <a:ext cx="590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Calligraph"/>
              </a:rPr>
              <a:t>Резьб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660033"/>
                </a:solidFill>
                <a:latin typeface="Calligraph"/>
              </a:rPr>
              <a:t>по кос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5" descr="Пудреница &quot;Глухарь&quot;"/>
          <p:cNvPicPr/>
          <p:nvPr/>
        </p:nvPicPr>
        <p:blipFill>
          <a:blip r:embed="rId1"/>
          <a:srcRect l="0" t="5815" r="-241" b="9261"/>
          <a:stretch/>
        </p:blipFill>
        <p:spPr>
          <a:xfrm>
            <a:off x="250920" y="1628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Ларец&quot;Охота&quot;"/>
          <p:cNvPicPr/>
          <p:nvPr/>
        </p:nvPicPr>
        <p:blipFill>
          <a:blip r:embed="rId2"/>
          <a:stretch/>
        </p:blipFill>
        <p:spPr>
          <a:xfrm>
            <a:off x="5559480" y="1476360"/>
            <a:ext cx="3333600" cy="245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Портрет Петра | "/>
          <p:cNvPicPr/>
          <p:nvPr/>
        </p:nvPicPr>
        <p:blipFill>
          <a:blip r:embed="rId3"/>
          <a:srcRect l="9586" t="0" r="9687" b="-1417"/>
          <a:stretch/>
        </p:blipFill>
        <p:spPr>
          <a:xfrm>
            <a:off x="3305160" y="2766960"/>
            <a:ext cx="1992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Calligraph"/>
              </a:rPr>
              <a:t>Первые учебники Ломоносов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08480" y="1557360"/>
            <a:ext cx="483552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60033"/>
                </a:solidFill>
                <a:latin typeface="Constantia"/>
              </a:rPr>
              <a:t>«Грамматика» М.Смотрицкого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18_2"/>
          <p:cNvPicPr/>
          <p:nvPr/>
        </p:nvPicPr>
        <p:blipFill>
          <a:blip r:embed="rId1"/>
          <a:stretch/>
        </p:blipFill>
        <p:spPr>
          <a:xfrm>
            <a:off x="179280" y="1557360"/>
            <a:ext cx="4033800" cy="3154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18_1"/>
          <p:cNvPicPr/>
          <p:nvPr/>
        </p:nvPicPr>
        <p:blipFill>
          <a:blip r:embed="rId2"/>
          <a:stretch/>
        </p:blipFill>
        <p:spPr>
          <a:xfrm>
            <a:off x="4897440" y="3573360"/>
            <a:ext cx="4067280" cy="30751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5950080"/>
            <a:ext cx="4835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«Арифметика» Л.Магницк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33"/>
                </a:solidFill>
                <a:latin typeface="Calligraph"/>
              </a:rPr>
              <a:t>«Юноша Ломоносов на пути в Москву». Худ. Н.И.Кисляков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zal3_img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665440" y="1582560"/>
            <a:ext cx="40672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33"/>
                </a:solidFill>
                <a:latin typeface="Calligraph"/>
              </a:rPr>
              <a:t>Славяно-греко-латинская академ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5" descr="Заиконоспасский монастырь (Славяно-греко-латинская академия)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843280" y="1916280"/>
            <a:ext cx="353844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Calligraph"/>
              </a:rPr>
              <a:t>Ломоносов в Германии. Марбург.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788000" y="5084280"/>
            <a:ext cx="4124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nstantia"/>
              </a:rPr>
              <a:t>Вход в подъезд дома, где жил Ломоносов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nstantia"/>
              </a:rPr>
              <a:t>Две синие таблички рассказывают на двух языках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nstantia"/>
              </a:rPr>
              <a:t>что здесь жил российский студент Михаил Ломоно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Вход в подъезд дома, где жил Ломоносов. Две синие таблички рассказывают на двух языках, что здесь жил российский студент Михаил Ломоносов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932360" y="191628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марбургский университет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989000"/>
            <a:ext cx="4281480" cy="3308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395280" y="544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Здание университета в Марбурге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Calligraph"/>
              </a:rPr>
              <a:t>Ломоносов в Германии. Фрейберг.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00360" y="3860280"/>
            <a:ext cx="42591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660033"/>
                </a:solidFill>
                <a:latin typeface="Constantia"/>
              </a:rPr>
              <a:t>Дом во Фрейберге, где находилась химическая лаборатория Генкел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5" descr="16-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68280" y="1627200"/>
            <a:ext cx="4203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2:05:05Z</dcterms:created>
  <dc:creator>User</dc:creator>
  <dc:description/>
  <dc:language>en-US</dc:language>
  <cp:lastModifiedBy>лена</cp:lastModifiedBy>
  <dcterms:modified xsi:type="dcterms:W3CDTF">2012-02-27T02:06:17Z</dcterms:modified>
  <cp:revision>40</cp:revision>
  <dc:subject/>
  <dc:title>«Шагнувший через века…»   М.В.Ломоносов – гениальный сын русского народа, реформатор русского литературного языка</dc:title>
</cp:coreProperties>
</file>