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36A0-FEFF-4043-B1F4-9FC73E3B5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AE05-1D53-4831-A5E5-FF150866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BAC3-312D-470F-A521-3FB079729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C3BC-8FE1-4BF3-89A8-F8065ECB5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39EE-AFC4-4F3F-8AD9-A73E5B1A1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36D0-F6F5-4BF8-9C74-6CF2BF87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1BFF-4870-49F6-A726-35EC867D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4397-22E8-4926-8139-89253EDF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2B0E-FE58-4478-9A54-360006B9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E26A-77AB-4174-9FDC-DA2905EC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A60A-38A4-4195-9E44-7A68A713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71FD-3806-48DF-A3C2-523950A8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61A4-248D-4856-BC9A-A45E674C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C9E7-8F5E-4481-8834-1D66CBCF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72BB-E079-4813-A029-BCEED171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2EF9-451A-46A5-B2C0-6D45A4BC4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27E9-F1D0-4EA8-9220-DECEED012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D971-787F-419D-9542-47E508E5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245C-24E3-402D-A2E0-93061E93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0EA1-A095-42D3-9326-A974ACB5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3C53-754F-46AF-8CB8-4B161226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1571-400C-42DA-AF71-C48830AE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0F4C-C497-4960-A8F5-B9FD4493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065B-D29C-4BC2-81F0-185AF9B5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>
                    <a:gd name="textAreaLeft" fmla="*/ 360 w 473760"/>
                    <a:gd name="textAreaRight" fmla="*/ 474480 w 473760"/>
                    <a:gd name="textAreaTop" fmla="*/ 0 h 1215000"/>
                    <a:gd name="textAreaBottom" fmla="*/ 1215360 h 12150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498960"/>
                    <a:gd name="textAreaBottom" fmla="*/ 499320 h 49896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E423-DE22-451E-A22A-E3DB0D39B5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>
                  <a:gd name="textAreaLeft" fmla="*/ 0 w 2116080"/>
                  <a:gd name="textAreaRight" fmla="*/ 2116440 w 211608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843480"/>
                  <a:gd name="textAreaBottom" fmla="*/ 843480 h 84348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>
                  <a:gd name="textAreaLeft" fmla="*/ 0 w 439560"/>
                  <a:gd name="textAreaRight" fmla="*/ 439920 w 43956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>
                  <a:gd name="textAreaLeft" fmla="*/ 0 w 523800"/>
                  <a:gd name="textAreaRight" fmla="*/ 524160 w 523800"/>
                  <a:gd name="textAreaTop" fmla="*/ 360 h 3268800"/>
                  <a:gd name="textAreaBottom" fmla="*/ 3269520 h 326880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>
                <a:gd name="textAreaLeft" fmla="*/ 360 w 512640"/>
                <a:gd name="textAreaRight" fmla="*/ 513360 w 512640"/>
                <a:gd name="textAreaTop" fmla="*/ 0 h 1030680"/>
                <a:gd name="textAreaBottom" fmla="*/ 1031040 h 103068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>
                <a:gd name="textAreaLeft" fmla="*/ 0 w 1998720"/>
                <a:gd name="textAreaRight" fmla="*/ 1999080 w 199872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>
                <a:gd name="textAreaLeft" fmla="*/ 0 w 1271520"/>
                <a:gd name="textAreaRight" fmla="*/ 1271880 w 12715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>
                <a:gd name="textAreaLeft" fmla="*/ -360 w 561960"/>
                <a:gd name="textAreaRight" fmla="*/ 561960 w 56196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>
                <a:gd name="textAreaLeft" fmla="*/ 360 w 138240"/>
                <a:gd name="textAreaRight" fmla="*/ 138960 w 1382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9440"/>
                  <a:gd name="textAreaBottom" fmla="*/ 379800 h 379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5000"/>
                  <a:gd name="textAreaBottom" fmla="*/ 315360 h 3150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298800"/>
                  <a:gd name="textAreaBottom" fmla="*/ 299160 h 298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>
                  <a:gd name="textAreaLeft" fmla="*/ 0 w 430560"/>
                  <a:gd name="textAreaRight" fmla="*/ 430920 w 430560"/>
                  <a:gd name="textAreaTop" fmla="*/ 0 h 248400"/>
                  <a:gd name="textAreaBottom" fmla="*/ 248760 h 248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1000"/>
                  <a:gd name="textAreaBottom" fmla="*/ 531360 h 5310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720"/>
                  <a:gd name="textAreaBottom" fmla="*/ 442080 h 4417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360 h 370080"/>
                <a:gd name="textAreaBottom" fmla="*/ 370800 h 370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3341-70DB-4736-B9C1-CA510F54FFB3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483920"/>
            <a:ext cx="92520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Verdana"/>
              </a:rPr>
              <a:t>Работа с гофрированной бумагой.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Verdana"/>
              </a:rPr>
              <a:t>Торцевание.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8" name="Picture 4" descr="Утята"/>
          <p:cNvPicPr/>
          <p:nvPr/>
        </p:nvPicPr>
        <p:blipFill>
          <a:blip r:embed="rId1"/>
          <a:stretch/>
        </p:blipFill>
        <p:spPr>
          <a:xfrm>
            <a:off x="2195640" y="3141720"/>
            <a:ext cx="47527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Шаг 9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539640" y="1629000"/>
            <a:ext cx="6510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аждую следующую торцовочку приклеивайте рядом с предыдущей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Старайтесь ставить торцовочки плотно друг к другу, чтобы не оставалось промежутков.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6" descr="torcev10.jpg"/>
          <p:cNvPicPr/>
          <p:nvPr/>
        </p:nvPicPr>
        <p:blipFill>
          <a:blip r:embed="rId1"/>
          <a:stretch/>
        </p:blipFill>
        <p:spPr>
          <a:xfrm>
            <a:off x="3924360" y="1773360"/>
            <a:ext cx="2362320" cy="380988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Шаг 10.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1403280" y="1125360"/>
            <a:ext cx="73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Мозаику в технике торцевания можно выполнять по контуру или делать сплошной.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4" name="Picture 5" descr="torcev9.jpg"/>
          <p:cNvPicPr/>
          <p:nvPr/>
        </p:nvPicPr>
        <p:blipFill>
          <a:blip r:embed="rId2"/>
          <a:stretch/>
        </p:blipFill>
        <p:spPr>
          <a:xfrm>
            <a:off x="755640" y="2421000"/>
            <a:ext cx="2362320" cy="38098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7"/>
          <p:cNvSpPr/>
          <p:nvPr/>
        </p:nvSpPr>
        <p:spPr>
          <a:xfrm>
            <a:off x="2987640" y="5486040"/>
            <a:ext cx="56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Можно в той же технике заполнить фон вокруг узора. Получится маленький пушистый коврик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000"/>
                            </p:stCondLst>
                            <p:childTnLst>
                              <p:par>
                                <p:cTn id="2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C:\Users\Lenovo\Desktop\торцевание\0b508e6eaa812333fcd90aec753b2175_h.jpg"/>
          <p:cNvPicPr/>
          <p:nvPr/>
        </p:nvPicPr>
        <p:blipFill>
          <a:blip r:embed="rId1"/>
          <a:stretch/>
        </p:blipFill>
        <p:spPr>
          <a:xfrm>
            <a:off x="-84240" y="404640"/>
            <a:ext cx="920124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C:\Users\Lenovo\Desktop\торцевание\0_812a0_5ec4a2bc_XL.jpg"/>
          <p:cNvPicPr/>
          <p:nvPr/>
        </p:nvPicPr>
        <p:blipFill>
          <a:blip r:embed="rId1"/>
          <a:stretch/>
        </p:blipFill>
        <p:spPr>
          <a:xfrm>
            <a:off x="0" y="0"/>
            <a:ext cx="9158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C:\Users\Lenovo\Desktop\торцевание\87238486_6.jp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C:\Users\VALENTINA\Desktop\нов год поделки\торцевание1\a98d780531e4.jpg"/>
          <p:cNvPicPr/>
          <p:nvPr/>
        </p:nvPicPr>
        <p:blipFill>
          <a:blip r:embed="rId1"/>
          <a:stretch/>
        </p:blipFill>
        <p:spPr>
          <a:xfrm>
            <a:off x="4140360" y="26028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C:\Users\VALENTINA\Desktop\нов год поделки\торцевание1\7d494467d112.jpg"/>
          <p:cNvPicPr/>
          <p:nvPr/>
        </p:nvPicPr>
        <p:blipFill>
          <a:blip r:embed="rId2"/>
          <a:stretch/>
        </p:blipFill>
        <p:spPr>
          <a:xfrm>
            <a:off x="0" y="328608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C:\Users\VALENTINA\Desktop\нов год поделки\торцевание1\i 6.jpg"/>
          <p:cNvPicPr/>
          <p:nvPr/>
        </p:nvPicPr>
        <p:blipFill>
          <a:blip r:embed="rId3"/>
          <a:stretch/>
        </p:blipFill>
        <p:spPr>
          <a:xfrm>
            <a:off x="900000" y="260280"/>
            <a:ext cx="2880000" cy="28814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C:\Users\VALENTINA\Desktop\нов год поделки\торцевание1\i 6.jpg"/>
          <p:cNvPicPr/>
          <p:nvPr/>
        </p:nvPicPr>
        <p:blipFill>
          <a:blip r:embed="rId4"/>
          <a:stretch/>
        </p:blipFill>
        <p:spPr>
          <a:xfrm>
            <a:off x="5867280" y="4149720"/>
            <a:ext cx="288144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Рисунок 13" descr="Игрушка, Мастер-класс,  Торцевание на пластилине, : Пушистый снеговичок Бумага гофрированная, Пластилин Новый год, "/>
          <p:cNvPicPr/>
          <p:nvPr/>
        </p:nvPicPr>
        <p:blipFill>
          <a:blip r:embed="rId1"/>
          <a:stretch/>
        </p:blipFill>
        <p:spPr>
          <a:xfrm>
            <a:off x="1406520" y="0"/>
            <a:ext cx="61945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C:\Users\Lenovo\Desktop\торцевание\d84801dd15.jpg"/>
          <p:cNvPicPr/>
          <p:nvPr/>
        </p:nvPicPr>
        <p:blipFill>
          <a:blip r:embed="rId1"/>
          <a:stretch/>
        </p:blipFill>
        <p:spPr>
          <a:xfrm>
            <a:off x="46080" y="404640"/>
            <a:ext cx="88470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520" cy="639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Торцевание из бумаги</a:t>
            </a: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 — это достаточно новая техника поделок из бумаги.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Это новый вид </a:t>
            </a:r>
            <a:r>
              <a:rPr b="0" i="1" lang="ru-RU" sz="4000" spc="-1" strike="noStrike">
                <a:solidFill>
                  <a:srgbClr val="006666"/>
                </a:solidFill>
                <a:latin typeface="Verdana"/>
              </a:rPr>
              <a:t>квилинга</a:t>
            </a: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 Но даже несмотря на ее молодой возраст, у этой техники есть уже очень много поклонников. А ведь поделки из бумаги, сделанные в этой технике, получаются очень красивыми и необычными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Необходимые материалы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4358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цветная гофрированная бумага,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стержень от шариковой авторучки,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клей ПВА.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2" name="Picture 5" descr="Кусочек моря&lt;br /&gt;&lt;a href=&quot;/node/1234?tid=128&quot;&gt;подробнее&lt;/a&gt;"/>
          <p:cNvPicPr/>
          <p:nvPr/>
        </p:nvPicPr>
        <p:blipFill>
          <a:blip r:embed="rId1"/>
          <a:stretch/>
        </p:blipFill>
        <p:spPr>
          <a:xfrm>
            <a:off x="3995640" y="2997360"/>
            <a:ext cx="4953240" cy="36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Шаг 1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Из полосок гофрированной бумаги    нарежьте на глаз квадраты со стороной примерно 1 см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2411280" y="3213000"/>
            <a:ext cx="444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Шаг 2.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954360" y="4148640"/>
            <a:ext cx="4812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арисуйте на плотной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бумаге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или картоне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любой узор.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7" name="Picture 6" descr="torcev1.jpg"/>
          <p:cNvPicPr/>
          <p:nvPr/>
        </p:nvPicPr>
        <p:blipFill>
          <a:blip r:embed="rId1"/>
          <a:stretch/>
        </p:blipFill>
        <p:spPr>
          <a:xfrm>
            <a:off x="5994360" y="2997360"/>
            <a:ext cx="258768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Шаг 3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анесите клей тонкой полоской по контуру на небольшой участок узора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0" name="Picture 4" descr="torcev2.jpg"/>
          <p:cNvPicPr/>
          <p:nvPr/>
        </p:nvPicPr>
        <p:blipFill>
          <a:blip r:embed="rId1"/>
          <a:stretch/>
        </p:blipFill>
        <p:spPr>
          <a:xfrm>
            <a:off x="2195640" y="3357720"/>
            <a:ext cx="40320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Шаг 4.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Торец стержня (тупой конец) поставьте на квадратик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3" name="Picture 4" descr="torcev3.jpg"/>
          <p:cNvPicPr/>
          <p:nvPr/>
        </p:nvPicPr>
        <p:blipFill>
          <a:blip r:embed="rId1"/>
          <a:stretch/>
        </p:blipFill>
        <p:spPr>
          <a:xfrm>
            <a:off x="1908000" y="2852640"/>
            <a:ext cx="482472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Шаг 5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омните квадрат и прокатайте стержень между пальцами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6" name="Picture 4" descr="torcev4.jpg"/>
          <p:cNvPicPr/>
          <p:nvPr/>
        </p:nvPicPr>
        <p:blipFill>
          <a:blip r:embed="rId1"/>
          <a:stretch/>
        </p:blipFill>
        <p:spPr>
          <a:xfrm>
            <a:off x="2484360" y="2852640"/>
            <a:ext cx="439272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Шаг 6.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971640" y="16380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У вас получится цветная трубочка-торцовочка.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0" name="Picture 5" descr="torcev5.jpg"/>
          <p:cNvPicPr/>
          <p:nvPr/>
        </p:nvPicPr>
        <p:blipFill>
          <a:blip r:embed="rId1"/>
          <a:stretch/>
        </p:blipFill>
        <p:spPr>
          <a:xfrm>
            <a:off x="2195640" y="2997360"/>
            <a:ext cx="47527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Шаг 7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оставьте ее на клей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3" name="Picture 4" descr="torcev6.jpg"/>
          <p:cNvPicPr/>
          <p:nvPr/>
        </p:nvPicPr>
        <p:blipFill>
          <a:blip r:embed="rId1"/>
          <a:stretch/>
        </p:blipFill>
        <p:spPr>
          <a:xfrm>
            <a:off x="5867280" y="1484280"/>
            <a:ext cx="2857680" cy="214308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5"/>
          <p:cNvSpPr/>
          <p:nvPr/>
        </p:nvSpPr>
        <p:spPr>
          <a:xfrm>
            <a:off x="854640" y="34282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ыньте стержень.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3583800" y="2565360"/>
            <a:ext cx="193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Шаг 8.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6" name="Picture 7" descr="torcev7.jpg"/>
          <p:cNvPicPr/>
          <p:nvPr/>
        </p:nvPicPr>
        <p:blipFill>
          <a:blip r:embed="rId2"/>
          <a:stretch/>
        </p:blipFill>
        <p:spPr>
          <a:xfrm>
            <a:off x="1692360" y="4221000"/>
            <a:ext cx="324000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20:48:43Z</dcterms:created>
  <dc:creator>Юлия Юрьевна</dc:creator>
  <dc:description/>
  <dc:language>en-US</dc:language>
  <cp:lastModifiedBy>Lenovo</cp:lastModifiedBy>
  <dcterms:modified xsi:type="dcterms:W3CDTF">2014-08-26T18:49:11Z</dcterms:modified>
  <cp:revision>3</cp:revision>
  <dc:subject/>
  <dc:title> Работа с гофрированной бумагой.  Торцевание.</dc:title>
</cp:coreProperties>
</file>