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6E3-36E8-4E97-ADAC-61B24A0F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EF4-44E7-442F-9C73-1963713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8A5-3823-4449-A5BC-2EAB8822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29B-4FCC-4665-9A62-D2A111D5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8CC8-917F-4E8F-BC79-D9268A30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B568-8F3D-49B4-AE25-C0FDB71D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86B0-8FC1-4E21-8F59-86FFD2B9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C32C-C6FC-4AF6-80BE-71E78AB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D224-E0AA-43E5-90AB-390C1FC3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1A1E-9531-469A-8D21-688C7F3B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0F4D-EF0D-4D67-A250-32F4E54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1EE-DA9C-4FFA-91F1-9B8C958B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DE54-2F8A-460C-A14E-FCB478A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8FCE-6575-4E9E-B576-021F89D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1CF-2238-421A-B438-97A4C16D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7C06-5F15-4E56-B576-699A3E01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2094-6296-4356-9DB4-37004579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1D1E-6E9A-474D-8A31-644CC49E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E7CB-00F5-4915-A7E0-CF63CDCF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1240-761D-469F-ACDF-F1EFB515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356A3-BEA0-4C3E-847F-5635650F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297D-ACCE-48C5-9931-B4BD6073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7BB-5118-46BA-A7D9-53DD9A48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820B-E2E8-4A20-8324-C052B39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A2C8-1F9D-4729-8A07-F35FFB2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C8DF-1F32-4AAE-B64E-737EA5E6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9470-7788-4777-83AA-15CB94D4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0781-03BB-4CD1-8A2F-6CEE4B1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0DB8-8B61-44E9-9EE7-C01FAD70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7913-2F7B-49EE-B21B-0EFF22A5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5B158-6341-4832-A147-3D9ED970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1E644-49FB-48DE-89C8-117F05CB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4F3E-515A-4DA2-A1C8-69A34CC7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676-6765-4E42-9A65-A8FAB18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6436-7B6C-40F0-B06E-F76E2630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1BBAF-CE8A-4174-AF6F-3450D02D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85A0-B8C1-4BC4-907C-587A7F8D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A03A-8DD2-412B-8793-04A6045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172C5-29D1-46D4-ADF4-DEE23F2D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EF24-FAEA-46AE-9E12-C62BBCF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EC43-9D20-4135-9836-9C9BB874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3DC4-A60E-44DE-A581-B04467BB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50851-1EA3-4A7F-A793-5FE75806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2E3-1C6F-40E4-9F1F-F4D0C626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9B2-B6FE-412A-819E-EA4E65DB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D0E-FA59-43CD-8572-0122E86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415-7891-4374-9CD4-61B85A2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E04-1CAA-4319-BAFC-2251FCA5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1673-3798-4E8B-8A94-B0B48658DC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9481-C67D-4DB0-8043-99BE5C0C499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EABB-E53D-491E-8AE8-B9D84C68E5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1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C003-D626-4C58-BE92-602716DE55B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771280" y="3428640"/>
            <a:ext cx="360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WordArt 8"/>
          <p:cNvSpPr txBox="1"/>
          <p:nvPr/>
        </p:nvSpPr>
        <p:spPr>
          <a:xfrm>
            <a:off x="611280" y="333360"/>
            <a:ext cx="720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ебно - исследовательская деятельность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ладшего школьн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9" descr="15726B8C"/>
          <p:cNvPicPr/>
          <p:nvPr/>
        </p:nvPicPr>
        <p:blipFill>
          <a:blip r:embed="rId1"/>
          <a:stretch/>
        </p:blipFill>
        <p:spPr>
          <a:xfrm>
            <a:off x="468360" y="1728720"/>
            <a:ext cx="777564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7"/>
          <p:cNvSpPr txBox="1"/>
          <p:nvPr/>
        </p:nvSpPr>
        <p:spPr>
          <a:xfrm>
            <a:off x="468360" y="549360"/>
            <a:ext cx="822960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выки и умения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Text Box 21"/>
          <p:cNvSpPr/>
          <p:nvPr/>
        </p:nvSpPr>
        <p:spPr>
          <a:xfrm flipV="1">
            <a:off x="2843280" y="507456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468360" y="1268280"/>
            <a:ext cx="4174920" cy="1656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деть пробле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авать вопро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двигать гипоте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2916360" y="2852640"/>
            <a:ext cx="4465440" cy="1727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блюд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ифициров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вать определение поняти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2411280" y="299736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2340000" y="278136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3851280" y="278136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2268360" y="2781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Oval 28"/>
          <p:cNvSpPr/>
          <p:nvPr/>
        </p:nvSpPr>
        <p:spPr>
          <a:xfrm>
            <a:off x="4680000" y="4797360"/>
            <a:ext cx="4464000" cy="194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водить экспери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ать выводы и умозаклю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уктурировать материа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казывать и защища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ои иде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2" dur="123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3" dur="123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5" dur="123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3" dur="123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4" dur="123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6" dur="123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4" dur="123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5" dur="123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7" dur="123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5" dur="123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6" dur="123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8" dur="123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>
            <a:off x="395280" y="549360"/>
            <a:ext cx="8028000" cy="73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мся видеть проблем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4" name="Picture 10" descr="j0301252"/>
          <p:cNvPicPr/>
          <p:nvPr/>
        </p:nvPicPr>
        <p:blipFill>
          <a:blip r:embed="rId4"/>
          <a:stretch/>
        </p:blipFill>
        <p:spPr>
          <a:xfrm>
            <a:off x="6516720" y="1484280"/>
            <a:ext cx="2519280" cy="2521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1"/>
          <p:cNvSpPr/>
          <p:nvPr/>
        </p:nvSpPr>
        <p:spPr>
          <a:xfrm>
            <a:off x="324000" y="1125360"/>
            <a:ext cx="597672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Задания и упражнен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Посмотри на мир чужими глазами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Составьте рассказ, используя данную концовку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Сколько значений у предмет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Назовите как можно больше признаков предмет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Составьте рассказ от имени другого челове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Метод шести думательных шляп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пособ выявления проблемы- 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наблюд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Задания и упражнен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Наблюдение очевидного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Наблюдаем настроени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Волшебные превращени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6"/>
          <p:cNvSpPr txBox="1"/>
          <p:nvPr/>
        </p:nvSpPr>
        <p:spPr>
          <a:xfrm>
            <a:off x="324000" y="476280"/>
            <a:ext cx="7343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+mj-lt"/>
              </a:rPr>
              <a:t>  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+mj-lt"/>
              </a:rPr>
              <a:t>Учимся выдвигат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+mj-lt"/>
              </a:rPr>
              <a:t>гипотезы и провокационные идеи 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24000" y="4653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95280" y="3068640"/>
            <a:ext cx="410544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Упражнения на обстоятельств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етка дере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елефо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укл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фрукт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гоночный автомоби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ниг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амова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бараба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8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12" descr="61E8B57A"/>
          <p:cNvPicPr/>
          <p:nvPr/>
        </p:nvPicPr>
        <p:blipFill>
          <a:blip r:embed="rId9"/>
          <a:stretch/>
        </p:blipFill>
        <p:spPr>
          <a:xfrm>
            <a:off x="4572000" y="2825640"/>
            <a:ext cx="4390920" cy="4032360"/>
          </a:xfrm>
          <a:prstGeom prst="rect">
            <a:avLst/>
          </a:prstGeom>
          <a:ln w="0">
            <a:noFill/>
          </a:ln>
        </p:spPr>
      </p:pic>
      <p:sp>
        <p:nvSpPr>
          <p:cNvPr id="290" name="Oval 14"/>
          <p:cNvSpPr/>
          <p:nvPr/>
        </p:nvSpPr>
        <p:spPr>
          <a:xfrm>
            <a:off x="611280" y="1700280"/>
            <a:ext cx="1800000" cy="11304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орет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5"/>
          <p:cNvSpPr/>
          <p:nvPr/>
        </p:nvSpPr>
        <p:spPr>
          <a:xfrm>
            <a:off x="3564000" y="1700280"/>
            <a:ext cx="1728720" cy="11304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мпир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6"/>
          <p:cNvSpPr/>
          <p:nvPr/>
        </p:nvSpPr>
        <p:spPr>
          <a:xfrm>
            <a:off x="6443640" y="1700280"/>
            <a:ext cx="1728720" cy="11304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традицио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6"/>
          <p:cNvSpPr txBox="1"/>
          <p:nvPr/>
        </p:nvSpPr>
        <p:spPr>
          <a:xfrm>
            <a:off x="468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имся задавать вопрос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1835280" y="1341360"/>
            <a:ext cx="5689440" cy="2519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точняющие (прямые или « ли»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остые ( условные, безусловные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лож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Восполняющие ( неопределённые, непрямые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ост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лож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1908000" y="3860640"/>
            <a:ext cx="5543640" cy="288144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Задания и упражнен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«Найди загаданное слово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Игра «Угадай, о чём спросил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Найдите причину события с помощью вопро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ownRibbonSharp"/>
          <p:cNvSpPr/>
          <p:nvPr/>
        </p:nvSpPr>
        <p:spPr>
          <a:xfrm>
            <a:off x="0" y="1268280"/>
            <a:ext cx="9144000" cy="4897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аскрывает сущность предм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тличает и отграничивает предмет от всех осталь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иды определений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Яв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енсив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ербаль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Приёмы сходные с определением понятий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писание              Характерист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азъяснение посредством прим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равнение                  Различ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граничение и обобщ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Загадка- опреде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 flipV="1">
            <a:off x="468360" y="-4993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0" y="126828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WordArt 17"/>
          <p:cNvSpPr txBox="1"/>
          <p:nvPr/>
        </p:nvSpPr>
        <p:spPr>
          <a:xfrm>
            <a:off x="468360" y="189000"/>
            <a:ext cx="8229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Учимся давать определения понятия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2482920" y="148428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пределение решает следующие задач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925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1925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1925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1925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925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1925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1925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1925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925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925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1925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1925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8"/>
          <p:cNvSpPr/>
          <p:nvPr/>
        </p:nvSpPr>
        <p:spPr>
          <a:xfrm>
            <a:off x="2609280" y="1577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WordArt 17"/>
          <p:cNvSpPr txBox="1"/>
          <p:nvPr/>
        </p:nvSpPr>
        <p:spPr>
          <a:xfrm>
            <a:off x="468360" y="189000"/>
            <a:ext cx="82296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оценивать идеи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0" y="2349360"/>
            <a:ext cx="9144000" cy="410400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2349360"/>
          <a:ext cx="9109080" cy="7369200"/>
        </p:xfrm>
        <a:graphic>
          <a:graphicData uri="http://schemas.openxmlformats.org/drawingml/2006/table">
            <a:tbl>
              <a:tblPr/>
              <a:tblGrid>
                <a:gridCol w="324000"/>
                <a:gridCol w="3686040"/>
                <a:gridCol w="922320"/>
                <a:gridCol w="863640"/>
                <a:gridCol w="1008000"/>
                <a:gridCol w="936720"/>
                <a:gridCol w="136836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де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асн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т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елить щенка дома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делать ему коттедж во дво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елить его в подвале до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елить его в коробке в подъезд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делать ему пещеру в ближайшем парк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елить его в детском саду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ему хорошего хозя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1520"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5" name="Text Box 142"/>
          <p:cNvSpPr/>
          <p:nvPr/>
        </p:nvSpPr>
        <p:spPr>
          <a:xfrm>
            <a:off x="684360" y="1125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туация :               «Требуется жилище для щенка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43"/>
          <p:cNvSpPr/>
          <p:nvPr/>
        </p:nvSpPr>
        <p:spPr>
          <a:xfrm>
            <a:off x="179280" y="1844640"/>
            <a:ext cx="849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44"/>
          <p:cNvSpPr/>
          <p:nvPr/>
        </p:nvSpPr>
        <p:spPr>
          <a:xfrm>
            <a:off x="250920" y="1557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атрица для оценки ид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15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16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Направление - «Живая природ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Область знаний - «Зоология»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Где живёт?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ем питается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сновные особенност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п животного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ряд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ств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д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Пове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Кто главные вра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WordArt 5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систематизировать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зультат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0" name="Picture 7" descr="0048"/>
          <p:cNvPicPr/>
          <p:nvPr/>
        </p:nvPicPr>
        <p:blipFill>
          <a:blip r:embed="rId1"/>
          <a:stretch/>
        </p:blipFill>
        <p:spPr>
          <a:xfrm>
            <a:off x="3851280" y="2565360"/>
            <a:ext cx="4897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925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1925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1925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1925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261432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Times New Roman"/>
              </a:rPr>
              <a:t>1.    Выбор темы, определение целей и           задач, формулировка гипотезы,     составление плана работ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Times New Roman"/>
              </a:rPr>
              <a:t>2.    Сбор матери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Times New Roman"/>
              </a:rPr>
              <a:t>3.    Выбор проект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Times New Roman"/>
              </a:rPr>
              <a:t>4.    Реализация проект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Times New Roman"/>
              </a:rPr>
              <a:t>5.    Презентац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WordArt 8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ная деятельност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08:20Z</dcterms:created>
  <dc:creator>Кирилл</dc:creator>
  <dc:description/>
  <dc:language>en-US</dc:language>
  <cp:lastModifiedBy>Ирина Эдуардовна</cp:lastModifiedBy>
  <dcterms:modified xsi:type="dcterms:W3CDTF">2015-01-20T16:39:46Z</dcterms:modified>
  <cp:revision>8</cp:revision>
  <dc:subject/>
  <dc:title>Слайд 1</dc:title>
</cp:coreProperties>
</file>