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2F7-7966-4579-8377-2386A42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D96-C194-4822-8D13-41F07E6D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5ABB4-DA72-43D5-81DC-E457D238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82519-17EC-497D-B097-5C7F2DB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3B118-ED6B-4311-8E67-B3AC3EF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37D40-F282-460D-9D99-62AD6CC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FA9DA-1D3A-4795-9735-3A87304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6E889-D54F-45A8-AD5C-276B673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DFF94-434B-4D32-A467-C031EAF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988F4-9A3D-413D-AEAE-69DDC54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54F2F-4CBD-441D-87E5-F34919ED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4E4BD-4DA3-4CA7-9918-CE3156D1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921-4F03-42A4-9D2F-7120066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F1FFE-3709-4ECE-9F48-C7CD3758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E9B72-30C2-45F8-A4C6-58E45D2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9F1EA-6BDB-420A-B360-D7D97A0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539CB-9EA2-4C57-A42F-5254D42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56384-CB27-481D-A875-A91B2546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9009D-04A2-4E40-8BBE-BEB889F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730F7-3A4D-4241-BC9E-012DA74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F972C-B9EE-478A-A188-FBD6685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E49DF-2E70-4A3A-B9A7-6BF3CC41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BA988-2992-413A-9A11-D7B7A341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4EE-8693-48BB-8A45-8A17B787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49539-F306-49FE-9E8C-ABFF123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FABE4-0C09-4B1D-A7DA-3AF14844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C5717-A73F-4C20-8547-AD08C10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F35C-C89C-43B1-8F24-03B05221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D583-E2B8-4BC4-A1D3-273496F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A8569-4145-4C34-9540-B5995B1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A0EC4-7C20-4DA1-88CB-62630C8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A2063-8455-4883-9CE4-847ABC7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0472B-662E-468E-B7EA-298ADFDD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246A9-2AFD-4055-8B9F-D3A0AB3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9B5-ADC5-4285-8761-0A0FC0AF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3E94A-6B11-4790-805D-EF39C85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E7F5-252D-4BD8-8B10-20FE1D10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22981-65A5-43FE-A6AB-9C7109DF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E911C-82C1-4BCA-AC2E-26FB6DA2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7A4D4-2291-4ED6-9E06-F05D881F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7C9A7-4325-4091-B56D-F18CC72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ABE18-ACCF-4337-847B-80588B8D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7F4BA-9CA5-424C-9EFC-22B04617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1BE44-D89D-420C-A5D6-C4099AC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C80AC-08CF-433E-9307-479BF3C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A40-F67F-44BE-B94F-B75714F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09764-6D68-4058-865B-F8BEC90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3E100-E621-45F5-9950-96F1FBD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250D7-F45F-4EA5-8FF1-072A7B9B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00DA3-35E5-4591-B70E-7DC752D7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8954B-0F21-4B39-855D-96CC2E05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EAD-29BD-44E0-8B62-F606E5CD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6C76-AB6A-405D-87C7-1BC3BA0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89FC-7370-4C42-8B52-239C9FD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E5A-4677-40D7-9D82-D434BDD1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0B5-ADAF-4A36-B978-EF2C654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EB7-FBD9-44F5-839B-F379EBC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A7A6-D39A-406A-AAF8-2AF4F60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C701-4923-4AFF-9186-D813B14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9921-3F83-4AE6-A499-CE4CD11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DBC-C891-46B4-88CB-C14571D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153B-5AB9-446D-B80A-E025BF12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5973-CA5C-4536-9A7D-69D60745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E5B5-4AF1-4B70-83A2-E62DBC5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BD35-FD49-4A52-ABBE-3772294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73B8-591B-4B04-A17A-9B4B086F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ECEF-B943-4B91-9ED2-5D36785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8A6-E20E-4F6E-9EBB-678F5E98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9900-0A95-4D80-B3F3-C4A62C2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B491-CD58-4A27-8153-B2B2692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98BC-C65D-4CAC-A8F5-5180B98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E6F3-A25B-496F-B2F3-0804621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F0F0-D558-4050-9AB2-150497D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4CD9-EF5E-4325-A805-381AC083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0848-E792-44EE-ADB8-3C258C81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CFE6-E55F-488B-9EA7-1DF973C9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CEA4-C516-47E6-8E04-F6764B1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C827-33EF-480A-BB9B-43CD6750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05F-48AF-4144-A770-12A2387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D7F8-94E3-46ED-A518-F0D203F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9388-0A8E-4F15-8ABC-AE2B162B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82B3-4AC9-4EA2-85A9-D366B35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C808-B552-4185-B46D-7C8B74C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D639-632D-422E-8E53-8DB7650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6744-D5BB-4184-9D32-D88F36A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00C8-FC21-4F1A-A7FD-BD6D07B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2510-7A91-44F7-8407-D3B281A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784C-EDB7-49D4-B16C-1CD63E9C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368A-D045-4945-82CD-67336FCA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995-25AC-49BE-B487-8BDF46C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9450-8043-4CC3-8126-28A5F2E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F1D7-7AE5-488D-A9D3-B960F2F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B99B-9915-41C7-8594-C722E96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0CB4-FA59-499B-97BB-52E48574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68C1-A6D1-4D0B-8D88-3265A5B7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78D5-84C3-4741-BFD6-6FDCECD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12DF-B06E-4370-98D5-9EB978F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0458-1630-4D9E-B8EE-3913665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7B6C-0F22-4DCB-A695-DABED63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0A77-7A73-4C5A-9FFF-3DE598D9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B93-0A80-4658-B6B3-908AE2F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8BD5-772C-4253-9D8D-343D6102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F422-0640-45BF-868D-ECF94376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D8073-2662-4A3D-A365-D1335B7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D6B2-D52C-4338-A8F0-26CD5C8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69D6-1389-4C4B-AE11-C9D9AEDC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5490-2DBB-42A0-BF2B-D3A54AC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54FD-CDE2-421F-B7E3-9831D7D1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3ED8-21C3-43B7-86E8-4CABB8C7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31681-72B0-484D-BC80-255DD97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A548-7000-4ADC-A059-A7C5901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5F1-129F-4F00-98E9-4E80C28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B3F1E-BC44-4E88-B1B6-9051351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7F430-71DA-4E8F-B1B6-2D7F5CF1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0929-7D69-4B5F-934F-C56491D1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B38A-6E1B-4CF0-AFAE-7238F893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0D64-A194-497F-A82B-E4A81E18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B3DFC-2589-4BFF-9EAA-6979F72A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E262-FC16-4B32-91D1-04F8314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002B-D570-4D52-A622-F602B9B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9A2ED-D9EB-4085-B6BF-4D785F49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D617D-DE28-44D9-AB79-97AA908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860-2AE6-46A4-A5F1-67054C51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AB2F-15C4-4942-B205-84B2DC5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C9ED-9F31-49D7-8D8B-2F7E485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6C16-5452-4556-95C1-BB12B2D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9823-4822-4298-9438-C24FCAD9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A097-4319-44BB-B343-EB0789BD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0788-396A-41E8-848C-65570DDC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03D50-489D-4B5B-9A8F-26AA5A95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0E35-292D-427E-BD6A-476D528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793B-C33D-4524-85E1-B70556F1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553E-C47B-4A9B-8276-AB02588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519-235D-4630-A904-0335DFE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6A84-4BC5-4566-AE52-6C3D50C4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705A-79EB-47CB-BF00-DBC5CF1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B1E0-A1FC-4EE7-A3D6-2D75044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B7D5-8DB7-46EF-85E8-2EF837A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606D-64C4-4A2C-8BC6-036C532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9986-2DB6-4CC7-A62C-D6446761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A2A2-D174-4E64-A974-1F6478EA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4B9BD-035D-4116-9AFE-4F67B57C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876B9-FBAA-4EDB-9D57-4C0FAA9E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F1C06-7E46-4208-B243-1316CB3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996-5061-4BCB-B717-13A6B3E89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A2E-99E9-44C9-BA98-BA23612C59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A97-50F7-4AC2-BBB1-4E5A71E93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4B1C-4B68-4DF2-AB6C-DA48E0790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5C5D-74BA-4DFC-92D5-779748AA5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3E3-3250-459F-94B7-49E41FBE3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C28-33BF-467C-917F-3B198EBC4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429B-5097-428B-A3CA-0FB7BD985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F8B-7C37-4703-90E0-F4CE01816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336-E193-4231-9F68-9C89B391A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3E8-DF10-4CEC-8A88-650905080D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344-8265-4F65-99B3-03F52FBE5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07" name="Прямоугольник 3" descr=""/>
          <p:cNvPicPr/>
          <p:nvPr/>
        </p:nvPicPr>
        <p:blipFill>
          <a:blip r:embed="rId1"/>
          <a:stretch/>
        </p:blipFill>
        <p:spPr>
          <a:xfrm>
            <a:off x="611280" y="755640"/>
            <a:ext cx="81374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Коррекционно-компенсаторные зада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коррекция имеющихся нару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3" descr="568575.jpg"/>
          <p:cNvPicPr/>
          <p:nvPr/>
        </p:nvPicPr>
        <p:blipFill>
          <a:blip r:embed="rId1"/>
          <a:stretch/>
        </p:blipFill>
        <p:spPr>
          <a:xfrm>
            <a:off x="2143080" y="2786040"/>
            <a:ext cx="5032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Физическое упражне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основное средство физического воспит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006.jpg"/>
          <p:cNvPicPr/>
          <p:nvPr/>
        </p:nvPicPr>
        <p:blipFill>
          <a:blip r:embed="rId1"/>
          <a:stretch/>
        </p:blipFill>
        <p:spPr>
          <a:xfrm>
            <a:off x="2143080" y="3071880"/>
            <a:ext cx="4500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Дозирование физической нагрузки на уроке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2060"/>
                </a:solidFill>
                <a:latin typeface="Georgia"/>
              </a:rPr>
              <a:t>Дифференцированное дозир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2060"/>
                </a:solidFill>
                <a:latin typeface="Georgia"/>
              </a:rPr>
              <a:t>                      </a:t>
            </a:r>
            <a:r>
              <a:rPr b="0" i="1" lang="en-US" sz="2700" spc="-1" strike="noStrike">
                <a:solidFill>
                  <a:srgbClr val="002060"/>
                </a:solidFill>
                <a:latin typeface="Georgia"/>
              </a:rPr>
              <a:t>Регулирование нагрузк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изменение числа повтор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изменение темпа движ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изменение продолжительности выполнения зада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Рисунок 3" descr="ф 7.jpg"/>
          <p:cNvPicPr/>
          <p:nvPr/>
        </p:nvPicPr>
        <p:blipFill>
          <a:blip r:embed="rId1"/>
          <a:stretch/>
        </p:blipFill>
        <p:spPr>
          <a:xfrm>
            <a:off x="2857680" y="4000680"/>
            <a:ext cx="3643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 контроля величины нагрузк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Наблюдение за частотой сердечных сокращений (ЧСС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Верхняя граница ЧСС после интенсивной нагрузки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для учащихся основной медицинской группы –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170-180 ударов в минут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Рисунок 3" descr="ф 8.jpg"/>
          <p:cNvPicPr/>
          <p:nvPr/>
        </p:nvPicPr>
        <p:blipFill>
          <a:blip r:embed="rId1"/>
          <a:stretch/>
        </p:blipFill>
        <p:spPr>
          <a:xfrm>
            <a:off x="2357280" y="3929040"/>
            <a:ext cx="43102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Физическая подготовленность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результат физической подготовки, достигнутый при выполнении двигательных действ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Рисунок 3" descr="ф 9.jpg"/>
          <p:cNvPicPr/>
          <p:nvPr/>
        </p:nvPicPr>
        <p:blipFill>
          <a:blip r:embed="rId1"/>
          <a:stretch/>
        </p:blipFill>
        <p:spPr>
          <a:xfrm>
            <a:off x="2071800" y="3000240"/>
            <a:ext cx="57387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Работоспособность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способность выполнять определенное количество работы заданного качества за требуемый интервал време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3" descr="ф 8.bmp"/>
          <p:cNvPicPr/>
          <p:nvPr/>
        </p:nvPicPr>
        <p:blipFill>
          <a:blip r:embed="rId1"/>
          <a:stretch/>
        </p:blipFill>
        <p:spPr>
          <a:xfrm>
            <a:off x="1857240" y="3071880"/>
            <a:ext cx="5486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Работоспособность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Высокая физическая работоспособность связана с постоянной не уменьшающейся в объеме тренировк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Рисунок 3" descr="ф10.jpg"/>
          <p:cNvPicPr/>
          <p:nvPr/>
        </p:nvPicPr>
        <p:blipFill>
          <a:blip r:embed="rId1"/>
          <a:stretch/>
        </p:blipFill>
        <p:spPr>
          <a:xfrm>
            <a:off x="2500200" y="314316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ы трениров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пражнения циклического характера (ходьба, бег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Рисунок 3" descr="ф 11.jpg"/>
          <p:cNvPicPr/>
          <p:nvPr/>
        </p:nvPicPr>
        <p:blipFill>
          <a:blip r:embed="rId1"/>
          <a:stretch/>
        </p:blipFill>
        <p:spPr>
          <a:xfrm>
            <a:off x="3214800" y="2357280"/>
            <a:ext cx="28573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ы трениров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коростно-силового характера( бег в гору, тренажеры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Рисунок 3" descr="ф12.jpg"/>
          <p:cNvPicPr/>
          <p:nvPr/>
        </p:nvPicPr>
        <p:blipFill>
          <a:blip r:embed="rId1"/>
          <a:stretch/>
        </p:blipFill>
        <p:spPr>
          <a:xfrm>
            <a:off x="1857240" y="2571840"/>
            <a:ext cx="5119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ы трениров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тимулирующие анаэробную и аэробную производительность (совершенствование двигательных  качеств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Рисунок 3" descr="ф 13.jpg"/>
          <p:cNvPicPr/>
          <p:nvPr/>
        </p:nvPicPr>
        <p:blipFill>
          <a:blip r:embed="rId1"/>
          <a:stretch/>
        </p:blipFill>
        <p:spPr>
          <a:xfrm>
            <a:off x="1714680" y="2857680"/>
            <a:ext cx="5214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       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Урок физической 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8840"/>
            <a:ext cx="48290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ъем физической нагруз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ъем зна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копленный двигательный опыт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оверка качества выполнения домашнего зад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исправление ошиб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учение новому учебному материа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Рисунок 3" descr="006.jpg"/>
          <p:cNvPicPr/>
          <p:nvPr/>
        </p:nvPicPr>
        <p:blipFill>
          <a:blip r:embed="rId1"/>
          <a:stretch/>
        </p:blipFill>
        <p:spPr>
          <a:xfrm>
            <a:off x="4950000" y="2643120"/>
            <a:ext cx="36226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0434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    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Из каких частей состоит урок   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              физической культу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Вводная часть урок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организационные зада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3" descr="ф 4.jpg"/>
          <p:cNvPicPr/>
          <p:nvPr/>
        </p:nvPicPr>
        <p:blipFill>
          <a:blip r:embed="rId1"/>
          <a:stretch/>
        </p:blipFill>
        <p:spPr>
          <a:xfrm>
            <a:off x="2071800" y="2571840"/>
            <a:ext cx="5238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Из каких частей состоит урок  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              физической 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28400" y="17859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Подготовительная часть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урок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подготовка организма учащихся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к предстоящей двигательной нагруз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Рисунок 3" descr="ф 5.jpg"/>
          <p:cNvPicPr/>
          <p:nvPr/>
        </p:nvPicPr>
        <p:blipFill>
          <a:blip r:embed="rId1"/>
          <a:stretch/>
        </p:blipFill>
        <p:spPr>
          <a:xfrm>
            <a:off x="2000160" y="3214800"/>
            <a:ext cx="4972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Из каких частей состоит урок  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              физической 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В основной части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урок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-  образователь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коррекцио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оздоровительные зада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   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Рисунок 3" descr="ф 6.jpg"/>
          <p:cNvPicPr/>
          <p:nvPr/>
        </p:nvPicPr>
        <p:blipFill>
          <a:blip r:embed="rId1"/>
          <a:stretch/>
        </p:blipFill>
        <p:spPr>
          <a:xfrm>
            <a:off x="4857840" y="335772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Из каких частей состоит урок  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              физической 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Заключительная часть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урок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одготовка учащихся к следующим урокам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или к организованной деятельности во внеурочное врем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подведение итогов уро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3" descr="iCA4VQBF5.jpg"/>
          <p:cNvPicPr/>
          <p:nvPr/>
        </p:nvPicPr>
        <p:blipFill>
          <a:blip r:embed="rId1"/>
          <a:stretch/>
        </p:blipFill>
        <p:spPr>
          <a:xfrm>
            <a:off x="3857760" y="4214880"/>
            <a:ext cx="21952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7000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Задачи уроков физической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культу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Образовательные задач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формирование у детей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двигательных умений и навыков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Рисунок 3" descr="ф.jpg"/>
          <p:cNvPicPr/>
          <p:nvPr/>
        </p:nvPicPr>
        <p:blipFill>
          <a:blip r:embed="rId1"/>
          <a:stretch/>
        </p:blipFill>
        <p:spPr>
          <a:xfrm>
            <a:off x="2571840" y="3000240"/>
            <a:ext cx="38815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Задачи уроков физической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85480" y="1000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Воспитательные задач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 формируется умение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владеть своими эмоция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  воспитывается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дисциплинирован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ф3.jpg"/>
          <p:cNvPicPr/>
          <p:nvPr/>
        </p:nvPicPr>
        <p:blipFill>
          <a:blip r:embed="rId1"/>
          <a:stretch/>
        </p:blipFill>
        <p:spPr>
          <a:xfrm>
            <a:off x="2714760" y="3143160"/>
            <a:ext cx="3638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Задачи уроков физической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культур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Лечебно-оздоровительные задач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укрепление здоровья учен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3" descr="iCAP19PMK.jpg"/>
          <p:cNvPicPr/>
          <p:nvPr/>
        </p:nvPicPr>
        <p:blipFill>
          <a:blip r:embed="rId1"/>
          <a:stretch/>
        </p:blipFill>
        <p:spPr>
          <a:xfrm>
            <a:off x="3000240" y="2714760"/>
            <a:ext cx="30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49:54Z</dcterms:created>
  <dc:creator>user</dc:creator>
  <dc:description/>
  <dc:language>en-US</dc:language>
  <cp:lastModifiedBy>C-Sportzal</cp:lastModifiedBy>
  <dcterms:modified xsi:type="dcterms:W3CDTF">2014-12-12T12:39:24Z</dcterms:modified>
  <cp:revision>17</cp:revision>
  <dc:subject/>
  <dc:title>Слайд 1</dc:title>
</cp:coreProperties>
</file>