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5D94-0E52-4FB9-807A-3629FC5DDE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18C3-69FB-43DE-AECB-84493CCCEE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B672-1EB6-4575-B4FC-83EEEC654F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A08-F0C5-4EC3-A1C3-B088C384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599-1699-488F-AECF-925CB7E2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D09-C485-466E-A076-21A7CD35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322-0158-4247-B85F-6AE8B543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70D9-371C-458F-BB52-A50D535F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DEED-9704-4AB0-A63A-A2E0C291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E653-19B7-4897-888B-181ABF4A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5097-26D1-4681-97D4-BCB29E74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AA98-2A27-4F1C-B5EE-0D96A81E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5D2E-AE68-439E-947A-9447F68F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B5FD-3B3B-43E5-AC41-28CD17B1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1B2-A3A1-4ABE-99CE-A2BA3FE9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5B27-3018-460C-A623-DC5F721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33A-FF6B-4637-88C7-FADA0DA9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EFB0-5723-4CF6-92A3-414068DF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F20F-5044-4610-8640-8B9FF144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0148-D2D5-40ED-A9C1-7929FF86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CF0-12D8-494F-AE14-5B4BA7EE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B62-88F2-4580-BB08-68AE1A5D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2A9-CD86-4222-8E1E-7A021953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6F1-C76E-47A7-9018-487D8AC0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8D7-3AB9-43E5-80EE-23A9557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C2C-ACC9-4F8B-8BC2-8053F34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714-EFE0-44FF-ACFE-5CF764EB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5976-1568-41E6-8B74-B08AC9FAC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954B-E281-48AB-9485-1B1981117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«Основные понятия, используемые в Стандарте»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10bc"/>
                </a:solidFill>
                <a:latin typeface="Arial"/>
              </a:rPr>
              <a:t>«Особенности коррекционной работы и</a:t>
            </a:r>
            <a:br>
              <a:rPr sz="2400"/>
            </a:br>
            <a:r>
              <a:rPr b="0" lang="en-US" sz="2400" spc="-1" strike="noStrike">
                <a:solidFill>
                  <a:srgbClr val="5610bc"/>
                </a:solidFill>
                <a:latin typeface="Arial"/>
              </a:rPr>
              <a:t>инклюзивного образования в ДОО в</a:t>
            </a:r>
            <a:br>
              <a:rPr sz="2400"/>
            </a:br>
            <a:r>
              <a:rPr b="0" lang="en-US" sz="2400" spc="-1" strike="noStrike">
                <a:solidFill>
                  <a:srgbClr val="5610bc"/>
                </a:solidFill>
                <a:latin typeface="Arial"/>
              </a:rPr>
              <a:t>соответствии с требованиям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556272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ериал подгото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уссу Н.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0" y="1298520"/>
            <a:ext cx="8790120" cy="555948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20640" y="1698120"/>
            <a:ext cx="6378480" cy="33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"/>
          <p:cNvSpPr/>
          <p:nvPr/>
        </p:nvSpPr>
        <p:spPr>
          <a:xfrm>
            <a:off x="609480" y="304920"/>
            <a:ext cx="79027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бучающийся с ограничен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озможностями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зическое лицо, имеющее недостатки в физическом и (или) психологическом развитии, подтвержденные психолого-медико-педагогической комиссией и препятствующие получению образования без создания специальных усло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ФЗ «ОБ ОБРАЗОВАНИИ В РОССИЙСКОЙ ФЕДЕРАЦИИ» (Ст.2, п.1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ециальные условия для получения образования детей с ОВЗ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9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з письма  МОиН РФ от 28.02.2014 №08-249 «Комментарии к ФГОС ДО»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 специальными условиями поним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ние специальных образовательных программ и методов обучения и вос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ние специальных учебных пособий и дидактических материалов, специальных технических  средств обучения коллективного и индивидуального поль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индивидуальных и групповых коррекционных зан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ормативно-правовая база, регулирующая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рганизацию инклюзивных процессов ДОУ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З «Об образовании в РФ» (приказ от 29.12.2012 № 273-ФЗ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ГОС ДО (приказ МОиН РФ от 17.10.2013  № 115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 и молодежной политики ХМАО-Югры от 05.02.2014 №112  «О введении в действие федерального государственного  образовательного стандарта дошкольного образования в образовательных  организациях, реализующих образовательные программы дошкольного образования Ханты-Мансийского автономного округа – Югры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ок организации и осуществления образовательной деятельности  по ООП-ОП ДО (приказ МОиН РФ от 30.07.2013 № 101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аз об утверждении Положения о психолого-медико-педагогической комиссии (приказ МОиН РФ от 20.09.2013 № 108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пция долгосрочного социально-экономического развития РФ на период до 2020 года (приказ от 17.11.2008 № 1662-р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ая образовательная инициатива «Наша новая школ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Локальные нормативно-правовые документы, обеспечивающие организацию инклюзивного образования в ДО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в ДО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жение об оплате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ностная инструкция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жение о ПМПК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а развития ДО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ДО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довой план ДО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азы руководителя для обеспечения инклюзивного образо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ржание коррекционной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й раздел должен содержать специальные условия для получения образования детьми с ограниченными возможностями здоровья, в том числе механизмы адаптации Программы для указанных детей, использование специальных образовательных программ и методов, специальных методических пособий и дидактических материалов, проведение групповых и индивидуальных коррекционных занятий и осуществления квалифицированной коррекции нарушений их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. 2.11.2 ФГ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рекционная работа и/или инклюзивное образование должны быть направлены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спечение коррекции нарушений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детьми с ограниченными возможностями здоровья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лжны учитывать особенности развития и специфические образовательные потребности каждой категор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. 3.2.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получения без дискримин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чествен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тьми с ограничен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можностями здоровья должны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ы  необходимые у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Содержимое 2"/>
          <p:cNvGrpSpPr/>
          <p:nvPr/>
        </p:nvGrpSpPr>
        <p:grpSpPr>
          <a:xfrm>
            <a:off x="457200" y="1752480"/>
            <a:ext cx="8096400" cy="3429000"/>
            <a:chOff x="457200" y="1752480"/>
            <a:chExt cx="8096400" cy="3429000"/>
          </a:xfrm>
        </p:grpSpPr>
        <p:pic>
          <p:nvPicPr>
            <p:cNvPr id="14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8096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73040" y="1760400"/>
              <a:ext cx="8064720" cy="341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99ccff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 необходимости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уется психологическая диагностика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я детей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выявление и изучение индивидуально-психологических особенностей детей),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торую проводят квалифицированные специалисты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педагоги-психологи, психологи)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99ccff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ребенка в психологической диагностике допускается только с согласия его родителей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законных представителей)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Скругленный прямоугольник 3"/>
          <p:cNvSpPr/>
          <p:nvPr/>
        </p:nvSpPr>
        <p:spPr>
          <a:xfrm>
            <a:off x="5715000" y="6172200"/>
            <a:ext cx="3059280" cy="504720"/>
          </a:xfrm>
          <a:prstGeom prst="roundRect">
            <a:avLst>
              <a:gd name="adj" fmla="val 16667"/>
            </a:avLst>
          </a:prstGeom>
          <a:solidFill>
            <a:srgbClr val="6666cc"/>
          </a:solidFill>
          <a:ln w="9360">
            <a:solidFill>
              <a:srgbClr val="cad5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3 Требования к условиям реализации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Организация и содержание инклюзивного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образования ДОО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озможностей здоровь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любая ут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хической, физиологической или анатомической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 функции либо отклонение от них, влекущие полное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ичное ограничение способности или возм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ять бытовую, социальную, профессиональную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ую деятельность способом и в объеме, которые счит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ьными для человека при прочих равных возраст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ых и иных факто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Утвержден приказом Министерства образования и науки Российской Федерации от 17 октября 2013 г. № 115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ФЕДЕРАЛЬНЫЙ ГОСУДАРСТВЕННЫЙ ОБРАЗОВАТЕЛЬНЫЙ СТАНДАРТ ДОШКОЛЬНОГО ОБРАЗОВАНИЯ – совокупность обязательных требований к дошкольному образ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ные направления работы педагогическог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ктива с детьми ОВ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гностика индивидуальных особенностей развития каждого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ксная оценка ресурсов и дефицитов ребенка для составления индивидуального образовательного маршрута и индивидуальной образовательной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ирование образовательного процесса с учетом индивидуальных образовательных потребностей дете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совместной жизнедеятельности детей в условиях инклюзивно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иторинг инклюзивного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829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тандарт  направлен на достижение следующих целей: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ение социального статуса дошко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государственных гарантий уровня и качества дошкольного образования на основе единства обязательных требований к условиям реализации образовательных программ дошкольного образования, их структуре и результатам их осво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хранение единства образовательного пространства Российской Федерации относительно уровня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ГОС ДО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8. Стандарт включает в себя требования 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е Программы и ее объ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овиям реализации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ам освоения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7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8098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726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ГОС ДО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разовательные област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Содержимое 1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99520" cy="44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662940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Полилиния 11"/>
          <p:cNvSpPr/>
          <p:nvPr/>
        </p:nvSpPr>
        <p:spPr>
          <a:xfrm>
            <a:off x="457200" y="1676520"/>
            <a:ext cx="8229600" cy="1584360"/>
          </a:xfrm>
          <a:prstGeom prst="pie">
            <a:avLst/>
          </a:prstGeom>
          <a:solidFill>
            <a:srgbClr val="da1f2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0600" rIns="120600" tIns="120600" bIns="120600" anchor="ctr">
            <a:noAutofit/>
          </a:bodyPr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ставляют собой социально – нормативные возрастные характеристик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озможны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достижений ребёнка на этапе завершения уровня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 12"/>
          <p:cNvSpPr/>
          <p:nvPr/>
        </p:nvSpPr>
        <p:spPr>
          <a:xfrm>
            <a:off x="457200" y="3505320"/>
            <a:ext cx="8229600" cy="1152360"/>
          </a:xfrm>
          <a:prstGeom prst="pie">
            <a:avLst/>
          </a:prstGeom>
          <a:solidFill>
            <a:srgbClr val="e1922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0600" rIns="120600" tIns="120600" bIns="12060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ределяются независимо от форм реализации Программы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также от её  характера, особенностей развития  детей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идов Организации, реализующей Про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 13"/>
          <p:cNvSpPr/>
          <p:nvPr/>
        </p:nvSpPr>
        <p:spPr>
          <a:xfrm>
            <a:off x="457200" y="4952880"/>
            <a:ext cx="8229600" cy="1279800"/>
          </a:xfrm>
          <a:prstGeom prst="pie">
            <a:avLst/>
          </a:prstGeom>
          <a:solidFill>
            <a:srgbClr val="8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0600" rIns="120600" tIns="120600" bIns="12060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одлежат непосредственной оценке, в том числе в виде педагогической диагностики (мониторинга)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являются основой объективной оценки подготовк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Содержимое 7"/>
          <p:cNvGrpSpPr/>
          <p:nvPr/>
        </p:nvGrpSpPr>
        <p:grpSpPr>
          <a:xfrm>
            <a:off x="609480" y="1295280"/>
            <a:ext cx="7594560" cy="4601880"/>
            <a:chOff x="609480" y="1295280"/>
            <a:chExt cx="7594560" cy="4601880"/>
          </a:xfrm>
        </p:grpSpPr>
        <p:pic>
          <p:nvPicPr>
            <p:cNvPr id="115" name="Содержимое 7" descr=""/>
            <p:cNvPicPr/>
            <p:nvPr/>
          </p:nvPicPr>
          <p:blipFill>
            <a:blip r:embed="rId1"/>
            <a:stretch/>
          </p:blipFill>
          <p:spPr>
            <a:xfrm>
              <a:off x="609480" y="1295280"/>
              <a:ext cx="7594560" cy="46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5320" y="1312560"/>
              <a:ext cx="756144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99ccff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 соблюдении требований к условиям реализации Программы настоящие целевые ориентиры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полагают формирование у дошкольников предпосылок к учебной деятельности на этапе завершения ими Д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Скругленный прямоугольник 8"/>
          <p:cNvSpPr/>
          <p:nvPr/>
        </p:nvSpPr>
        <p:spPr>
          <a:xfrm>
            <a:off x="5867280" y="6021360"/>
            <a:ext cx="3060720" cy="503280"/>
          </a:xfrm>
          <a:prstGeom prst="roundRect">
            <a:avLst>
              <a:gd name="adj" fmla="val 16667"/>
            </a:avLst>
          </a:prstGeom>
          <a:solidFill>
            <a:srgbClr val="6666cc"/>
          </a:solidFill>
          <a:ln w="9360">
            <a:solidFill>
              <a:srgbClr val="cad5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.  Требования к результатам  освоения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тандарт направлен на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Объект 5"/>
          <p:cNvSpPr/>
          <p:nvPr/>
        </p:nvSpPr>
        <p:spPr>
          <a:xfrm>
            <a:off x="685800" y="1295280"/>
            <a:ext cx="7397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беспечение государством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равенства возможностей для каждого ребёнк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в получении качественного дошко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ФГОС ДО, п. 1.5.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20640" y="1698120"/>
            <a:ext cx="6378480" cy="33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838080" y="304920"/>
            <a:ext cx="792504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нклюзивное образование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вного доступ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образованию для всех обучающихся с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четом разнообразия особых образовательных потребностей и индивидуальных возможносте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ФЗ «ОБ ОБРАЗОВАНИИ В РОССИЙСКОЙ ФЕДЕРАЦИИ» (Ст.2, п.27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3T12:19:54Z</dcterms:created>
  <dc:creator>Наталья Руссу</dc:creator>
  <dc:description/>
  <dc:language>en-US</dc:language>
  <cp:lastModifiedBy>Наталья</cp:lastModifiedBy>
  <dcterms:modified xsi:type="dcterms:W3CDTF">2014-12-14T19:18:4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