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BE9-EB4A-4F14-8163-079DFB0A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D01-0E54-4A48-BC10-310EC50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B4BB2-7B0E-4960-A219-06348657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C5A10-E7BF-4827-A01F-B43750A8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8B0D-6DBC-4E08-A7F6-3E4E7CFC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38ED-4966-45FA-994B-0DC3F8C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D10AA-64F0-4414-880B-9766946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BEF6C-11CC-40AC-B41A-B0B580F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1E4F8-9BF9-42F4-A06E-9C736D1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EAA3-A7E6-480D-8C79-8CBCEAEE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BEDB0-A934-4374-B40D-3F12E04C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D07DD-11F5-4FA5-AE66-2972B583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35D-6BEE-4D0C-8681-90CD172C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5B950-B453-4067-8015-0FFA1F00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0DB1-4DE6-440C-A30F-F46A0DC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48111-C501-4C1B-AE66-D89082A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19D7E-A010-4267-85B4-3CA8EEFB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26839-B981-4B1F-9C0E-388256E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D2813-F7A1-477D-8D83-2D0289A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9421D-E4EC-4AC8-A779-C8B5B3D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49487-C13F-4238-A96F-C6DEF30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8EABD-EF5F-4702-805D-FD0973F5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83A5D-9D55-4AEA-9914-491F1C18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241-BA9C-4D00-9778-730D10F6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1E1F1-4548-4117-AA39-0367752A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25AA5-36C0-404C-A6FD-55AE3719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1BA7-0B96-46CA-8CB3-4E8041D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1CC17-7C0B-44C6-B61F-7A352BD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A7D61-496A-4718-891C-4B030A5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0E22-946A-49B7-85A1-2DED92F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2C611-73DA-4A90-81F8-1FEC405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521D6-05B4-4E22-98F3-32D43A2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E6B6-BE09-4E23-A55E-E902A70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0B3A-9788-4451-912A-B14D202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FFAE-B404-4824-ACF7-95E00599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3365-0E74-4710-BEC6-08D13A4E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A7FF-DFA3-46DE-AD52-2DD676C2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CE50-E146-496E-9BC0-484881B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F2BE-921F-4526-82F2-AED14705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7B33-E81E-4695-9F38-D8505E0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B7A48-D214-48AA-9792-C2C76F2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36F12-9355-4862-B87C-74A4B8E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BFEED-633D-4192-84EE-90620C0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1492A-A8F1-4DA4-8007-3525F5D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C65EB-F063-4E42-8D16-FAC3FDB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C1C-C249-4BBD-B94D-D1FD369A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9C1C6-C7EC-4880-9A57-24493BF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FD22A-CCDC-4640-92F4-A5088D4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7F545-F117-47C5-B7DC-DE24273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71CC9-25C2-480C-8BBD-90B80108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96B00-D0B9-4718-A5FF-4DD6232A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C242D-4812-4F48-9ECE-3E8A469A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E16D6-2996-4968-9F06-36B02DCA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5DE67-462D-4EC1-AB87-5BB79E04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96990-08CE-408A-8717-647B7868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464C1-90C2-4904-8BB1-CA4E229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111-CE0B-43EE-B9D7-DD58DF8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A8B74-5EA1-47DC-825C-8E048CC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6C20B-6EB0-43AB-95A2-DA5BD3F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9085C-FB35-4DD7-9CA5-7AD6B43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A6158-D08E-47D2-B3C3-29CCB9F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55097-AAB9-4940-9F2D-0BE4B59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3FD84-D137-43B6-949B-CCC8D9C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90710-58A0-49CC-9A24-0B53EC1F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A624-6A4F-47CB-8DE7-33048AC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313-6E5A-495A-9998-84179978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F5F3-8EAA-4223-9FEA-3897D1B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E40F-10D3-40F5-A8B9-E9C33AB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AB8-8CD3-4430-BFE2-838FDAD1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3E64-5D92-4353-A0C0-7BD3B19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9C5-704E-42EB-8F05-E3F082B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BCF5-5996-4CA5-97F6-9EE77CC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3F2-42AA-42BC-99DA-152B16E1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D26C-E622-420B-AA08-E7F536DC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FDA0-3F27-4EDB-9964-6D55EF84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6B33-9059-40A9-86CC-D33FBE2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BE79-878C-4839-9379-712D60D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4D3C-7321-4525-BE80-F168A3D7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C232-C2FA-41DE-B91B-C72237F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1A4-2463-4FC8-8F13-D06C571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112C-D984-4C3B-8F3B-2D67B37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B3DA-F206-47D8-99B0-B0F7C4F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8399-3AF4-4888-BB9D-3191E31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1BEC-6F34-40A7-9BD4-4DA1D84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E6FF-7629-4EC0-8E55-5C42E54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05FF-6956-4942-A2AD-E59053DE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A6CE-E6DA-4D9E-96DD-33BA07C3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A913-943B-4AC0-8598-72781A26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5F76-1DC1-4B0D-8DB9-17D1684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CFDED-4C07-49E2-A111-32B0C919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0CA-C907-4F64-A599-EB613BD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9515-3918-447A-90F1-CE4D0E4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E842-6712-432C-BD73-7FFB0AE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0516-E5A2-40DD-A50A-2C16431D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0BADA-D73A-4E6F-BE31-F09F434F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6B82-86F6-4E45-87BF-6E1CAB5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5654-9D1D-4C6F-B7B5-96E502AE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3EB4F-989C-4CA4-9DE4-C5424F7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03EA-DD08-477A-920B-0313ECF7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8E72-DEFA-428B-A40D-53F648CE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D743-CC06-49E9-837D-1531241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7B7-BC9F-48DC-9E5C-5D4AF69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DFDF-9670-40BD-98DC-504E28F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895D-7643-4A00-9600-D05E662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6F19-DA5D-4FD4-9991-D14CDFB0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E485-A7F3-4235-B635-5D0042D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732B-105C-4CB3-8904-DB2AE48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F608-AEC0-4417-AD53-D649C59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2048-07EA-4DB2-AE11-5FE80E4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F58FE-107F-48E6-ADB8-EEA21AFB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169C-FC3D-471F-8DE1-AE95F5E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D5D5-2907-434C-88A5-0F045893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FB9-9B39-4892-B472-B6AA847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0FA2-FC8E-4619-B396-A1D2DAD0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1DB9-DF7C-48A5-AA0F-6582A78B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52C82-5004-436D-83A7-930958F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F989-BE84-47DF-A980-3359203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61B4-D8A2-432C-B4C4-8298316E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F9770-F392-4409-BBC2-2577BFE5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8C3CB-E843-4FC0-95BA-493CB195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8D87-B3A4-477A-B48D-C3C381B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D71E-21A7-4C91-9888-E47394D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5156-A98D-47D2-AF49-A3A6644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5A2-3061-446E-B221-5731A7A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34EC-E108-481B-BFA7-EC7A322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120A8-E241-4C25-B5BC-BA8EB5D5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7347-D183-4DD4-ADA5-D05E489B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9FEA-5BED-4CD5-995C-F799A34F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5FF8B-33FA-4A28-88FC-05D0F9C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72C7-D474-4AE3-8D4D-6E1B784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2512-30EA-4950-AD26-9D1130EC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1EA6-5E95-4C7A-80A7-08DF840E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F8B1-524B-45DA-B3AF-3622384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47A3-9844-4FEC-82AD-F51F4D6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052-635D-46B8-A361-8DFCEEB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E538-717E-4E72-84FF-5910D85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3907-3971-4DB5-BB4F-FEE6C8A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5858-C45C-49D9-B024-2C99A14A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58023-56CD-4C51-B214-897DA8E7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12F70-B1E1-4DD9-9171-3248619E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1A69F-565C-425A-A1D4-E1484BA5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2D379-0E4F-4AD2-A97E-98B7469F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CCCB-24B7-4976-A4CA-14C5672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D599-3CFE-45B2-861A-6E77BC1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3478-DA54-46AC-A644-21761CF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EB2-EF8C-455E-9427-F14BA6F2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CEFE-E2E7-4C46-AC47-A6167B0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61EA-478E-4FDD-A19C-637BD0D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E9123-35F4-430E-B251-FF95D538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63619-4FF5-43B6-BFDE-34AB9E6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07D2F-A4D2-46CE-B3AF-439765B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2B8D-147E-4CC9-936D-3660534E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ED3C-8794-4812-9433-549D33E0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0884-789F-42FC-92FC-90C26148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DD00B-4340-4FBD-B234-B9D4F996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8259F-12D0-4C4F-A213-40ECAB6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D76-898A-4449-AAA0-BB189810B9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0A7-632F-46AE-ABD2-E7CCA9C379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A03-D4DD-459F-B7CF-2AC84C8678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730-FCF4-43A7-8B8B-3DB57FFF9F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F8C-E13D-40FE-92FB-21BA1AF601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D0CB-443A-4C19-AB22-5B1CC947A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FCD7-A5C5-4861-AC0E-8BF1F41D41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785-70B5-42AA-A1AB-AF4B3C55CB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4045-4870-4ECC-B6AA-81E99708B1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6D2-5A9B-4440-82CF-9E34131A2A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BB3-F4F9-48AA-941F-A0CA32B2E8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DFF-78C5-4C86-9451-B6949617F1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74B4-E90A-40CA-B824-5A6EBBD92F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1\Pictures\sun094.png"/>
          <p:cNvPicPr/>
          <p:nvPr/>
        </p:nvPicPr>
        <p:blipFill>
          <a:blip r:embed="rId1"/>
          <a:stretch/>
        </p:blipFill>
        <p:spPr>
          <a:xfrm>
            <a:off x="642960" y="-57240"/>
            <a:ext cx="7572240" cy="691524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1"/>
          <p:cNvSpPr/>
          <p:nvPr/>
        </p:nvSpPr>
        <p:spPr>
          <a:xfrm>
            <a:off x="609480" y="10746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С малой удачи начинаетс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ольшой успех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Bookman Old Style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Ю</a:t>
            </a: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М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        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Р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Д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Ё         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В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0" y="1905120"/>
            <a:ext cx="1828800" cy="17524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6781680" y="1905120"/>
            <a:ext cx="1828800" cy="16002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133720" y="4495680"/>
            <a:ext cx="1752480" cy="1371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6629400" y="4343400"/>
            <a:ext cx="1981080" cy="14479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5638680" y="0"/>
            <a:ext cx="1524240" cy="18288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Bookman Old Style"/>
              </a:rPr>
              <a:t>Н 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БУКВЫ, КОТОРЫЕ ПОКАЗЫВАЮТ НА ТВЁРДОСТЬ ВПЕРЕДИ СТОЯЩЕГО СОГЛ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А     О       У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Ы      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Messaging"/>
          <p:cNvPicPr/>
          <p:nvPr/>
        </p:nvPicPr>
        <p:blipFill>
          <a:blip r:embed="rId1"/>
          <a:stretch/>
        </p:blipFill>
        <p:spPr>
          <a:xfrm>
            <a:off x="7518240" y="10666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13(2)"/>
          <p:cNvPicPr/>
          <p:nvPr/>
        </p:nvPicPr>
        <p:blipFill>
          <a:blip r:embed="rId2"/>
          <a:stretch/>
        </p:blipFill>
        <p:spPr>
          <a:xfrm>
            <a:off x="457200" y="4495680"/>
            <a:ext cx="1676520" cy="205740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С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О         </a:t>
            </a: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К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Ы</a:t>
            </a:r>
            <a:r>
              <a:rPr b="1" lang="ru-RU" sz="8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562720" y="304920"/>
            <a:ext cx="1981080" cy="11430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2362320" y="1447920"/>
            <a:ext cx="1676160" cy="144756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6858000" y="1600200"/>
            <a:ext cx="1828800" cy="15238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19520" y="4419720"/>
            <a:ext cx="1904760" cy="12952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7238880" y="4495680"/>
            <a:ext cx="1600200" cy="14479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9" descr="Messaging"/>
          <p:cNvPicPr/>
          <p:nvPr/>
        </p:nvPicPr>
        <p:blipFill>
          <a:blip r:embed="rId1"/>
          <a:stretch/>
        </p:blipFill>
        <p:spPr>
          <a:xfrm>
            <a:off x="4191120" y="274320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фонетического разбор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Произнеси те слов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Разбейте слово на слоги, укажите количество с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 Поставьте ударение в слове, укажите ударный с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 Запишите фонетическую транскрипцию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Охарактеризуйте звук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: ударные — безудар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уквой обозначе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е: парные, непарные звонкие - глухие, твёрдые -             мягки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уквой обозна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Укажите количество звуков и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ец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ковь – 2 слога, 4 согл., 2 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-  м  - согл., зв. непарн.,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-  а  - гласн., безуд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 -  р  - согл., зв. непарн., 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 -  к  - согл., глух. парн., 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-  о – гласн., уд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-  ф – согл., глух. парн.,  мягк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ь 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букв, 6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457200" y="457200"/>
            <a:ext cx="5943600" cy="27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ом – 1 слог, 4 буквы, 4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., звонк. 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огл., звонк. не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б.,4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60948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3200400" y="3505320"/>
            <a:ext cx="5486400" cy="27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а – 2 слога, 4 буквы, 4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без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б.,4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3886200" y="3429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3352680" y="5715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2524320" cy="24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3" name="Picture 13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709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reb11a"/>
          <p:cNvPicPr/>
          <p:nvPr/>
        </p:nvPicPr>
        <p:blipFill>
          <a:blip r:embed="rId2"/>
          <a:stretch/>
        </p:blipFill>
        <p:spPr>
          <a:xfrm>
            <a:off x="380880" y="1676520"/>
            <a:ext cx="2667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9" name="Rectangle 7"/>
          <p:cNvSpPr/>
          <p:nvPr/>
        </p:nvSpPr>
        <p:spPr>
          <a:xfrm>
            <a:off x="3352680" y="1523880"/>
            <a:ext cx="52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ота – 3 слога, 6 букв, 6 звук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., звонк. 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гласн., без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согл., звонк. непарн.,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огл., глух. парн.,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гласн., безударн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б.,6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403848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>
            <a:off x="350532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304920" y="304920"/>
            <a:ext cx="8839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6" descr="reb14a"/>
          <p:cNvPicPr/>
          <p:nvPr/>
        </p:nvPicPr>
        <p:blipFill>
          <a:blip r:embed="rId2"/>
          <a:stretch/>
        </p:blipFill>
        <p:spPr>
          <a:xfrm>
            <a:off x="0" y="2362320"/>
            <a:ext cx="28195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tangle 7"/>
          <p:cNvSpPr/>
          <p:nvPr/>
        </p:nvSpPr>
        <p:spPr>
          <a:xfrm>
            <a:off x="2819520" y="129528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бка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звонк. не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звонк.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огласн., глух. 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297180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 flipH="1">
            <a:off x="3200400" y="1295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6" descr="reb11c"/>
          <p:cNvPicPr/>
          <p:nvPr/>
        </p:nvPicPr>
        <p:blipFill>
          <a:blip r:embed="rId2"/>
          <a:stretch/>
        </p:blipFill>
        <p:spPr>
          <a:xfrm>
            <a:off x="5029200" y="3505320"/>
            <a:ext cx="38196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5" name="Rectangle 7"/>
          <p:cNvSpPr/>
          <p:nvPr/>
        </p:nvSpPr>
        <p:spPr>
          <a:xfrm>
            <a:off x="1371600" y="10666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ква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глух. 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глух.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огл., звонк. 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1600200" y="3429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 flipH="1">
            <a:off x="1752480" y="914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6" descr="reb12b"/>
          <p:cNvPicPr/>
          <p:nvPr/>
        </p:nvPicPr>
        <p:blipFill>
          <a:blip r:embed="rId2"/>
          <a:stretch/>
        </p:blipFill>
        <p:spPr>
          <a:xfrm>
            <a:off x="3429000" y="3657600"/>
            <a:ext cx="28954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3" name="Rectangle 7"/>
          <p:cNvSpPr/>
          <p:nvPr/>
        </p:nvSpPr>
        <p:spPr>
          <a:xfrm>
            <a:off x="2133720" y="1219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ыш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глух. 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звонк. не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согл.,глух. 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 flipH="1">
            <a:off x="2971800" y="1143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228600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вуко –буквенный анализ слова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(фонетиче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!!!МЫ ПИШЕМ БУК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                                   </a:t>
            </a: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А СЛЫШИМ ЗВУ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ГЛАСНЫХ –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usic"/>
          <p:cNvSpPr/>
          <p:nvPr/>
        </p:nvSpPr>
        <p:spPr>
          <a:xfrm>
            <a:off x="7162920" y="2209680"/>
            <a:ext cx="1809720" cy="1809720"/>
          </a:xfrm>
          <a:custGeom>
            <a:avLst/>
            <a:gdLst>
              <a:gd name="textAreaLeft" fmla="*/ 668160 w 1809720"/>
              <a:gd name="textAreaRight" fmla="*/ 1754280 w 1809720"/>
              <a:gd name="textAreaTop" fmla="*/ 77040 h 1809720"/>
              <a:gd name="textAreaBottom" fmla="*/ 448560 h 180972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ound"/>
          <p:cNvSpPr/>
          <p:nvPr/>
        </p:nvSpPr>
        <p:spPr>
          <a:xfrm>
            <a:off x="91440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ound"/>
          <p:cNvSpPr/>
          <p:nvPr/>
        </p:nvSpPr>
        <p:spPr>
          <a:xfrm>
            <a:off x="21337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ound"/>
          <p:cNvSpPr/>
          <p:nvPr/>
        </p:nvSpPr>
        <p:spPr>
          <a:xfrm>
            <a:off x="342900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ound"/>
          <p:cNvSpPr/>
          <p:nvPr/>
        </p:nvSpPr>
        <p:spPr>
          <a:xfrm>
            <a:off x="46483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ound"/>
          <p:cNvSpPr/>
          <p:nvPr/>
        </p:nvSpPr>
        <p:spPr>
          <a:xfrm>
            <a:off x="5867280" y="4343400"/>
            <a:ext cx="83844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ound"/>
          <p:cNvSpPr/>
          <p:nvPr/>
        </p:nvSpPr>
        <p:spPr>
          <a:xfrm>
            <a:off x="73915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Буквы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торые обозначают два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е       ё        ю        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ётированные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начал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сле гл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 После –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 или –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ъ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1371600" y="53352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1295280" y="160020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1600200" y="3429000"/>
            <a:ext cx="83808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1447920" y="4876920"/>
            <a:ext cx="99036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7"/>
          <p:cNvSpPr/>
          <p:nvPr/>
        </p:nvSpPr>
        <p:spPr>
          <a:xfrm>
            <a:off x="6248520" y="5335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8"/>
          <p:cNvSpPr/>
          <p:nvPr/>
        </p:nvSpPr>
        <p:spPr>
          <a:xfrm>
            <a:off x="6324480" y="1676520"/>
            <a:ext cx="914400" cy="99036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6248520" y="3048120"/>
            <a:ext cx="914400" cy="10666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>
            <a:off x="6248520" y="4343400"/>
            <a:ext cx="91440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"/>
          <p:cNvSpPr/>
          <p:nvPr/>
        </p:nvSpPr>
        <p:spPr>
          <a:xfrm flipV="1">
            <a:off x="1066680" y="106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10666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3"/>
          <p:cNvSpPr/>
          <p:nvPr/>
        </p:nvSpPr>
        <p:spPr>
          <a:xfrm flipV="1">
            <a:off x="990720" y="40381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1066680" y="46483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 flipV="1">
            <a:off x="5638680" y="9907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638680" y="1447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7"/>
          <p:cNvSpPr/>
          <p:nvPr/>
        </p:nvSpPr>
        <p:spPr>
          <a:xfrm flipV="1">
            <a:off x="548640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5562720" y="40384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СЕГДА МЯГКИ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838080" y="2362320"/>
            <a:ext cx="144792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3429000" y="3505320"/>
            <a:ext cx="144792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6553080" y="2590920"/>
            <a:ext cx="1524240" cy="1600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838080" y="2362320"/>
            <a:ext cx="144792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934320" y="1143000"/>
            <a:ext cx="914400" cy="174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solidFill>
            <a:srgbClr val="ffff66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сть согласного звука обознача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,               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,            Щ            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5"/>
          <p:cNvSpPr/>
          <p:nvPr/>
        </p:nvSpPr>
        <p:spPr>
          <a:xfrm>
            <a:off x="533520" y="3809880"/>
            <a:ext cx="144756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6"/>
          <p:cNvSpPr/>
          <p:nvPr/>
        </p:nvSpPr>
        <p:spPr>
          <a:xfrm>
            <a:off x="3809880" y="2743200"/>
            <a:ext cx="182880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7"/>
          <p:cNvSpPr/>
          <p:nvPr/>
        </p:nvSpPr>
        <p:spPr>
          <a:xfrm>
            <a:off x="7086600" y="2819520"/>
            <a:ext cx="144792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СЕГДА ТВЁРД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Ц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Ж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1219320" y="2666880"/>
            <a:ext cx="1371600" cy="129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3962520" y="2743200"/>
            <a:ext cx="129528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010280" y="2666880"/>
            <a:ext cx="1219320" cy="129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ound"/>
          <p:cNvSpPr/>
          <p:nvPr/>
        </p:nvSpPr>
        <p:spPr>
          <a:xfrm>
            <a:off x="762120" y="434340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Пар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685800" y="20574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6"/>
          <p:cNvSpPr/>
          <p:nvPr/>
        </p:nvSpPr>
        <p:spPr>
          <a:xfrm>
            <a:off x="685800" y="3429000"/>
            <a:ext cx="106668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2057400" y="2057400"/>
            <a:ext cx="99072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2057400" y="34290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3352680" y="205740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3352680" y="3429000"/>
            <a:ext cx="99072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2"/>
          <p:cNvSpPr/>
          <p:nvPr/>
        </p:nvSpPr>
        <p:spPr>
          <a:xfrm>
            <a:off x="4572000" y="20574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4648320" y="35053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4"/>
          <p:cNvSpPr/>
          <p:nvPr/>
        </p:nvSpPr>
        <p:spPr>
          <a:xfrm>
            <a:off x="5791320" y="2057400"/>
            <a:ext cx="83808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5"/>
          <p:cNvSpPr/>
          <p:nvPr/>
        </p:nvSpPr>
        <p:spPr>
          <a:xfrm>
            <a:off x="5867280" y="3505320"/>
            <a:ext cx="83844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6"/>
          <p:cNvSpPr/>
          <p:nvPr/>
        </p:nvSpPr>
        <p:spPr>
          <a:xfrm>
            <a:off x="7086600" y="213372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7"/>
          <p:cNvSpPr/>
          <p:nvPr/>
        </p:nvSpPr>
        <p:spPr>
          <a:xfrm>
            <a:off x="7162920" y="35053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Verdana"/>
              </a:rPr>
              <a:t>НЕ ОБОЗНАЧАЮТ ЗВ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МЯГКИЙ З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ТВЁРДЫЙ З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БУКВЫ, КОТОРЫЕ ПОКАЗЫВАЮТ НА МЯГКОСТЬ ВПЕРЕДИ СТОЯЩЕГО СОГЛ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Я    Ё    Ю    И     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13(2)"/>
          <p:cNvPicPr/>
          <p:nvPr/>
        </p:nvPicPr>
        <p:blipFill>
          <a:blip r:embed="rId1"/>
          <a:stretch/>
        </p:blipFill>
        <p:spPr>
          <a:xfrm>
            <a:off x="7467480" y="4572000"/>
            <a:ext cx="1676520" cy="205740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  <p:pic>
        <p:nvPicPr>
          <p:cNvPr id="600" name="Picture 8" descr="down3"/>
          <p:cNvPicPr/>
          <p:nvPr/>
        </p:nvPicPr>
        <p:blipFill>
          <a:blip r:embed="rId2"/>
          <a:stretch/>
        </p:blipFill>
        <p:spPr>
          <a:xfrm>
            <a:off x="7620120" y="1219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слан4ик</dc:creator>
  <dc:description/>
  <dc:language>en-US</dc:language>
  <cp:lastModifiedBy>RePack by Diakov</cp:lastModifiedBy>
  <dcterms:modified xsi:type="dcterms:W3CDTF">2014-09-06T20:27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