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6183-5FB0-4936-94B0-FF282B41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570-E1F3-4B3F-B4FF-8E714EEE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E5F-1CAF-4497-84B6-625FF350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74F-5463-4E5C-91B7-7DAD0441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907-97CC-4198-85BF-8C41AC98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1E6-BB29-4F4D-AC89-87EF23B9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E21-BABD-4C33-8EA5-79F78319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9A3C-DD3B-440D-8BB7-C8FD5162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C26-0F50-4C06-B132-C5D7CC2F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421-FB7D-4F0D-9FA6-5EC7D0EA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1BA-725A-4DF0-9400-390DF38F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0D4-CB21-4726-98AB-988C8C6E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15C0-8475-406A-A132-DE1922B53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bse/61326/&#1040;&#1074;&#1090;&#1086;&#1084;&#1072;&#1090;&#1080;&#1095;&#1077;&#1089;&#1082;&#1086;&#1077;" TargetMode="External"/><Relationship Id="rId2" Type="http://schemas.openxmlformats.org/officeDocument/2006/relationships/hyperlink" Target="https://ru.wikipedia.org/wiki/%C0%E2%F2%EE%EC%E0%F2%E8%E7%E8%F0%EE%E2%E0%ED%ED%E0%FF_%F1%E8%F1%F2%E5%EC%E0_%F3%EF%F0%E0%E2%EB%E5%ED%E8%FF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7;&#1088;&#1086;&#1085;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втоматизированные и автоматические системы управ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105520"/>
            <a:ext cx="8458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зьмина Раиса Григорьевна, 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ОУ СОШ №280 имени М.Ю. Лермонто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4572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имущество компьютерных систем автоматического управления перед такими устройствами в их большей «интеллектуальности», в возможности осуществлять более сложное управление, чем простые автома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553080" y="4680000"/>
            <a:ext cx="2308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пьютер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прав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энергетическими мощнос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АП — АЦП преобразов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48160" y="914400"/>
            <a:ext cx="2438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Рассмотрим ситуацию, в которой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бъектом управления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 является техническое устройство (лабораторная установка, бытовая техника, транспортное средство или промышленное оборудование), 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управляющим объектом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 — система автоматического управле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55342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257800" y="1143000"/>
            <a:ext cx="358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ы она превратилась в физическое воздействие на управляемый объект, необходимо преобразование этого кода в электрический сигнал, который приведет в движение «рычаги» управления объектом. Такое преобразование из двоичного кода в электрический сигнал называют цифро-аналоговым преобразованием. Выполняющий такое преобразование прибор называется 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ЦАП (цифро-аналоговый преобразователь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800600" cy="4868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152280"/>
            <a:ext cx="915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омпьют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аботает с двоичной информацией, помещенной в его память. Управляющая команда, выработанная программой, в компьютере имеет форму двоичного к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4438800" cy="2606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9625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риборы, которые дают информацию о состоянии объекта управления, называются датчик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ни могут показывать, например, температуру, давление, деформации, напряженности полей и пр. Эти данные необходимо передать компьютеру по линиям обратной связи. Если показания датчиков имеют аналоговую форму (электрический ток или потенциал), то они должны быть преобразованы в двоичную цифровую форму. Такое преобразование называется аналого-цифровым, а прибор, его выполняющий, — 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АЦП (аналого-цифровой преобразоват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хема СА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сказанное отражается в схеме, приведенной на рисунке, приведённом ниже. Такая система работает автоматически, без участия челове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800100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60958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6095880"/>
            <a:ext cx="7239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хема системы автоматического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2422080"/>
            <a:ext cx="7619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опросы и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то такое АСУ и что такое САУ?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В чем различие между автоматизированными системами управления (АСУ) и системами автоматического управления (САУ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акие аппаратные компоненты входят в систему управления техническим устройством с помощью компьюте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хема С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ля чего нужны устройства ЦАП и АЦ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езные ссы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c.academic.ru/dic.nsf/bse/61326/%D0%90%D0%B2%D1%82%D0%BE%D0%BC%D0%B0%D1%82%D0%B8%D1%87%D0%B5%D1%81%D0%BA%D0%BE%D0%B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ru.wikipedia.org/wiki/%C0%E2%F2%EE%EC%E0%F2%E8%E7%E8%F0%EE%E2%E0%ED%ED%E0%FF_%F1%E8%F1%F2%E5%EC%E0_%F3%EF%F0%E0%E2%EB%E5%ED%E8%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school.xvatit.com/index.php?title=%D0%98%D0%BD%D1%84%D0%BE%D1%80%D0%BC%D0%B0%D1%82%D0%B8%D0%BA%D0%B0_9_%D0%BA%D0%BB%D0%B0%D1%81%D1%81._%D0%94%D0%BE%D0%BF%D0%BE%D0%BB%D0%BD%D0%B5%D0%BD%D0%B8%D0%B5_%D0%BA_%D0%B3%D0%BB%D0%B0%D0%B2%D0%B5_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ru.wikipedia.org/wiki/%C0%ED%E0%EB%EE%E3%EE-%F6%E8%F4%F0%EE%E2%EE%E9_%EF%F0%E5%EE%E1%F0%E0%E7%EE%E2%E0%F2%E5%EB%F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темы уро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♦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что такое АСУ и что такое СА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♦ простые автоматы;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ЦАП - АЦП преобразование;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♦ схема САУ;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то такое АСУ и что такое СА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Компьютер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могают решать задачи управления в самых разных масштабах: от управления станком или транспортным средством до управления производственным процессом на предприятии или даже целой отраслью экономики государ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9640" y="1600200"/>
            <a:ext cx="2570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839880"/>
            <a:ext cx="4724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управления в масштабе крупного предприятия или отрасли создаются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омпьютерные систе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которые называются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втоматизированными системами управления (АСУ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Такие системы работают вместе с челове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АСУ помогает руководителю получить необходимую 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информацию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для принятия управляющего решения, а также может предложить наиболее оптимальные варианты таких решен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днако 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окончательное решение принимает челове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СУ используются самые современные средства информационных технологий: базы данных и экспертные системы, методы математического моделирования, машинная графика и п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2895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119680"/>
            <a:ext cx="4876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 распространением персональных компьютеров технической основой АСУ ст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компьютерные се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В рамках одного предприятия это локальные компьютерные сети. Автоматизированные системы управления, работающие в масштабах отрасли, в государственных масштабах, используют глобальные компьютерные се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21240" y="1676520"/>
            <a:ext cx="34243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истемы автоматического управления (САУ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м вариантом применения компьютеров в управлении являются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истемы автоматического управления (САУ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бъектами управл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этом случае чаще всего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ыступают технические устрой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станок, ракета, химический реактор, ускоритель элементарных частиц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662120"/>
            <a:ext cx="4191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В САУ все операции, связанные с процессами управления (сбор и обработка информации, формирование управляющих команд, воздействие на управляемый объект) происходят автоматически, без непосредственного участия человека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numerical tape"/>
          <p:cNvPicPr/>
          <p:nvPr/>
        </p:nvPicPr>
        <p:blipFill>
          <a:blip r:embed="rId1"/>
          <a:stretch/>
        </p:blipFill>
        <p:spPr>
          <a:xfrm>
            <a:off x="4724280" y="838080"/>
            <a:ext cx="4038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стые автома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Устройства автоматического управления стали создаваться задолго до появления первых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В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ак правило, они основаны на использовании каких-либо физических яв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ческий регулятор уровня воды в баке основан на выталкивающем действии воды на поплавок регулято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ческие предохранители в электрических сетях основаны на тепловом действии электрического то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автоматического регулирования освещенности в помещении использует явление фотоэфф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уют и более сложные примеры бескомпьютерного автоматического упра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95680" y="2286000"/>
            <a:ext cx="421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ерон Александрийски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– гениальный ученый античности, который в 1 веке н.э. изобрел первый торговый автомат для продажи в храмах "священной воды" - сделал этот агрегат очень простым. Его интерфейс интуитивно понятен: брось монетку в прорезь, получи воду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49360" y="1066680"/>
            <a:ext cx="3537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09:57:11Z</dcterms:created>
  <dc:creator>Администратор</dc:creator>
  <dc:description/>
  <dc:language>en-US</dc:language>
  <cp:lastModifiedBy>Администратор</cp:lastModifiedBy>
  <dcterms:modified xsi:type="dcterms:W3CDTF">2015-01-21T14:47:4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