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676-0FB3-4901-896C-DE50C89C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449-7C5D-4E72-AC9F-55C2C50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020-3E50-4F43-9BBA-60C030EE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F7F-78FE-4862-A220-CFFBB39E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1C6-F9A1-4AE3-AC32-DBDE17B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AAA-8AA7-40EE-BC14-5B7598A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C00-D511-443B-A88E-08092FF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128-3219-42C3-BF74-4218C78C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D76-F5D3-4785-AA10-4412A1DF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0D0-5ED8-4567-A700-5C4561B5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80B-7C6E-4D27-8794-EB593FE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CA9-A215-4884-9D49-7FA057C6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927-5206-41C6-A4EF-FF875853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ОГАТСТВА, ОТДАННЫЕ ЛЮД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ФЕТИСОВ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етисов Евгений Василь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мой дедушка. Он 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44402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дился 19 февраля 1959 года в Брянске.  В 1979 г. окончил художественное училище им. В.А. Серова (Ленинград). В 1985 г. окончил Ленинградский институт живописи, скульптуры и архитектуры им. И.Е. Репина. С 1987 г. живет и работает в Брянске. Член Союза художников России.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88000" y="4221000"/>
            <a:ext cx="168444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593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Е.В. Фетисова публиковались в газетах, журналах, каталогах. Художником проведен ряд персональных выставок. Е.В. Фетисов награжден медалью «В память 200-летия Ф.И. Тютчева». За цикл работ, посвященных творчеству русских писателей в 2004 году,  Е.В. Фетисов стал лауреатом премии А.К. Толстого «Серебряная лира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2920" y="1628640"/>
            <a:ext cx="403884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96720" y="4221000"/>
            <a:ext cx="3782880" cy="283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1080" y="907920"/>
            <a:ext cx="3783240" cy="283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27640" y="189000"/>
            <a:ext cx="45306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ы художника, посвященные истории России, портреты, пейзажи занимали достойное место на выставках самого высоко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260600" cy="319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260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окий профессионализм, глубинное понимание образа, искренность и духовность – характерны для работ мастера и находят отклик в сердцах многих зрител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809880" cy="2876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59280" y="3270240"/>
            <a:ext cx="36673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592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ы художника находятся: в Брянском областном художественном музейно-выставочном центре, фондах Министерства культуры России и фондах Союза художников России, музее мемориального комплекса «Партизанская поляна», являются частью экспозиций в учреждениях города, в частных собраниях России, Франции, Германии, Италии, США, Китая и др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94120" y="260280"/>
            <a:ext cx="3810240" cy="312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446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08:02:23Z</dcterms:created>
  <dc:creator>Игорь</dc:creator>
  <dc:description/>
  <dc:language>en-US</dc:language>
  <cp:lastModifiedBy>Игорь</cp:lastModifiedBy>
  <dcterms:modified xsi:type="dcterms:W3CDTF">2014-09-21T19:01:02Z</dcterms:modified>
  <cp:revision>3</cp:revision>
  <dc:subject/>
  <dc:title>БОГАТСТВА, ОТДАННЫЕ ЛЮДЯМ</dc:title>
</cp:coreProperties>
</file>