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9.png" ContentType="image/png"/>
  <Override PartName="/ppt/media/image8.jpeg" ContentType="image/jpeg"/>
  <Override PartName="/ppt/media/image10.jpeg" ContentType="image/jpeg"/>
  <Override PartName="/ppt/media/image12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11.png" ContentType="image/png"/>
  <Override PartName="/ppt/media/image6.png" ContentType="image/png"/>
  <Override PartName="/ppt/media/image5.jpeg" ContentType="image/jpeg"/>
  <Override PartName="/ppt/media/image4.jpeg" ContentType="image/jpeg"/>
  <Override PartName="/ppt/media/image25.jpeg" ContentType="image/jpeg"/>
  <Override PartName="/ppt/media/image27.jpeg" ContentType="image/jpeg"/>
  <Override PartName="/ppt/media/image17.png" ContentType="image/png"/>
  <Override PartName="/ppt/media/image24.gif" ContentType="image/gif"/>
  <Override PartName="/ppt/media/image21.jpeg" ContentType="image/jpeg"/>
  <Override PartName="/ppt/media/image16.png" ContentType="image/png"/>
  <Override PartName="/ppt/media/image14.png" ContentType="image/png"/>
  <Override PartName="/ppt/media/image26.png" ContentType="image/png"/>
  <Override PartName="/ppt/media/image23.gif" ContentType="image/gif"/>
  <Override PartName="/ppt/media/image3.jpeg" ContentType="image/jpeg"/>
  <Override PartName="/ppt/media/image15.png" ContentType="image/png"/>
  <Override PartName="/ppt/media/image19.png" ContentType="image/png"/>
  <Override PartName="/ppt/media/image2.jpeg" ContentType="image/jpeg"/>
  <Override PartName="/ppt/media/image20.png" ContentType="image/png"/>
  <Override PartName="/ppt/media/image18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2C94D-CD30-4FEE-8C17-933C017ED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8771F-89A2-473C-A08E-D4FC4E1FC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3E944-A117-4D00-82CE-D6FB89C61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23434-A124-470F-B74A-C3C991817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962A9-6D4D-48FE-AA14-F05C2588C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F2770-F3A5-4BAD-BD7F-861FD02EB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7F2F7-4CF6-4C72-9D03-5DEA44922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823A8-90E6-4B41-AB7A-64785C2FB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C1A48-1727-4C3A-9048-FE0E85064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2D3EE-D9E8-4719-BE00-4F779BB89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6EC9D-3137-4730-B69B-C7AD5667D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9A832-5C27-42B6-AB36-A5EFD285F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12EA2-1EFF-473E-9508-3808CAFE8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D8CCC-24B8-4ACC-A520-D89E8EEC2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5F1E4-E1E6-405A-88DC-EDF597CD8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9EABC-9117-4BF0-A0D6-F4200922B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92342-EEF4-4DAD-94C9-6E7365B32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9CDF97-7685-48FC-95CB-E807BBA82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D90F88-3A82-4EA4-B799-D5D7C22BB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A21D07-C27A-489B-8DEA-365E5A25F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8E25B5-0AE5-4D3D-A209-71DF6D260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4B5E47-BD56-43BD-9462-814749B6A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38918-D3CB-45C3-BF52-FD21777C5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8990E1-C065-428D-83AA-A177383BE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290AA8-6A4D-4610-A066-F0E2BDA0F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AB5850-1F12-4AAB-985F-FA65D6331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D26700-E8C0-4471-882A-94B759D2D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B4CF0A-9B67-40BD-B654-A39DE23A9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B5A2E0-EACA-48E5-9460-22AF70EF8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78FEF7-B43A-40AF-9B1A-C84AB9C11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E96EDC-B98B-4D5A-854E-DF32FF373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00689F-5B38-4F12-9A4B-08B1AF4FB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763413-928B-4EAE-9D49-422190F57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ED953-FDEF-43A0-9E03-3DEDE0C36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E4DF3F-1750-4222-A20A-C1CF61A4C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EBDCD3-1A3F-49AC-BD22-A7DC48666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8ED6C5-64B0-4C98-AC80-C8B4CC057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79A30D-B6EB-4A49-8807-3FAE4E6A7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7365A0-DEE2-4C4C-AF25-E97793CD4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F4564F-A148-4010-A7D6-D51C54C9A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699CFA-3EA4-4419-9731-9A489A66F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9E7F35-7C46-4D97-AA8D-CC471FE09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5CCE98-5259-4402-9887-E3E62CCBB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41E445-8236-420F-AC00-1A7189ADF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20C85-6E71-4F27-AC9C-8ECEDFFE4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E00A2F-08D2-45DE-8185-406DFE86D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71C9C8-37EF-4309-B68F-63694CA68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B76CD9-3B3F-43D0-98A4-B8DF8F088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CC4DAC-3A34-46E4-A3DC-F509D34FC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EADF55-7DB2-4183-A0C4-9A46A0864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50E7F4-333C-48F7-9B5F-1658ED670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9D8FAF-4DCE-4862-A314-697D44BAB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C71C35-A58A-4548-860A-07C939567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F136C0-E19D-497F-91A0-39DFDFA84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2F5035-DEB7-4090-A658-E411A22CB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2D902-2BD6-4FA2-A457-1F9B4CF79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F01916-8C2E-4DB3-8FD8-E76665433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DB5E13-1E9D-4D25-8729-2B84120EE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C43E92-3898-4B58-9BD8-D516B0626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29AAF3-9171-4133-888D-6FA7FC66D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83C44E-63C0-4862-AFC4-54C0D042B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35D3B3-E585-4559-9034-6FD66A7A7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B39D75-E655-4272-82FA-A93B902C3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B298DC-7047-4D45-9C42-B9A492036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BE7530-DB60-43F4-B13C-01FA619CC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F15238-D4D4-4527-95C8-460C4A153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1291D-CFB8-4302-AFC0-A614C742B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A3BB58-5111-4240-AA09-2AF704544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F62236-B88C-4965-8117-58F32E6E4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A95BDB-999F-4C4F-AD78-C78E254AC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69FCE0-4463-469D-8389-6B3775E8E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CE5167-5858-4E97-AB22-3FC0E0AF3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590AB1-CE6E-4209-903B-39634A316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78F1D3-7CA1-4905-B386-436A40AD8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A22951-EE73-4845-9F32-4C66CD925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75D472-B813-473A-BEBF-2F87A4701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8736A8-6A95-4D69-85D6-B11FF106A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4853F-2F6B-4826-A55D-053FB4532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57993E-3E1A-4905-8EFA-E8BF6AB1C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70AF58-88B7-4365-B7E2-52A863008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D6FADF-0FDC-46EB-B464-CE143DFDC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2B4488-BE82-410F-A28F-6CF33053D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AB3FBE-D85C-4000-8C1E-186D194FA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0EAB9F-C05E-4DA6-8C90-2A902F73D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5C0ED7-ABDA-479E-A65B-0A6FB306E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62E240-DB40-4278-A0A0-8B43E7350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02F83C-7C90-4818-A733-6134ADA77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6E97CF-9E16-4F5E-AF05-914AAA6B3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B9A12-E617-4A08-B223-C588214D3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D7A23E-FE7E-4CF4-9211-58CAB30EC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05F699-14BD-45B7-8C61-166C65DEE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C30DE6-F47A-4BF7-9542-0C9552267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439122-0CFC-440B-83C6-5CF5522C0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B2EE21-9F84-43FE-9645-321332357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B8A688-0C6C-4CC2-8B57-20C262F3C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8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87EA7D-3522-42A1-944C-E905060FC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: ОП "Мой университет" - www.moi-universitet.r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BF563-49CC-42A2-930C-42DAF5BA97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: ОП "Мой университет" - www.moi-universitet.r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8D69E-0484-4971-B03C-8560DBC3EF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: ОП "Мой университет" - www.moi-universitet.r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9C0E0-5825-4465-AB96-124C5A35EC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83772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837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: ОП "Мой университет" - www.moi-universitet.r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171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B5550-D4DB-4005-9D96-72AAFA0D80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Автор: ОП "Мой университет" - www.moi-universitet.r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sldNum" idx="1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30CCA-E77F-44D9-AA4A-0361CD87E3F0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72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73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4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76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7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17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218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9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0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21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2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Автор: ОП "Мой университет" - www.moi-universitet.r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7FB1E-3A23-43B8-B4BD-CD97A28FF210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6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67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268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9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0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71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2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ftr" idx="20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Автор: ОП "Мой университет" - www.moi-universitet.r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sldNum" idx="21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2A133-C94E-403D-9CD0-02A0437770E9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 type="ftr" idx="23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Автор: ОП "Мой университет" - www.moi-universitet.r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 type="sldNum" idx="24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51405-D4C5-4CCE-ACDC-F22CA799F321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gif"/><Relationship Id="rId4" Type="http://schemas.openxmlformats.org/officeDocument/2006/relationships/image" Target="../media/image24.gif"/><Relationship Id="rId5" Type="http://schemas.openxmlformats.org/officeDocument/2006/relationships/image" Target="../media/image25.jpeg"/><Relationship Id="rId6" Type="http://schemas.openxmlformats.org/officeDocument/2006/relationships/image" Target="../media/image26.png"/><Relationship Id="rId7" Type="http://schemas.openxmlformats.org/officeDocument/2006/relationships/image" Target="../media/image27.jpeg"/><Relationship Id="rId8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br>
              <a:rPr sz="6000"/>
            </a:br>
            <a:endParaRPr b="0" lang="en-US" sz="6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457200" y="764640"/>
            <a:ext cx="8229600" cy="555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83763"/>
                </a:solidFill>
                <a:latin typeface="Constantia"/>
              </a:rPr>
              <a:t>«Технология модерации – технология  новых ФГОС»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1" name="Нижний колонтитул 3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2" name="Рисунок 7" descr="logotip_2.jpg"/>
          <p:cNvPicPr/>
          <p:nvPr/>
        </p:nvPicPr>
        <p:blipFill>
          <a:blip r:embed="rId1"/>
          <a:stretch/>
        </p:blipFill>
        <p:spPr>
          <a:xfrm>
            <a:off x="3419640" y="2637000"/>
            <a:ext cx="2303280" cy="290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Constantia"/>
              </a:rPr>
              <a:t>Структурированность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396" name="" descr=""/>
          <p:cNvPicPr/>
          <p:nvPr/>
        </p:nvPicPr>
        <p:blipFill>
          <a:blip r:embed="rId1"/>
          <a:stretch/>
        </p:blipFill>
        <p:spPr>
          <a:xfrm>
            <a:off x="457200" y="1934640"/>
            <a:ext cx="8229600" cy="4389480"/>
          </a:xfrm>
          <a:prstGeom prst="rect">
            <a:avLst/>
          </a:prstGeom>
          <a:ln w="0">
            <a:noFill/>
          </a:ln>
        </p:spPr>
      </p:pic>
      <p:sp>
        <p:nvSpPr>
          <p:cNvPr id="397" name="Нижний колонтитул 3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8" name="Picture 2" descr=""/>
          <p:cNvPicPr/>
          <p:nvPr/>
        </p:nvPicPr>
        <p:blipFill>
          <a:blip r:embed="rId2"/>
          <a:stretch/>
        </p:blipFill>
        <p:spPr>
          <a:xfrm>
            <a:off x="1835280" y="1773360"/>
            <a:ext cx="5473440" cy="43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420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Constantia"/>
              </a:rPr>
              <a:t>Фазы  (этапы) модерации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0" name="Нижний колонтитул 3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28" descr="image-gif?mode=obj;mbox=INBOX%26r%3D5abc;what=569"/>
          <p:cNvPicPr/>
          <p:nvPr/>
        </p:nvPicPr>
        <p:blipFill>
          <a:blip r:embed="rId1"/>
          <a:stretch/>
        </p:blipFill>
        <p:spPr>
          <a:xfrm>
            <a:off x="34920" y="1989000"/>
            <a:ext cx="9001080" cy="25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onstantia"/>
              </a:rPr>
              <a:t>Системность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3" name="Нижний колонтитул 3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Arial"/>
              </a:rPr>
              <a:t>Автор: ОП "Мой университет" - www.moi-universitet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4" name="Picture 4" descr="p8"/>
          <p:cNvPicPr/>
          <p:nvPr/>
        </p:nvPicPr>
        <p:blipFill>
          <a:blip r:embed="rId1"/>
          <a:stretch/>
        </p:blipFill>
        <p:spPr>
          <a:xfrm>
            <a:off x="684360" y="907920"/>
            <a:ext cx="777528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Constantia"/>
              </a:rPr>
              <a:t>Комплексность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457200" y="134136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7" name="Нижний колонтитул 3"/>
          <p:cNvSpPr/>
          <p:nvPr/>
        </p:nvSpPr>
        <p:spPr>
          <a:xfrm>
            <a:off x="2700360" y="6381720"/>
            <a:ext cx="3352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Овал 4"/>
          <p:cNvSpPr/>
          <p:nvPr/>
        </p:nvSpPr>
        <p:spPr>
          <a:xfrm>
            <a:off x="1687680" y="1341360"/>
            <a:ext cx="6048360" cy="1800360"/>
          </a:xfrm>
          <a:prstGeom prst="ellipse">
            <a:avLst/>
          </a:prstGeom>
          <a:solidFill>
            <a:srgbClr val="dbf5f9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Применение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комплекса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ключевых  процессов модерации в 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Стрелка вниз 6"/>
          <p:cNvSpPr/>
          <p:nvPr/>
        </p:nvSpPr>
        <p:spPr>
          <a:xfrm>
            <a:off x="4572000" y="3182760"/>
            <a:ext cx="484200" cy="978120"/>
          </a:xfrm>
          <a:prstGeom prst="downArrow">
            <a:avLst>
              <a:gd name="adj1" fmla="val 50000"/>
              <a:gd name="adj2" fmla="val 50006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Овал 10"/>
          <p:cNvSpPr/>
          <p:nvPr/>
        </p:nvSpPr>
        <p:spPr>
          <a:xfrm>
            <a:off x="1687680" y="4221000"/>
            <a:ext cx="6048360" cy="2232360"/>
          </a:xfrm>
          <a:prstGeom prst="ellipse">
            <a:avLst/>
          </a:prstGeom>
          <a:solidFill>
            <a:srgbClr val="dbf5f9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Формирование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комплекса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образовательных эффек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(предметные, метапредметные, личностные результаты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onstantia"/>
              </a:rPr>
              <a:t>Прозрачность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412" name="" descr=""/>
          <p:cNvPicPr/>
          <p:nvPr/>
        </p:nvPicPr>
        <p:blipFill>
          <a:blip r:embed="rId1"/>
          <a:stretch/>
        </p:blipFill>
        <p:spPr>
          <a:xfrm>
            <a:off x="457200" y="1934640"/>
            <a:ext cx="8229600" cy="4389480"/>
          </a:xfrm>
          <a:prstGeom prst="rect">
            <a:avLst/>
          </a:prstGeom>
          <a:ln w="0">
            <a:noFill/>
          </a:ln>
        </p:spPr>
      </p:pic>
      <p:sp>
        <p:nvSpPr>
          <p:cNvPr id="413" name="Нижний колонтитул 3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4" name="Picture 5" descr=""/>
          <p:cNvPicPr/>
          <p:nvPr/>
        </p:nvPicPr>
        <p:blipFill>
          <a:blip r:embed="rId2"/>
          <a:stretch/>
        </p:blipFill>
        <p:spPr>
          <a:xfrm>
            <a:off x="1714680" y="1844640"/>
            <a:ext cx="571500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onstantia"/>
              </a:rPr>
              <a:t>Ключевые процессы модерации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6" name="Нижний колонтитул 3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Picture 3" descr="image-jpeg?mode=obj;mbox=INBOX%26r%3D5abc;what=569"/>
          <p:cNvPicPr/>
          <p:nvPr/>
        </p:nvPicPr>
        <p:blipFill>
          <a:blip r:embed="rId1"/>
          <a:stretch/>
        </p:blipFill>
        <p:spPr>
          <a:xfrm>
            <a:off x="395280" y="1886040"/>
            <a:ext cx="1905120" cy="1790640"/>
          </a:xfrm>
          <a:prstGeom prst="rect">
            <a:avLst/>
          </a:prstGeom>
          <a:ln w="0">
            <a:noFill/>
          </a:ln>
        </p:spPr>
      </p:pic>
      <p:sp>
        <p:nvSpPr>
          <p:cNvPr id="418" name="TextBox 5"/>
          <p:cNvSpPr/>
          <p:nvPr/>
        </p:nvSpPr>
        <p:spPr>
          <a:xfrm>
            <a:off x="395280" y="1484280"/>
            <a:ext cx="24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Constantia"/>
              </a:rPr>
              <a:t>Интеракция</a:t>
            </a:r>
            <a:r>
              <a:rPr b="0" i="1" lang="ru-RU" sz="2000" spc="-1" strike="noStrike">
                <a:solidFill>
                  <a:srgbClr val="c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9" name="Picture 4" descr="image-jpeg?mode=obj;mbox=INBOX%26r%3D5abc;what=569"/>
          <p:cNvPicPr/>
          <p:nvPr/>
        </p:nvPicPr>
        <p:blipFill>
          <a:blip r:embed="rId2"/>
          <a:stretch/>
        </p:blipFill>
        <p:spPr>
          <a:xfrm>
            <a:off x="2660760" y="2127240"/>
            <a:ext cx="2087280" cy="155736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6" descr="image-gif?mode=obj;mbox=INBOX%26r%3D5abc;what=569"/>
          <p:cNvPicPr/>
          <p:nvPr/>
        </p:nvPicPr>
        <p:blipFill>
          <a:blip r:embed="rId3"/>
          <a:stretch/>
        </p:blipFill>
        <p:spPr>
          <a:xfrm>
            <a:off x="6948360" y="2301840"/>
            <a:ext cx="1911600" cy="177660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5" descr="image-gif?mode=obj;mbox=INBOX%26r%3D5abc;what=569"/>
          <p:cNvPicPr/>
          <p:nvPr/>
        </p:nvPicPr>
        <p:blipFill>
          <a:blip r:embed="rId4"/>
          <a:stretch/>
        </p:blipFill>
        <p:spPr>
          <a:xfrm>
            <a:off x="128520" y="4681440"/>
            <a:ext cx="1913040" cy="19288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9" descr="image-jpeg?mode=obj;mbox=INBOX%26r%3D5abc;what=569"/>
          <p:cNvPicPr/>
          <p:nvPr/>
        </p:nvPicPr>
        <p:blipFill>
          <a:blip r:embed="rId5"/>
          <a:stretch/>
        </p:blipFill>
        <p:spPr>
          <a:xfrm>
            <a:off x="6732720" y="4786200"/>
            <a:ext cx="1785960" cy="143856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7" descr="image-gif?mode=obj;mbox=INBOX%26r%3D5abc;what=569"/>
          <p:cNvPicPr/>
          <p:nvPr/>
        </p:nvPicPr>
        <p:blipFill>
          <a:blip r:embed="rId6"/>
          <a:stretch/>
        </p:blipFill>
        <p:spPr>
          <a:xfrm>
            <a:off x="5087880" y="3506760"/>
            <a:ext cx="1295280" cy="117468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8" descr="image-jpeg?mode=obj;mbox=INBOX%26r%3D5abc;what=569"/>
          <p:cNvPicPr/>
          <p:nvPr/>
        </p:nvPicPr>
        <p:blipFill>
          <a:blip r:embed="rId7"/>
          <a:stretch/>
        </p:blipFill>
        <p:spPr>
          <a:xfrm>
            <a:off x="2895480" y="4738680"/>
            <a:ext cx="1905120" cy="1390680"/>
          </a:xfrm>
          <a:prstGeom prst="rect">
            <a:avLst/>
          </a:prstGeom>
          <a:ln w="0">
            <a:noFill/>
          </a:ln>
        </p:spPr>
      </p:pic>
      <p:sp>
        <p:nvSpPr>
          <p:cNvPr id="425" name="TextBox 12"/>
          <p:cNvSpPr/>
          <p:nvPr/>
        </p:nvSpPr>
        <p:spPr>
          <a:xfrm>
            <a:off x="2771640" y="1569960"/>
            <a:ext cx="2116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Constantia"/>
              </a:rPr>
              <a:t>Коммуника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Box 13"/>
          <p:cNvSpPr/>
          <p:nvPr/>
        </p:nvSpPr>
        <p:spPr>
          <a:xfrm>
            <a:off x="6948360" y="1635120"/>
            <a:ext cx="180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Constantia"/>
              </a:rPr>
              <a:t>Мотива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Box 14"/>
          <p:cNvSpPr/>
          <p:nvPr/>
        </p:nvSpPr>
        <p:spPr>
          <a:xfrm>
            <a:off x="468360" y="4149720"/>
            <a:ext cx="194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Constantia"/>
              </a:rPr>
              <a:t>Визуализа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Box 15"/>
          <p:cNvSpPr/>
          <p:nvPr/>
        </p:nvSpPr>
        <p:spPr>
          <a:xfrm>
            <a:off x="2895480" y="4149720"/>
            <a:ext cx="188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Constantia"/>
              </a:rPr>
              <a:t>Рефлекс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Box 18"/>
          <p:cNvSpPr/>
          <p:nvPr/>
        </p:nvSpPr>
        <p:spPr>
          <a:xfrm>
            <a:off x="4800600" y="2989440"/>
            <a:ext cx="1932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Constantia"/>
              </a:rPr>
              <a:t>Мониторин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Box 19"/>
          <p:cNvSpPr/>
          <p:nvPr/>
        </p:nvSpPr>
        <p:spPr>
          <a:xfrm>
            <a:off x="6516720" y="4379760"/>
            <a:ext cx="2282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Constantia"/>
              </a:rPr>
              <a:t>Анализ и оцен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alibri"/>
              </a:rPr>
              <a:t>Проблемы образования: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457200" y="134136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83763"/>
                </a:solidFill>
                <a:latin typeface="Constantia"/>
              </a:rPr>
              <a:t>Низкая мотивация 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83763"/>
                </a:solidFill>
                <a:latin typeface="Constantia"/>
              </a:rPr>
              <a:t>(</a:t>
            </a:r>
            <a:r>
              <a:rPr b="0" i="1" lang="ru-RU" sz="3600" spc="-1" strike="noStrike">
                <a:solidFill>
                  <a:srgbClr val="083763"/>
                </a:solidFill>
                <a:latin typeface="Constantia"/>
              </a:rPr>
              <a:t>ученика и учителя</a:t>
            </a:r>
            <a:r>
              <a:rPr b="1" i="1" lang="ru-RU" sz="3600" spc="-1" strike="noStrike">
                <a:solidFill>
                  <a:srgbClr val="083763"/>
                </a:solidFill>
                <a:latin typeface="Constantia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5" name="Нижний колонтитул 3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6" name="Picture 2" descr=""/>
          <p:cNvPicPr/>
          <p:nvPr/>
        </p:nvPicPr>
        <p:blipFill>
          <a:blip r:embed="rId1"/>
          <a:stretch/>
        </p:blipFill>
        <p:spPr>
          <a:xfrm>
            <a:off x="2340000" y="2631960"/>
            <a:ext cx="4319640" cy="35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457200" y="836640"/>
            <a:ext cx="8229600" cy="54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83763"/>
                </a:solidFill>
                <a:latin typeface="Constantia"/>
              </a:rPr>
              <a:t>Сложность в управлении класса(группы)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9" name="Нижний колонтитул 3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457200" y="148392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4617b"/>
                </a:solidFill>
                <a:latin typeface="Constantia"/>
              </a:rPr>
              <a:t>Содержание образования –это король, а технологии образования – это Бог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nstantia"/>
              </a:rPr>
              <a:t>В.П. Тихомиров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2" name="Нижний колонтитул 3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3" name="Picture 2" descr=""/>
          <p:cNvPicPr/>
          <p:nvPr/>
        </p:nvPicPr>
        <p:blipFill>
          <a:blip r:embed="rId1"/>
          <a:stretch/>
        </p:blipFill>
        <p:spPr>
          <a:xfrm>
            <a:off x="1835280" y="3213000"/>
            <a:ext cx="258120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457200" y="1934640"/>
            <a:ext cx="8229600" cy="4389480"/>
          </a:xfrm>
          <a:prstGeom prst="rect">
            <a:avLst/>
          </a:prstGeom>
          <a:ln w="0">
            <a:noFill/>
          </a:ln>
        </p:spPr>
      </p:pic>
      <p:sp>
        <p:nvSpPr>
          <p:cNvPr id="376" name="Нижний колонтитул 3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Овал 4" descr=""/>
          <p:cNvPicPr/>
          <p:nvPr/>
        </p:nvPicPr>
        <p:blipFill>
          <a:blip r:embed="rId2"/>
          <a:stretch/>
        </p:blipFill>
        <p:spPr>
          <a:xfrm>
            <a:off x="2060640" y="774720"/>
            <a:ext cx="5095800" cy="2809800"/>
          </a:xfrm>
          <a:prstGeom prst="rect">
            <a:avLst/>
          </a:prstGeom>
          <a:ln w="0">
            <a:noFill/>
          </a:ln>
        </p:spPr>
      </p:pic>
      <p:cxnSp>
        <p:nvCxnSpPr>
          <p:cNvPr id="378" name="Прямая со стрелкой 13"/>
          <p:cNvCxnSpPr/>
          <p:nvPr/>
        </p:nvCxnSpPr>
        <p:spPr>
          <a:xfrm>
            <a:off x="5572080" y="3571560"/>
            <a:ext cx="1000800" cy="857880"/>
          </a:xfrm>
          <a:prstGeom prst="straightConnector1">
            <a:avLst/>
          </a:prstGeom>
          <a:ln w="9360">
            <a:solidFill>
              <a:srgbClr val="065093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379" name="Прямая со стрелкой 15"/>
          <p:cNvCxnSpPr/>
          <p:nvPr/>
        </p:nvCxnSpPr>
        <p:spPr>
          <a:xfrm flipH="1">
            <a:off x="2626920" y="3574080"/>
            <a:ext cx="1000800" cy="786600"/>
          </a:xfrm>
          <a:prstGeom prst="straightConnector1">
            <a:avLst/>
          </a:prstGeom>
          <a:ln w="9360">
            <a:solidFill>
              <a:srgbClr val="065093"/>
            </a:solidFill>
            <a:miter/>
            <a:headEnd len="med" type="arrow" w="med"/>
            <a:tailEnd len="med" type="arrow" w="med"/>
          </a:ln>
        </p:spPr>
      </p:cxnSp>
      <p:sp>
        <p:nvSpPr>
          <p:cNvPr id="380" name="Овал 21"/>
          <p:cNvSpPr/>
          <p:nvPr/>
        </p:nvSpPr>
        <p:spPr>
          <a:xfrm>
            <a:off x="468360" y="4429080"/>
            <a:ext cx="3887640" cy="1592280"/>
          </a:xfrm>
          <a:prstGeom prst="ellipse">
            <a:avLst/>
          </a:prstGeom>
          <a:solidFill>
            <a:srgbClr val="ffccff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83763"/>
                </a:solidFill>
                <a:latin typeface="Constantia"/>
              </a:rPr>
              <a:t>Интенсификация О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Овал 23"/>
          <p:cNvSpPr/>
          <p:nvPr/>
        </p:nvSpPr>
        <p:spPr>
          <a:xfrm>
            <a:off x="4857840" y="4508640"/>
            <a:ext cx="3601800" cy="1512720"/>
          </a:xfrm>
          <a:prstGeom prst="ellipse">
            <a:avLst/>
          </a:prstGeom>
          <a:solidFill>
            <a:srgbClr val="ffccff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83763"/>
                </a:solidFill>
                <a:latin typeface="Constantia"/>
              </a:rPr>
              <a:t>Повышение эффективности управления О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4617b"/>
                </a:solidFill>
                <a:latin typeface="Constantia"/>
              </a:rPr>
              <a:t>Что такое модерация?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Moderare</a:t>
            </a:r>
            <a:r>
              <a:rPr b="1" i="1" lang="ru-RU" sz="3200" spc="-1" strike="noStrike">
                <a:solidFill>
                  <a:srgbClr val="000000"/>
                </a:solidFill>
                <a:latin typeface="Constantia"/>
              </a:rPr>
              <a:t> – в переводе с латинского – приводить в равновесие, управлять, регулировать.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4" name="Нижний колонтитул 3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Picture 5" descr=""/>
          <p:cNvPicPr/>
          <p:nvPr/>
        </p:nvPicPr>
        <p:blipFill>
          <a:blip r:embed="rId1"/>
          <a:stretch/>
        </p:blipFill>
        <p:spPr>
          <a:xfrm>
            <a:off x="4284720" y="3573360"/>
            <a:ext cx="338292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08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Constantia"/>
              </a:rPr>
              <a:t>Особенности технологии</a:t>
            </a:r>
            <a:r>
              <a:rPr b="0" lang="ru-RU" sz="3600" spc="-1" strike="noStrike">
                <a:solidFill>
                  <a:srgbClr val="002060"/>
                </a:solidFill>
                <a:latin typeface="Constantia"/>
              </a:rPr>
              <a:t>: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Учет и развитие индивидуальных способностей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Активизация поисковой, аналитической и рефлексивной деятельности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Формирование исследовательских и проектных умений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Развитие коммуникативности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8" name="Нижний колонтитул 3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57200" y="1267920"/>
            <a:ext cx="8229600" cy="505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c00000"/>
                </a:solidFill>
                <a:uFillTx/>
                <a:latin typeface="Constantia"/>
              </a:rPr>
              <a:t>Модерация</a:t>
            </a:r>
            <a:r>
              <a:rPr b="1" lang="ru-RU" sz="2600" spc="-1" strike="noStrike">
                <a:solidFill>
                  <a:srgbClr val="c00000"/>
                </a:solidFill>
                <a:latin typeface="Constantia"/>
              </a:rPr>
              <a:t> 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– это образовательная технология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2060"/>
                </a:solidFill>
                <a:latin typeface="Constantia"/>
              </a:rPr>
              <a:t>обеспечивающая комплексность и эффективность протекающих в ходе образовательного мероприятия процессов, необходимых для выполнения требований новых ФГОС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2060"/>
                </a:solidFill>
                <a:latin typeface="Constantia"/>
              </a:rPr>
              <a:t>позволяющая педагогу уверенно управлять этими процессами и гарантированно достигать запланированных результатов образовательного мероприятия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1" name="Нижний колонтитул 3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3" name="Нижний колонтитул 3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Arial"/>
              </a:rPr>
              <a:t>Автор: ОП "Мой университет" - www.moi-universitet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4" name="Picture 31" descr="image-gif?mode=obj;mbox=INBOX%26r%3D5abc;what=569"/>
          <p:cNvPicPr/>
          <p:nvPr/>
        </p:nvPicPr>
        <p:blipFill>
          <a:blip r:embed="rId1"/>
          <a:stretch/>
        </p:blipFill>
        <p:spPr>
          <a:xfrm>
            <a:off x="539640" y="907920"/>
            <a:ext cx="8209080" cy="58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5T19:37:39Z</dcterms:created>
  <dc:creator>Irina</dc:creator>
  <dc:description/>
  <dc:language>en-US</dc:language>
  <cp:lastModifiedBy>комп</cp:lastModifiedBy>
  <dcterms:modified xsi:type="dcterms:W3CDTF">2015-01-21T15:31:21Z</dcterms:modified>
  <cp:revision>76</cp:revision>
  <dc:subject/>
  <dc:title>Образовательный портал «Мой университет»</dc:title>
</cp:coreProperties>
</file>