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7A6-98A4-4AEC-8F79-BC709F4B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7B9C-EC59-4BF2-B885-1C7E3921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699D-5811-45FD-8E07-8D6FA369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22A-8D49-42BC-8014-E8ABF8A4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608-FE35-477C-A977-D2E2E80C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3F22-D533-474B-A947-B0D6A315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6ED-420C-4BF8-A83D-DA301C72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2B68-E595-4C7F-ADE1-8991496E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79E-7D8F-471E-AEF3-81FF51F8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A4A6-7863-497C-9419-00151535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9FB4-E39A-4E8A-8623-8B95C2D5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C0A-9CEC-4E10-8796-B7334126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4FF9-6200-4249-BD6C-C8F141787D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точники звука. Звуковые колебания. Высота и тембр звука. Громкость зву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56000" y="2222640"/>
            <a:ext cx="59036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ом образования звуковых волн в воздухе является образование грома при грозовых разряд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Звуковые волны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родольные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, они образуются при деформациях сжатия-растяж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любых средах: жидкость, твердое тело,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0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792000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просы для повтор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представляют собой звуковые вол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является источником зву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ва частота воспринимаемая челове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П.п. 34,35,36 упр.3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от удивительный Генрих Гер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бытовые приборы имеют пометку 50 Hz. Однако мало кто знает, что так обозначается частота колебания электромагнитных волн, которые были открыты величайшим немецким физиком Генрихом Герцем. В его честь и названа единица изме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13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4348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995280" y="549360"/>
            <a:ext cx="46911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дел механики, изучающий звуковые волны называется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акуст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51280" y="2997000"/>
            <a:ext cx="483552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бое тело, совершающее колебания с частотой от 20 Гц до 20000 Гц порождает возникновение звуковых волн, и называется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источником зв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512880" cy="61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ханические волны занимают очень широкий диапазон по частоте колебаний. Он условно занимает частотный спектр от 0 до 200 кГ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пругие волны, которые воспринимаются человеческим ухом, называются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звуков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7632720" cy="399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вуковые волны с частотами от 16 до 2*104 Гц воздействуют на органы слуха человека, вызывают слуховые ощущения и называютс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ышимы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вуками. Звуковые волны с частотами менее 16 Гц называются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инфразвук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а с частотами более 2*104 Гц –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ультразвук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к воспринимает звуки в широком диапазоне - от низкого тона (гудение) до высокого (пис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Высота звука определяется частотой, которую измеряют в герцах - по числу колебаний звуковой волны, совершаемых за 1 с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 ростом частоты высота звука увеличивается, т.е. чем больше частота, тем выше звук, и наоборот, чем меньше частота, тем ниже зв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лодые люди обычно воспринимают звуки частотой от 20 до 20 000 Гц. С возрастом слух ухудшается, и пожилые люди высоких звуков не слышат - диапазон воспринимаемых ими звуковых частот не превышает 12 000 Гц. Некоторые млекопитающие способны воспринимать частоты, недоступные для человека. Летучие мыши, например, слышат звуки в диапазоне от 1000 до 120 000 Гц, а кошки - от 60 до 65 000 Г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Естественные и искусственные источники зв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мерто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 изобретен в начал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 для настройки музыкальных инстру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"/>
          <p:cNvPicPr/>
          <p:nvPr/>
        </p:nvPicPr>
        <p:blipFill>
          <a:blip r:embed="rId2"/>
          <a:stretch/>
        </p:blipFill>
        <p:spPr>
          <a:xfrm>
            <a:off x="4533840" y="1413000"/>
            <a:ext cx="43974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6877080" y="4149720"/>
            <a:ext cx="2108160" cy="2519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229600" cy="603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ть образования звуковой волны камертоном заключается в том, что при ударе по одной его ветви, вторая ветвь тоже начинает колебаться. Для усиления звуковых волн ветви камертона часто укрепляют на резонаторном ящике, который открыт с одного торца. Стандартный камертон выдает волны с частотой 440 Г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вук камертона является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чистым то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Чистым тоном называется звук источника, совершающего гармонические колебания одной част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читать п.35 с.1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обертон и тембр зв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6:21:28Z</dcterms:created>
  <dc:creator>1</dc:creator>
  <dc:description/>
  <dc:language>en-US</dc:language>
  <cp:lastModifiedBy>1</cp:lastModifiedBy>
  <dcterms:modified xsi:type="dcterms:W3CDTF">2009-01-14T17:43:12Z</dcterms:modified>
  <cp:revision>3</cp:revision>
  <dc:subject/>
  <dc:title>  Источники звука. Звуковые колебания. Высота и тембр звука. Громкость звука. </dc:title>
</cp:coreProperties>
</file>