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D7EF-BCDF-465A-BB93-44688137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2DF7-2718-4B03-A474-56C1870C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B87A-1934-41A6-81E9-AA33EC5A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9E99-D631-448F-AA60-1941583B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651D-7CA9-403D-8CF9-E1F43AAC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BD24-8B8B-4D98-90C6-3146D5DF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FD0B-E54D-4209-8907-0C4E7E41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AD9F-8A8A-4017-912D-DB24E132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857A-13CB-4E56-9AA2-445DB5CF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DA44-E2B1-4360-BD1D-16094A2A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3C92-7F5E-427A-94DE-E14520B5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88A8-A36F-4C8D-AA10-CD42C65E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B6CD-22E2-4FD2-9D4E-6F83050C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C7AC-B821-44E5-B4A3-1CABBE85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6FF2-A37A-4C75-906B-A007AB50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D0AC-87A5-45CD-8E54-6005E07E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A3B5-A2C6-407B-8167-CE981161A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6FF3-3931-45C4-AD24-AFB7253D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1AA6-F948-4876-973B-F51E79CF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CE2E-BC58-4757-8664-68B4FE15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8C5D-2396-4E61-842E-45B92C7B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68B5-9C58-42A9-A266-342B53D4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2094-780F-40CC-B50D-5B176111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7AE9-7432-46CD-AD26-99C83F7C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46DB-51C4-4F71-A307-E0F18A3EC9B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A916-F96B-481E-AABF-B6FBA943033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16"/>
          <p:cNvSpPr txBox="1"/>
          <p:nvPr/>
        </p:nvSpPr>
        <p:spPr>
          <a:xfrm>
            <a:off x="3048120" y="685800"/>
            <a:ext cx="3429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ЕКТ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WordArt 15"/>
          <p:cNvSpPr txBox="1"/>
          <p:nvPr/>
        </p:nvSpPr>
        <p:spPr>
          <a:xfrm>
            <a:off x="1905120" y="2514600"/>
            <a:ext cx="5638680" cy="1600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етско-взросл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WordArt 14"/>
          <p:cNvSpPr txBox="1"/>
          <p:nvPr/>
        </p:nvSpPr>
        <p:spPr>
          <a:xfrm>
            <a:off x="3429000" y="3200400"/>
            <a:ext cx="274320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луб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2" name="WordArt 13"/>
          <p:cNvSpPr txBox="1"/>
          <p:nvPr/>
        </p:nvSpPr>
        <p:spPr>
          <a:xfrm>
            <a:off x="1981080" y="4114800"/>
            <a:ext cx="55627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Мастерим вместе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0" y="33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0" y="38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Заседание клуба </a:t>
            </a:r>
            <a:br>
              <a:rPr sz="4400"/>
            </a:b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тема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«Зимующие птицы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6" name="Содержимое 4" descr="SDC11670.JPG"/>
          <p:cNvPicPr/>
          <p:nvPr/>
        </p:nvPicPr>
        <p:blipFill>
          <a:blip r:embed="rId1"/>
          <a:stretch/>
        </p:blipFill>
        <p:spPr>
          <a:xfrm>
            <a:off x="1066680" y="2652840"/>
            <a:ext cx="3695760" cy="2771640"/>
          </a:xfrm>
          <a:prstGeom prst="rect">
            <a:avLst/>
          </a:prstGeom>
          <a:ln w="0">
            <a:noFill/>
          </a:ln>
        </p:spPr>
      </p:pic>
      <p:pic>
        <p:nvPicPr>
          <p:cNvPr id="137" name="Содержимое 5" descr="SDC11673.JPG"/>
          <p:cNvPicPr/>
          <p:nvPr/>
        </p:nvPicPr>
        <p:blipFill>
          <a:blip r:embed="rId2"/>
          <a:stretch/>
        </p:blipFill>
        <p:spPr>
          <a:xfrm>
            <a:off x="4915080" y="2652840"/>
            <a:ext cx="369540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Заседание клуба </a:t>
            </a:r>
            <a:br>
              <a:rPr sz="4400"/>
            </a:b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тема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«Зимующие птицы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9" name="Содержимое 4" descr="SDC11674.JPG"/>
          <p:cNvPicPr/>
          <p:nvPr/>
        </p:nvPicPr>
        <p:blipFill>
          <a:blip r:embed="rId1"/>
          <a:stretch/>
        </p:blipFill>
        <p:spPr>
          <a:xfrm>
            <a:off x="1066680" y="2652840"/>
            <a:ext cx="3695760" cy="2771640"/>
          </a:xfrm>
          <a:prstGeom prst="rect">
            <a:avLst/>
          </a:prstGeom>
          <a:ln w="0">
            <a:noFill/>
          </a:ln>
        </p:spPr>
      </p:pic>
      <p:pic>
        <p:nvPicPr>
          <p:cNvPr id="140" name="Содержимое 5" descr="SDC11688.JPG"/>
          <p:cNvPicPr/>
          <p:nvPr/>
        </p:nvPicPr>
        <p:blipFill>
          <a:blip r:embed="rId2"/>
          <a:stretch/>
        </p:blipFill>
        <p:spPr>
          <a:xfrm>
            <a:off x="4915080" y="2652840"/>
            <a:ext cx="369540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спользование поделок в оформление групп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2" name="Содержимое 4" descr="SDC11654.JPG"/>
          <p:cNvPicPr/>
          <p:nvPr/>
        </p:nvPicPr>
        <p:blipFill>
          <a:blip r:embed="rId1"/>
          <a:stretch/>
        </p:blipFill>
        <p:spPr>
          <a:xfrm>
            <a:off x="1066680" y="2057400"/>
            <a:ext cx="3695760" cy="3886200"/>
          </a:xfrm>
          <a:prstGeom prst="rect">
            <a:avLst/>
          </a:prstGeom>
          <a:ln w="0">
            <a:noFill/>
          </a:ln>
        </p:spPr>
      </p:pic>
      <p:pic>
        <p:nvPicPr>
          <p:cNvPr id="143" name="Содержимое 5" descr="SDC10473.JPG"/>
          <p:cNvPicPr/>
          <p:nvPr/>
        </p:nvPicPr>
        <p:blipFill>
          <a:blip r:embed="rId2"/>
          <a:stretch/>
        </p:blipFill>
        <p:spPr>
          <a:xfrm>
            <a:off x="521964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    </a:t>
            </a:r>
            <a:r>
              <a:rPr b="1" lang="ru-RU" sz="5400" spc="-1" strike="noStrike">
                <a:solidFill>
                  <a:srgbClr val="99ccff"/>
                </a:solidFill>
                <a:latin typeface="Tahoma"/>
              </a:rPr>
              <a:t>Цель проекта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дание детско-взрослого клуба на основе творческого взаимодействия «Воспитатель – ребенок - родител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ff"/>
                </a:solidFill>
                <a:latin typeface="Tahoma"/>
              </a:rPr>
              <a:t>            </a:t>
            </a:r>
            <a:r>
              <a:rPr b="1" lang="ru-RU" sz="4800" spc="-1" strike="noStrike">
                <a:solidFill>
                  <a:srgbClr val="99ccff"/>
                </a:solidFill>
                <a:latin typeface="Tahoma"/>
              </a:rPr>
              <a:t>Задачи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овать креативные способности родителей в воспитательном процесс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влечь детей и родителей в творческий поиск по созданию предметно-развивающей среды ДО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вать трудовые и коммуникативные умения воспитанни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сить уровень профессионального мастерства педагогов и  педагогическую компетентность  родите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ствовать повышению родительского авторитета в глазах детей, укреплению семейных взаимоотнош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ff"/>
                </a:solidFill>
                <a:latin typeface="Tahoma"/>
              </a:rPr>
              <a:t>               </a:t>
            </a:r>
            <a:r>
              <a:rPr b="1" lang="ru-RU" sz="3200" spc="-1" strike="noStrike">
                <a:solidFill>
                  <a:srgbClr val="99ccff"/>
                </a:solidFill>
                <a:latin typeface="Tahoma"/>
              </a:rPr>
              <a:t>Финансовые затраты,     необходимые для реализации проект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1981080"/>
          <a:ext cx="7543800" cy="4389480"/>
        </p:xfrm>
        <a:graphic>
          <a:graphicData uri="http://schemas.openxmlformats.org/drawingml/2006/table">
            <a:tbl>
              <a:tblPr/>
              <a:tblGrid>
                <a:gridCol w="652680"/>
                <a:gridCol w="4681440"/>
                <a:gridCol w="22096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оимость (руб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тодическая и специальная литера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ные материалы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клей П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карто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цветная бумаг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разноцветные ленточ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бусинки, бисе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гуаш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ки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самоклеющаяся бумаг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ватм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фотобумаг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пластили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ножниц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скотч двусторон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линей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пинц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салфет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нитки для вязания (голубого, розового и белого цветов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гофрированная бумаг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Уголок для творческой  деятельн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4" name="Таблица 3" descr="SDC11561.JPG"/>
          <p:cNvPicPr/>
          <p:nvPr/>
        </p:nvPicPr>
        <p:blipFill>
          <a:blip r:embed="rId1"/>
          <a:stretch/>
        </p:blipFill>
        <p:spPr>
          <a:xfrm>
            <a:off x="209556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ловарь для дете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Акварель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аски на растительном клее, которые разводятся вод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Аппликация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 получения изображения, заключающийся в накладывании, наклеивании или нашивании на какую-либо основу разных по цвету кусков бумаги, картона, ткани и других материал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Бумага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атериал для письма, графических и живописных работ, художественных и бытовых издел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Гуашь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прозрачная (корпусная, кроющая) краска, которая разводится вод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Карандаш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дин из основных материалов и одновременно инструментов изобразительного искусства, представляет собой тонкий стержень из красящего вещества в оправе (деревянный, металлический, пластиковый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Картина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анковое произведение живописи, имеющее самостоятельное значе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Картинная галерея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удожественный музей, в котором экспонируются исключительно или преимущественно произведения живопис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Кисть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струмент художника, главным образом живописца, представляющий собой ручку с ворсом на конц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Контур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образительное средство в виде ограничивающей формы лин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Лепка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сс создания скульптурного произведения, связанный с работой над мягким пластичным материалом – глиной, пластилином, воско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Мозаик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– один из видов монументального искусства. В мозаике изображение и орнамент составляются из кусочков разноцветных натуральных камней, стекла (смальты), керамики, дерева и других материал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Музей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учно-исследовательск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06632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 научно-просветительское учреждение, осуществляющее комплектование, хранение, изучение, экспонирование и популяризацию произведений искусства, памятников археологии, истории и п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рнамент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зор, построенный на ритмическом чередовании и организованном расположении элемент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алитра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большая тонкая доска прямоугольной или овальной формы, на которой художник смешивает краск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анно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ртина или рельеф, предназначенные для постоянного или временного украшения стены или потол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астель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мягкие цветные палочки – карандаши, изготовленные из пигментов, мела и связующих вещест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ейзаж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ид, изображения какой-либо местности, в которой основной предмет изображения – приро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Рисунок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новидность художественной графики, основанная на технических средствах и возможности рисования. В отличие от живописи, рисунок исполняется преимущественно твердым красящим веществом (карандаш, уголь, сангина и др.), как правило посредством штриха и лин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тека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струмент скульптора при лепке из глины, воска и других мягких материалов: небольшая деревянная, пластмассовая или металлическая изогнутая палочка, с расширенными в виде лопаточки концами – прямыми или скошенными, напоминающими нож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Тушь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рная или цветная крас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Фольга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нкие листы или ленты из различных металлов и сплав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Фломастер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струмент в виде ручки для рисования и оформительских работ на бумаге, стекле, картоне, дереве и т.п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Фон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юбая среда или плоскость, находящаяся за объектом изображ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Шаблон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форма, по которой вырезаются отдельные детали или предме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ловарь для детей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ервое заседание клуба «Мастерим вместе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0" name="Содержимое 4" descr="SDC11154.JPG"/>
          <p:cNvPicPr/>
          <p:nvPr/>
        </p:nvPicPr>
        <p:blipFill>
          <a:blip r:embed="rId1"/>
          <a:stretch/>
        </p:blipFill>
        <p:spPr>
          <a:xfrm>
            <a:off x="1066680" y="2652840"/>
            <a:ext cx="3695760" cy="277164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5" descr="SDC11159.JPG"/>
          <p:cNvPicPr/>
          <p:nvPr/>
        </p:nvPicPr>
        <p:blipFill>
          <a:blip r:embed="rId2"/>
          <a:stretch/>
        </p:blipFill>
        <p:spPr>
          <a:xfrm>
            <a:off x="4915080" y="2652840"/>
            <a:ext cx="369540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Заседание клуба </a:t>
            </a:r>
            <a:br>
              <a:rPr sz="3600"/>
            </a:b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тема «Красивая рамка своими руками»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3" name="Содержимое 4" descr="SDC11588.JPG"/>
          <p:cNvPicPr/>
          <p:nvPr/>
        </p:nvPicPr>
        <p:blipFill>
          <a:blip r:embed="rId1"/>
          <a:stretch/>
        </p:blipFill>
        <p:spPr>
          <a:xfrm>
            <a:off x="1066680" y="2590920"/>
            <a:ext cx="3695760" cy="2771640"/>
          </a:xfrm>
          <a:prstGeom prst="rect">
            <a:avLst/>
          </a:prstGeom>
          <a:ln w="0">
            <a:noFill/>
          </a:ln>
        </p:spPr>
      </p:pic>
      <p:pic>
        <p:nvPicPr>
          <p:cNvPr id="134" name="Содержимое 5" descr="SDC11591.JPG"/>
          <p:cNvPicPr/>
          <p:nvPr/>
        </p:nvPicPr>
        <p:blipFill>
          <a:blip r:embed="rId2"/>
          <a:stretch/>
        </p:blipFill>
        <p:spPr>
          <a:xfrm>
            <a:off x="4915080" y="2652840"/>
            <a:ext cx="369540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5-01-21T05:56:3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