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24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C7A-603F-47C8-98ED-BB83C112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909-3C0F-4629-A5D7-4A83932E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3B5-8B75-41C2-9319-327427E4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D04-8B05-4FFE-92B3-866DAD37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3729-8E96-479D-B4A1-A8F6F5F1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1C46-7934-452A-8225-9887971C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6E77-538C-4234-AB77-F090CFEA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236C-BCA9-44F3-9CD0-507D3AE3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60C1-11A7-47F3-A5FB-E752BA68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6662-67ED-4CDC-A698-ABF77F9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607F-A636-4ADF-889F-D891C18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BAC-FCDF-420E-9F2A-E2261516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2A8F-EBFF-410C-9E90-DAFF13F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1978-1413-4B82-BB6E-F648AFE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5A8D-88CA-4862-8D13-8E53656D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363E-1007-4DF2-8745-B1BDEF71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C7DF-71BA-4BDD-8590-B9956CE0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10B-C7CB-4A8F-9906-A03017E6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E0F-2369-4DD2-8801-89BEFBDA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E93-13A9-4385-BD66-3EDFF18E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318-AA5F-41B4-9E3A-21FDEB4A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3A1-DC83-47D5-B7AF-33830676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42B-37F2-4381-941E-56267883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9C9-B7E7-4CFD-9A77-E6347DE6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E167-8F30-4FC2-B736-5048132B9A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097-C815-4C15-9496-CC4E0242C9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Классный час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на тему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08640"/>
            <a:ext cx="6032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Жизнь без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табак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69451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Сердечно-сосудистая      </a:t>
            </a: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систе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92360" y="4149720"/>
            <a:ext cx="1892520" cy="2519280"/>
            <a:chOff x="3492360" y="4149720"/>
            <a:chExt cx="1892520" cy="25192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3492360" y="4149720"/>
              <a:ext cx="18925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 txBox="1"/>
            <p:nvPr/>
          </p:nvSpPr>
          <p:spPr>
            <a:xfrm>
              <a:off x="3492360" y="4149720"/>
              <a:ext cx="1892520" cy="25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0920" y="135612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лительно и много курящие в 13 раз чаще заболевают стенокардией, в 12 - инфарктом миокар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Курение и заболевание дёсе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71640" y="2351160"/>
            <a:ext cx="2881080" cy="251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2879640" cy="252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11640" y="3789360"/>
            <a:ext cx="2881440" cy="251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92360" y="549360"/>
            <a:ext cx="3600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 последние десятилетия ученые выяснили, что у людей не курящих стали обнаруживаться болезни, присущие курильщикам. Причин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65840" cy="3657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332000" y="3789360"/>
            <a:ext cx="737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е курящие люди длительное время находились в помещении вместе с курильщиками. При курении в организм человека проникает 20-25% ядовитых веществ, а 50% вместе с выдыхаемым дымом поступают в воздух. А им дышат окружающие. Получается, что не курящие «курят». Появился даже специальный термин - «пассивное» ку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Мир и кур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ША ежегодно от курения умирают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4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ыс челове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лечение болезней, связанных с курением в Великобритании тратится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50 млн.фунтов стерлин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вропа теряет более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00 ты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изней =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жедневны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виационным катастрофа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Жизнь и сигар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8720" y="2143080"/>
            <a:ext cx="7199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-9 выкуренных сигарет в день сокращает жизнь на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,6 год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0-19 сигарет – на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,5 лет и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тд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татистические дан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1852200"/>
            <a:ext cx="71992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ертельная доза никотина для человека 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0-10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мг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0-25 сигар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ечении 30 лет курильщик выкуривает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0.00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гарет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60 кг табак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 800 гр никотин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D6D-BAE7-4F74-8874-250B78A0A29B}" type="slidenum">
              <a:t>15</a:t>
            </a:fld>
          </a:p>
        </p:txBody>
      </p:sp>
    </p:spTree>
  </p:cSld>
  <p:transition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некурящий человек в один прием получит значительную дозу никотина, может наступить смерть. Такие случаи наблюдались в разных странах. Нашим крупным ученым - фармакологом Н. П. Крафковым описана смерть молодого человека после того, как он впервые в жизни выкурил большую сигар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2901960"/>
            <a:ext cx="7149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Англии зарегистрирован случай, когда длительно курящий 40 - летний мужчина ночью, во время трудной работы, выкурил 14 сигар и 40 сигарет. Утром ему сделалось плохо , и, несмотря на оказанную медицинскую помощь, он ум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72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82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" y="189000"/>
            <a:ext cx="7696080" cy="648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b200"/>
                </a:solidFill>
                <a:uFillTx/>
                <a:latin typeface="Comic Sans MS"/>
              </a:rPr>
              <a:t>Виктори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781360"/>
            <a:ext cx="76960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то впервые познакомил европейцев с курение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Колум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0720" y="2518920"/>
            <a:ext cx="75614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К какому семейству относится табак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паслёнов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8640"/>
            <a:ext cx="3772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аждане, у меня огромная рад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улыбьте сочувственные лиц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не обязательно поделиться над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ихами хотя бы подели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общаю: граждане, Я сегодн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росил кури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. Маяков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33800" y="198756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С какой целью первоначально применяли табак в Европ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как средство от всех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болезн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Как в России в 17 века наказывали учеников, уличённых в курени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били кнутом, а торговцу отрезали нос, рвали ноздри , ссылал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5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5. Кто отменил запрет на курение на Рус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Пётр 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7921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В анкетировании принимали участие </a:t>
            </a:r>
            <a:r>
              <a:rPr b="1" i="1" lang="en-US" sz="4000" spc="-1" strike="noStrike">
                <a:solidFill>
                  <a:srgbClr val="800000"/>
                </a:solidFill>
                <a:latin typeface="Comic Sans MS"/>
              </a:rPr>
              <a:t>38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учащихся школ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96800" y="2286000"/>
          <a:ext cx="784404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2286000"/>
                    <a:ext cx="7844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-177840" y="915840"/>
          <a:ext cx="9969480" cy="46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915840"/>
                    <a:ext cx="9969480" cy="46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уря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11280" y="1628640"/>
          <a:ext cx="8292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292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колько сигарет выкуриваете в ден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828800"/>
          <a:ext cx="889308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28800"/>
                    <a:ext cx="889308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, по которым начали кури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832040"/>
          <a:ext cx="864216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32040"/>
                    <a:ext cx="864216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ээ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3960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Дети- это чудо свет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Я увидел это сам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 причислил чудо эт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 самым чудным чудесам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ы пред будущим в ответе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Наша радость, боль и грусть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Наше будущее – дети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Трудно с ними, ну и пуст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В наших детях наша сил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В неземных мирах огни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Лишь бы будущее был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Столь же светлым, как он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3600360" cy="432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89000"/>
            <a:ext cx="7696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Неужели мы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, будем плестись в хвосте мирового сообщества и тратить свои деньги и здоровье в угоду чужим интересам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Подумайте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какие преимущества вы можете приобрести , если не будете курить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486560" cy="648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1280" y="1268280"/>
            <a:ext cx="79214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ь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ыми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Общие последствия куре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33040" y="2707920"/>
            <a:ext cx="7410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2519640" cy="3959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562720" y="3071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453" y="8533"/>
                </a:moveTo>
                <a:lnTo>
                  <a:pt x="15453" y="8533"/>
                </a:lnTo>
              </a:path>
              <a:path w="1" h="1">
                <a:moveTo>
                  <a:pt x="15453" y="8533"/>
                </a:moveTo>
                <a:lnTo>
                  <a:pt x="15453" y="853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Лёгочно-дыхательная систем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ёгкие курильщика через 5 л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3305160"/>
            <a:ext cx="4038480" cy="203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ёгкие курильщика через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5 и 20 л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3603600" cy="2162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3800" y="2708280"/>
            <a:ext cx="3240360" cy="2162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Рак легког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Рак легкого у курящего человека"/>
          <p:cNvPicPr/>
          <p:nvPr/>
        </p:nvPicPr>
        <p:blipFill>
          <a:blip r:embed="rId1"/>
          <a:stretch/>
        </p:blipFill>
        <p:spPr>
          <a:xfrm>
            <a:off x="2481120" y="1989000"/>
            <a:ext cx="3673440" cy="431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Онкологические заболевания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( ротовая полость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20720" y="28814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5240" y="2708280"/>
            <a:ext cx="3598920" cy="251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960720" cy="2633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39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771640" y="3789360"/>
            <a:ext cx="4680000" cy="287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4:05:04Z</dcterms:created>
  <dc:creator>Таня</dc:creator>
  <dc:description/>
  <dc:language>en-US</dc:language>
  <cp:lastModifiedBy>el comandante Ernesto Guevara</cp:lastModifiedBy>
  <dcterms:modified xsi:type="dcterms:W3CDTF">2007-04-09T17:06:56Z</dcterms:modified>
  <cp:revision>21</cp:revision>
  <dc:subject/>
  <dc:title>Классный час на тему</dc:title>
</cp:coreProperties>
</file>