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10.jpeg" ContentType="image/jpeg"/>
  <Override PartName="/ppt/media/image30.png" ContentType="image/png"/>
  <Override PartName="/ppt/media/image35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32.jpeg" ContentType="image/jpeg"/>
  <Override PartName="/ppt/media/image5.jpeg" ContentType="image/jpeg"/>
  <Override PartName="/ppt/media/image36.jpeg" ContentType="image/jpeg"/>
  <Override PartName="/ppt/media/image9.jpeg" ContentType="image/jpeg"/>
  <Override PartName="/ppt/media/image31.png" ContentType="image/png"/>
  <Override PartName="/ppt/media/image43.png" ContentType="image/png"/>
  <Override PartName="/ppt/media/image6.jpeg" ContentType="image/jpeg"/>
  <Override PartName="/ppt/media/image37.png" ContentType="image/png"/>
  <Override PartName="/ppt/media/image44.jpeg" ContentType="image/jpeg"/>
  <Override PartName="/ppt/media/image26.jpeg" ContentType="image/jpeg"/>
  <Override PartName="/ppt/media/image42.png" ContentType="image/pn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6C59-354F-458B-BBD4-329CF90147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20C1-F499-4816-9DFD-C21643615D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9B59-74C9-4C77-B486-C9C64CB3681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D2FC-AB55-43D8-BBA6-7A708D0931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D13E-4D6D-41F0-B6DF-2D9AF08750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F567-1D11-4FA4-A8FF-97F2BE6785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F90B-A05B-40F3-A9CD-11D94C082C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7E43-187E-4D49-8E9C-00C27A9EC9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CE41-CD5A-4A89-B193-61B4B099F2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EFDC-AAE1-4713-98DE-E8F490F295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1E0F-7B59-45F1-BBB5-6A07E947E3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720D-30AC-4609-AB51-0097654AB4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2B39-5A8B-4EB9-96BA-9144B99401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E221-52C0-47D2-8D15-81BB579928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67C6-D802-402F-9B21-5BA445570E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CBD1-CB69-4AEF-B856-DBA7CD3AEB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7F9E-AB60-4913-8693-FA9D5ABEF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B691-09A7-424C-9C8D-423600DB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0998-D9FB-4D75-9D4B-AA4A1C7E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AA3B-7E0F-454C-B829-EC7DDDF94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F78D-47C6-4A4A-9E12-51A5A91A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EC63-FB4E-479D-ACFC-7363757E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5C0A-A103-4020-91E0-2FA10EDD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C93E-1D43-4C7C-9FD9-D32CA247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FBCF-124A-4BE3-8673-61E7BF91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CB6A-C9EE-496C-A968-16CF75BD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6691-A05D-4C62-968B-49094D71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2E19-53EB-4D58-97AD-D3927549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F9BD-9431-49FC-B705-F5C5C9CF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F23E-843E-449C-B739-27D118C9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55DB-5009-4223-9D9F-2E609F63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87D9-35A1-4D85-B74A-6D579F49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C9F5-4F69-4A7B-B5DD-45F31C3F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4B69-B54F-4E0C-B6DB-D9DA6B20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10CD-0712-4E63-AA8C-99250F11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889A-BA6A-4348-909D-D19211E5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6133-B5A5-435D-BFEE-3B4C3335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ED3C-6109-406F-BA77-88AF7609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2A21-78F4-4C3A-B04B-36F72117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0C5F-94C8-4E7E-9031-182AF7E1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88FC-7D44-4ABF-858D-3C30A5FDE6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6AC2-544F-44C6-BFAA-AE460B129D1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png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609480" y="-266400"/>
            <a:ext cx="7620120" cy="64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ЛИЧНОСТНО-ОРИЕНТИРОВА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НЫЙ ПОДХОД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в перспективе                                 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обучения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в классах разного  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уровн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6" descr="MC900415490[1]"/>
          <p:cNvPicPr/>
          <p:nvPr/>
        </p:nvPicPr>
        <p:blipFill>
          <a:blip r:embed="rId1"/>
          <a:stretch/>
        </p:blipFill>
        <p:spPr>
          <a:xfrm>
            <a:off x="5867280" y="228600"/>
            <a:ext cx="289404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сновное содержание оценки метапредметных результат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в начальной школе строится  вокруг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умения  учиться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– совокупности  способов  действий, обеспечивающих  способность обучающихся  к  самостоятельному усвоению  новых  знаний  и  ум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0" y="0"/>
            <a:ext cx="9144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Главный принцип — ориентирование учебного материала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способов его представления, методов обучения на максимальное включение учащихся в учебную деятель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C:\Documents and Settings\KNovitskaya\Desktop\Моро 1 кл примеры\моро 62.JPG"/>
          <p:cNvPicPr/>
          <p:nvPr/>
        </p:nvPicPr>
        <p:blipFill>
          <a:blip r:embed="rId1"/>
          <a:stretch/>
        </p:blipFill>
        <p:spPr>
          <a:xfrm>
            <a:off x="5000760" y="1785960"/>
            <a:ext cx="3786120" cy="4929120"/>
          </a:xfrm>
          <a:prstGeom prst="rect">
            <a:avLst/>
          </a:prstGeom>
          <a:ln w="9360">
            <a:solidFill>
              <a:srgbClr val="696969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  <p:sp>
        <p:nvSpPr>
          <p:cNvPr id="131" name="Скругленный прямоугольник 6"/>
          <p:cNvSpPr/>
          <p:nvPr/>
        </p:nvSpPr>
        <p:spPr>
          <a:xfrm>
            <a:off x="6000840" y="2071800"/>
            <a:ext cx="2571840" cy="1571400"/>
          </a:xfrm>
          <a:prstGeom prst="roundRect">
            <a:avLst>
              <a:gd name="adj" fmla="val 988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857160" y="142920"/>
            <a:ext cx="83581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Интерпретации рисунка (картинки), выбор соответствующ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моделей.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  <a:ea typeface="Arial"/>
              </a:rPr>
              <a:t>Умение использовать знаково-символические сред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  <a:ea typeface="Arial"/>
              </a:rPr>
              <a:t>для создания схем, моделей.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а каждой странице учебников математики М.И. Мор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ь развивающие эффекты»</a:t>
            </a:r>
            <a:r>
              <a:rPr b="1" lang="ru-RU" sz="1800" spc="-1" strike="noStrike">
                <a:solidFill>
                  <a:srgbClr val="dbeef4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dbeef4"/>
                </a:solidFill>
                <a:latin typeface="Arial"/>
              </a:rPr>
              <a:t>д.пс.н.  В.А. Гуружап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3" descr="C:\Documents and Settings\KNovitskaya\Desktop\МАТЕМАТИКА\Moro_2-1\Moro_2-1___68-69.jpg"/>
          <p:cNvPicPr/>
          <p:nvPr/>
        </p:nvPicPr>
        <p:blipFill>
          <a:blip r:embed="rId2"/>
          <a:srcRect l="49547" t="-672" r="0" b="0"/>
          <a:stretch/>
        </p:blipFill>
        <p:spPr>
          <a:xfrm>
            <a:off x="857160" y="1785960"/>
            <a:ext cx="4000680" cy="4929120"/>
          </a:xfrm>
          <a:prstGeom prst="rect">
            <a:avLst/>
          </a:prstGeom>
          <a:ln w="9360">
            <a:solidFill>
              <a:srgbClr val="000a00"/>
            </a:solidFill>
            <a:miter/>
          </a:ln>
        </p:spPr>
      </p:pic>
      <p:sp>
        <p:nvSpPr>
          <p:cNvPr id="134" name="Скругленный прямоугольник 10"/>
          <p:cNvSpPr/>
          <p:nvPr/>
        </p:nvSpPr>
        <p:spPr>
          <a:xfrm>
            <a:off x="1000080" y="1928880"/>
            <a:ext cx="2714760" cy="714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Скругленный прямоугольник 11"/>
          <p:cNvSpPr/>
          <p:nvPr/>
        </p:nvSpPr>
        <p:spPr>
          <a:xfrm>
            <a:off x="1143000" y="3857760"/>
            <a:ext cx="2643120" cy="428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Скругленный прямоугольник 13"/>
          <p:cNvSpPr/>
          <p:nvPr/>
        </p:nvSpPr>
        <p:spPr>
          <a:xfrm>
            <a:off x="1143000" y="4286160"/>
            <a:ext cx="2643120" cy="500040"/>
          </a:xfrm>
          <a:prstGeom prst="roundRect">
            <a:avLst>
              <a:gd name="adj" fmla="val 1306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1285920" y="71280"/>
            <a:ext cx="771516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"/>
                <a:ea typeface="Arial"/>
              </a:rPr>
              <a:t>Развитие мотивов учебной деятельности и формирование личностного смысла учения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2" descr="C:\Documents and Settings\KNovitskaya\Desktop\98.JPG"/>
          <p:cNvPicPr/>
          <p:nvPr/>
        </p:nvPicPr>
        <p:blipFill>
          <a:blip r:embed="rId1"/>
          <a:stretch/>
        </p:blipFill>
        <p:spPr>
          <a:xfrm>
            <a:off x="1000080" y="1000080"/>
            <a:ext cx="4000680" cy="5500800"/>
          </a:xfrm>
          <a:prstGeom prst="rect">
            <a:avLst/>
          </a:prstGeom>
          <a:ln w="9360">
            <a:solidFill>
              <a:srgbClr val="000308"/>
            </a:solidFill>
            <a:miter/>
          </a:ln>
        </p:spPr>
      </p:pic>
      <p:pic>
        <p:nvPicPr>
          <p:cNvPr id="139" name="Picture 3" descr="C:\Documents and Settings\KNovitskaya\Desktop\99.JPG"/>
          <p:cNvPicPr/>
          <p:nvPr/>
        </p:nvPicPr>
        <p:blipFill>
          <a:blip r:embed="rId2"/>
          <a:stretch/>
        </p:blipFill>
        <p:spPr>
          <a:xfrm>
            <a:off x="5000760" y="1000080"/>
            <a:ext cx="3929040" cy="5500800"/>
          </a:xfrm>
          <a:prstGeom prst="rect">
            <a:avLst/>
          </a:prstGeom>
          <a:ln w="9360">
            <a:solidFill>
              <a:srgbClr val="00030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6"/>
          <p:cNvSpPr/>
          <p:nvPr/>
        </p:nvSpPr>
        <p:spPr>
          <a:xfrm>
            <a:off x="1071720" y="-71280"/>
            <a:ext cx="79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  <a:ea typeface="Arial"/>
              </a:rPr>
              <a:t>Метапредметные результа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b7"/>
                </a:solidFill>
                <a:latin typeface="Arial"/>
                <a:ea typeface="Arial"/>
              </a:rPr>
              <a:t>Умение использовать знаково-символические средства для создания моделей изучаемых объектов и процессов, для создания схем решения учебно-познавательных  и практических задач. </a:t>
            </a:r>
            <a:r>
              <a:rPr b="1" lang="ru-RU" sz="1800" spc="-1" strike="noStrike">
                <a:solidFill>
                  <a:srgbClr val="ffffb7"/>
                </a:solidFill>
                <a:latin typeface="Arial"/>
                <a:ea typeface="Arial"/>
              </a:rPr>
              <a:t>Дивергентные задачи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C:\Documents and Settings\KNovitskaya\Desktop\МАТЕМАТИКА\Moro_3-1\Moro_3-1___32-33.jpg"/>
          <p:cNvPicPr/>
          <p:nvPr/>
        </p:nvPicPr>
        <p:blipFill>
          <a:blip r:embed="rId1"/>
          <a:stretch/>
        </p:blipFill>
        <p:spPr>
          <a:xfrm>
            <a:off x="1066680" y="1371600"/>
            <a:ext cx="4786560" cy="28576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42" name="Picture 2" descr="C:\Documents and Settings\KNovitskaya\Desktop\Моро\стр 9 начерти.jpg"/>
          <p:cNvPicPr/>
          <p:nvPr/>
        </p:nvPicPr>
        <p:blipFill>
          <a:blip r:embed="rId2"/>
          <a:stretch/>
        </p:blipFill>
        <p:spPr>
          <a:xfrm>
            <a:off x="3214800" y="4286160"/>
            <a:ext cx="5643360" cy="24289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  <p:sp>
        <p:nvSpPr>
          <p:cNvPr id="143" name="Скругленный прямоугольник 5"/>
          <p:cNvSpPr/>
          <p:nvPr/>
        </p:nvSpPr>
        <p:spPr>
          <a:xfrm>
            <a:off x="7500960" y="4357800"/>
            <a:ext cx="1285920" cy="2286000"/>
          </a:xfrm>
          <a:custGeom>
            <a:avLst/>
            <a:gdLst>
              <a:gd name="textAreaLeft" fmla="*/ 41760 w 1285920"/>
              <a:gd name="textAreaRight" fmla="*/ 1244160 w 1285920"/>
              <a:gd name="textAreaTop" fmla="*/ 41760 h 2286000"/>
              <a:gd name="textAreaBottom" fmla="*/ 2244240 h 2286000"/>
            </a:gdLst>
            <a:ahLst/>
            <a:rect l="textAreaLeft" t="textAreaTop" r="textAreaRight" b="textAreaBottom"/>
            <a:pathLst>
              <a:path w="21600" h="38394">
                <a:moveTo>
                  <a:pt x="2414" y="0"/>
                </a:moveTo>
                <a:arcTo wR="2414" hR="2414" stAng="16200000" swAng="-5400000"/>
                <a:lnTo>
                  <a:pt x="0" y="35980"/>
                </a:lnTo>
                <a:arcTo wR="2414" hR="2414" stAng="10800000" swAng="-5400000"/>
                <a:lnTo>
                  <a:pt x="19186" y="38394"/>
                </a:lnTo>
                <a:arcTo wR="2414" hR="2414" stAng="5400000" swAng="-5400000"/>
                <a:lnTo>
                  <a:pt x="21600" y="2414"/>
                </a:lnTo>
                <a:arcTo wR="2414" hR="2414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3" descr="C:\Documents and Settings\KNovitskaya\Desktop\Моро\стр 8 магический кв.jpg"/>
          <p:cNvPicPr/>
          <p:nvPr/>
        </p:nvPicPr>
        <p:blipFill>
          <a:blip r:embed="rId3"/>
          <a:stretch/>
        </p:blipFill>
        <p:spPr>
          <a:xfrm>
            <a:off x="6715080" y="1428840"/>
            <a:ext cx="1816200" cy="24289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45" name="Picture 2" descr="C:\Documents and Settings\KNovitskaya\Desktop\Моро\стр 6 магический кв.jpg"/>
          <p:cNvPicPr/>
          <p:nvPr/>
        </p:nvPicPr>
        <p:blipFill>
          <a:blip r:embed="rId4"/>
          <a:stretch/>
        </p:blipFill>
        <p:spPr>
          <a:xfrm>
            <a:off x="1143000" y="4429080"/>
            <a:ext cx="1714680" cy="22147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  <p:sp>
        <p:nvSpPr>
          <p:cNvPr id="146" name="Скругленный прямоугольник 8"/>
          <p:cNvSpPr/>
          <p:nvPr/>
        </p:nvSpPr>
        <p:spPr>
          <a:xfrm>
            <a:off x="3429000" y="4714920"/>
            <a:ext cx="3857760" cy="714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214200" y="5868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ормирование личностных  УУ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Заголовок 6"/>
          <p:cNvSpPr/>
          <p:nvPr/>
        </p:nvSpPr>
        <p:spPr>
          <a:xfrm>
            <a:off x="2357280" y="6000840"/>
            <a:ext cx="55724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лешаков А.А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«Окружающий мир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. 2 клас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214200" y="571680"/>
            <a:ext cx="871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ичностное (гражданское) самоопредел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Рисунок 5" descr="C:\Documents and Settings\OPodymova\Desktop\Наташа\10-11.jpg"/>
          <p:cNvPicPr/>
          <p:nvPr/>
        </p:nvPicPr>
        <p:blipFill>
          <a:blip r:embed="rId1"/>
          <a:stretch/>
        </p:blipFill>
        <p:spPr>
          <a:xfrm>
            <a:off x="1285920" y="1071720"/>
            <a:ext cx="7572240" cy="4728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1" name="Скругленный прямоугольник 5"/>
          <p:cNvSpPr/>
          <p:nvPr/>
        </p:nvSpPr>
        <p:spPr>
          <a:xfrm flipV="1">
            <a:off x="1500120" y="4714200"/>
            <a:ext cx="3571920" cy="78588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  <a:ea typeface="Calibri"/>
              </a:rPr>
              <a:t>Методическая система представления учебного материала в УМК </a:t>
            </a:r>
            <a:br>
              <a:rPr sz="2000"/>
            </a:br>
            <a:r>
              <a:rPr b="0" lang="ru-RU" sz="1800" spc="-1" strike="noStrike">
                <a:solidFill>
                  <a:srgbClr val="ffff66"/>
                </a:solidFill>
                <a:latin typeface="Arial"/>
                <a:ea typeface="Calibri"/>
              </a:rPr>
              <a:t>(на примере темы одного урока «Окружающий мир» в 1 классе)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71280" y="977760"/>
            <a:ext cx="2735280" cy="1594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6286680" y="1012680"/>
            <a:ext cx="2665080" cy="140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В Атласе-определител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сновные призна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секом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тересная информац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исун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179280" y="3371760"/>
            <a:ext cx="2392560" cy="316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В электронном приложении к учебнику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ополнительн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формация по тем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Это интересно»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иде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отограф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исун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хем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хрестомат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ренаже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тро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142920" y="1001880"/>
            <a:ext cx="2654280" cy="15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В учебник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уктурированный текст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опросы и зад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лючевое понят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исун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хема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6500880" y="3011400"/>
            <a:ext cx="2446200" cy="359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В методическом пособи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дачи урок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ланируем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остижения учащихс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орудование 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ы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етодическ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екомендаци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мментарий 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лючевому понятию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ополнительна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формация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опросы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екомендации дл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нятий в семь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3286080" y="5429160"/>
            <a:ext cx="2571840" cy="10000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В пособии «Тесты»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сты (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исун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9" name="Прямая со стрелкой 25"/>
          <p:cNvCxnSpPr/>
          <p:nvPr/>
        </p:nvCxnSpPr>
        <p:spPr>
          <a:xfrm flipH="1">
            <a:off x="2642040" y="4051080"/>
            <a:ext cx="435600" cy="68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60" name="Прямая со стрелкой 27"/>
          <p:cNvCxnSpPr/>
          <p:nvPr/>
        </p:nvCxnSpPr>
        <p:spPr>
          <a:xfrm flipH="1" flipV="1">
            <a:off x="2785680" y="2714040"/>
            <a:ext cx="286560" cy="8578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61" name="Прямая со стрелкой 29"/>
          <p:cNvCxnSpPr/>
          <p:nvPr/>
        </p:nvCxnSpPr>
        <p:spPr>
          <a:xfrm flipV="1">
            <a:off x="4570560" y="2571840"/>
            <a:ext cx="2160" cy="64332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62" name="Прямая со стрелкой 35"/>
          <p:cNvCxnSpPr/>
          <p:nvPr/>
        </p:nvCxnSpPr>
        <p:spPr>
          <a:xfrm flipV="1">
            <a:off x="5998680" y="4053240"/>
            <a:ext cx="431640" cy="32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63" name="Прямая со стрелкой 37"/>
          <p:cNvCxnSpPr/>
          <p:nvPr/>
        </p:nvCxnSpPr>
        <p:spPr>
          <a:xfrm flipH="1">
            <a:off x="4571280" y="4786200"/>
            <a:ext cx="1080" cy="50400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64" name="Text Box 19"/>
          <p:cNvSpPr/>
          <p:nvPr/>
        </p:nvSpPr>
        <p:spPr>
          <a:xfrm>
            <a:off x="3143160" y="1071720"/>
            <a:ext cx="2857680" cy="1285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В рабочей тетрад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ополнительные зада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исунк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исунки для раскрашив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5" name="Прямая со стрелкой 46"/>
          <p:cNvCxnSpPr/>
          <p:nvPr/>
        </p:nvCxnSpPr>
        <p:spPr>
          <a:xfrm flipV="1">
            <a:off x="6033960" y="2706480"/>
            <a:ext cx="324720" cy="90072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451320" y="3598920"/>
            <a:ext cx="2711520" cy="1123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ts val="3835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Тема урок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ts val="3835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«Кто такие насекомые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4"/>
          <p:cNvSpPr/>
          <p:nvPr/>
        </p:nvSpPr>
        <p:spPr>
          <a:xfrm>
            <a:off x="1357200" y="-15840"/>
            <a:ext cx="764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  <a:ea typeface="Arial"/>
              </a:rPr>
              <a:t>Личностные результа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"/>
                <a:ea typeface="Arial"/>
              </a:rPr>
              <a:t>Развитие мотивов и смыслов учебно-образовательной деятельности. Развитие системы ценностных </a:t>
            </a:r>
            <a:r>
              <a:rPr b="1" lang="ru-RU" sz="1800" spc="-1" strike="noStrike">
                <a:solidFill>
                  <a:srgbClr val="d6ffd6"/>
                </a:solidFill>
                <a:latin typeface="Arial"/>
                <a:ea typeface="Arial"/>
              </a:rPr>
              <a:t>ориентац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4" descr="C:\Documents and Settings\KNovitskaya\Desktop\ОКР МИР\2klass\46-47.jpg"/>
          <p:cNvPicPr/>
          <p:nvPr/>
        </p:nvPicPr>
        <p:blipFill>
          <a:blip r:embed="rId1"/>
          <a:stretch/>
        </p:blipFill>
        <p:spPr>
          <a:xfrm>
            <a:off x="914400" y="1219320"/>
            <a:ext cx="8062920" cy="540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4"/>
          <p:cNvSpPr/>
          <p:nvPr/>
        </p:nvSpPr>
        <p:spPr>
          <a:xfrm>
            <a:off x="1285920" y="74520"/>
            <a:ext cx="77868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"/>
                <a:ea typeface="Arial"/>
              </a:rPr>
              <a:t>Личностные результа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"/>
                <a:ea typeface="Arial"/>
              </a:rPr>
              <a:t>Развитие мотивов и смыслов учебно-образовательной деятельности. Развитие системы ценностных ориентаций</a:t>
            </a:r>
            <a:r>
              <a:rPr b="1" lang="ru-RU" sz="1800" spc="-1" strike="noStrike">
                <a:solidFill>
                  <a:srgbClr val="ffffb7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4" descr="C:\Documents and Settings\KNovitskaya\Desktop\ОКР МИР\2klass\50-51.jpg"/>
          <p:cNvPicPr/>
          <p:nvPr/>
        </p:nvPicPr>
        <p:blipFill>
          <a:blip r:embed="rId1"/>
          <a:stretch/>
        </p:blipFill>
        <p:spPr>
          <a:xfrm>
            <a:off x="928800" y="1752480"/>
            <a:ext cx="8064360" cy="4748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:\Documents and Settings\KNovitskaya\Desktop\ШР гос заказ\Азбука 82-83.jpg"/>
          <p:cNvPicPr/>
          <p:nvPr/>
        </p:nvPicPr>
        <p:blipFill>
          <a:blip r:embed="rId1"/>
          <a:stretch/>
        </p:blipFill>
        <p:spPr>
          <a:xfrm>
            <a:off x="1000080" y="1357200"/>
            <a:ext cx="7929720" cy="5214960"/>
          </a:xfrm>
          <a:prstGeom prst="rect">
            <a:avLst/>
          </a:prstGeom>
          <a:ln w="9360">
            <a:solidFill>
              <a:srgbClr val="000d27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  <p:sp>
        <p:nvSpPr>
          <p:cNvPr id="172" name="Прямоугольник 3"/>
          <p:cNvSpPr/>
          <p:nvPr/>
        </p:nvSpPr>
        <p:spPr>
          <a:xfrm>
            <a:off x="2286000" y="214200"/>
            <a:ext cx="39290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рс обучения грамот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збука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рецкий В.Г. и д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Рисунок 19" descr="Image00010.jpg"/>
          <p:cNvPicPr/>
          <p:nvPr/>
        </p:nvPicPr>
        <p:blipFill>
          <a:blip r:embed="rId2"/>
          <a:stretch/>
        </p:blipFill>
        <p:spPr>
          <a:xfrm>
            <a:off x="6858000" y="142920"/>
            <a:ext cx="142884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5"/>
          <p:cNvSpPr/>
          <p:nvPr/>
        </p:nvSpPr>
        <p:spPr>
          <a:xfrm>
            <a:off x="1371600" y="380880"/>
            <a:ext cx="7010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Назначение личностно ориентированного подхода к образовани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6"/>
          <p:cNvSpPr/>
          <p:nvPr/>
        </p:nvSpPr>
        <p:spPr>
          <a:xfrm>
            <a:off x="1143000" y="2666880"/>
            <a:ext cx="8001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"/>
              </a:rPr>
              <a:t>состоит в том, чтобы содействовать становлению человека: его неповторимой индивидуальности, духовности, творческого начала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C:\Documents and Settings\KNovitskaya\Desktop\36.JPG"/>
          <p:cNvPicPr/>
          <p:nvPr/>
        </p:nvPicPr>
        <p:blipFill>
          <a:blip r:embed="rId1"/>
          <a:stretch/>
        </p:blipFill>
        <p:spPr>
          <a:xfrm>
            <a:off x="898560" y="1039680"/>
            <a:ext cx="3887640" cy="5532480"/>
          </a:xfrm>
          <a:prstGeom prst="rect">
            <a:avLst/>
          </a:prstGeom>
          <a:ln w="9360">
            <a:solidFill>
              <a:srgbClr val="000d27"/>
            </a:solidFill>
            <a:miter/>
          </a:ln>
        </p:spPr>
      </p:pic>
      <p:pic>
        <p:nvPicPr>
          <p:cNvPr id="175" name="Picture 3" descr="C:\Documents and Settings\KNovitskaya\Desktop\37.JPG"/>
          <p:cNvPicPr/>
          <p:nvPr/>
        </p:nvPicPr>
        <p:blipFill>
          <a:blip r:embed="rId2"/>
          <a:stretch/>
        </p:blipFill>
        <p:spPr>
          <a:xfrm>
            <a:off x="4786200" y="1041480"/>
            <a:ext cx="4143600" cy="5530680"/>
          </a:xfrm>
          <a:prstGeom prst="rect">
            <a:avLst/>
          </a:prstGeom>
          <a:ln w="9360">
            <a:solidFill>
              <a:srgbClr val="000d27"/>
            </a:solidFill>
            <a:miter/>
          </a:ln>
        </p:spPr>
      </p:pic>
      <p:sp>
        <p:nvSpPr>
          <p:cNvPr id="176" name="Прямоугольник 4"/>
          <p:cNvSpPr/>
          <p:nvPr/>
        </p:nvSpPr>
        <p:spPr>
          <a:xfrm>
            <a:off x="1500120" y="21420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урс обучения грамоте.  Азбука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рецкий В.Г. и д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971640" y="214200"/>
            <a:ext cx="7921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тапредметные результа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мение провести сравнение, установить аналог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с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6" descr="3'1_20-21"/>
          <p:cNvPicPr/>
          <p:nvPr/>
        </p:nvPicPr>
        <p:blipFill>
          <a:blip r:embed="rId1"/>
          <a:stretch/>
        </p:blipFill>
        <p:spPr>
          <a:xfrm>
            <a:off x="1042920" y="1235160"/>
            <a:ext cx="7458120" cy="44989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79" name="Picture 7" descr="3'1_54"/>
          <p:cNvPicPr/>
          <p:nvPr/>
        </p:nvPicPr>
        <p:blipFill>
          <a:blip r:embed="rId2"/>
          <a:stretch/>
        </p:blipFill>
        <p:spPr>
          <a:xfrm>
            <a:off x="3429000" y="2500200"/>
            <a:ext cx="3071880" cy="36482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0" name="Заголовок 6"/>
          <p:cNvSpPr/>
          <p:nvPr/>
        </p:nvSpPr>
        <p:spPr>
          <a:xfrm>
            <a:off x="857160" y="6143760"/>
            <a:ext cx="7772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лиманова Л.Ф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«Литературное чтение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. 1 клас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Y:\Полученные файлы\от Веры Верженской\Ксю прости\Part_I_24-25.jpg"/>
          <p:cNvPicPr/>
          <p:nvPr/>
        </p:nvPicPr>
        <p:blipFill>
          <a:blip r:embed="rId1"/>
          <a:stretch/>
        </p:blipFill>
        <p:spPr>
          <a:xfrm>
            <a:off x="893880" y="1285920"/>
            <a:ext cx="8035920" cy="52862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  <p:sp>
        <p:nvSpPr>
          <p:cNvPr id="182" name="Заголовок 1"/>
          <p:cNvSpPr/>
          <p:nvPr/>
        </p:nvSpPr>
        <p:spPr>
          <a:xfrm>
            <a:off x="1428840" y="71280"/>
            <a:ext cx="72864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  <a:ea typeface="Arial"/>
              </a:rPr>
              <a:t>Литературное чтение</a:t>
            </a:r>
            <a:br>
              <a:rPr sz="2200"/>
            </a:br>
            <a:r>
              <a:rPr b="0" lang="ru-RU" sz="2200" spc="-1" strike="noStrike">
                <a:solidFill>
                  <a:srgbClr val="ffff66"/>
                </a:solidFill>
                <a:latin typeface="Arial"/>
                <a:ea typeface="Arial"/>
              </a:rPr>
              <a:t>Климанова Л. Ф. , Горецкий В.Г. (1 класс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785880" y="1060920"/>
            <a:ext cx="5857920" cy="55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сихолого-педагогиче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одель построения тем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остановка проблемы и ее обсуждение 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омощью системы вопросов (аналитическ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лан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формулировка правил, способов действи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ризнаков понятий, «открытых» учащимися 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ходе анализа пробл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уточнение сформулированных  вывод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ведение новых термин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ыполнение различных по уровн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ложности упражнений на применение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уточнение знаний, формир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рактических ум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Рисунок 5" descr="Rab_tet_2kl.tif"/>
          <p:cNvPicPr/>
          <p:nvPr/>
        </p:nvPicPr>
        <p:blipFill>
          <a:blip r:embed="rId1"/>
          <a:stretch/>
        </p:blipFill>
        <p:spPr>
          <a:xfrm>
            <a:off x="6500880" y="1643040"/>
            <a:ext cx="1285920" cy="200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5" name="Рисунок 6" descr="Uchebnik_4kl_1.tif"/>
          <p:cNvPicPr/>
          <p:nvPr/>
        </p:nvPicPr>
        <p:blipFill>
          <a:blip r:embed="rId2"/>
          <a:stretch/>
        </p:blipFill>
        <p:spPr>
          <a:xfrm>
            <a:off x="6215040" y="4572000"/>
            <a:ext cx="1285920" cy="187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6" name="Рисунок 7" descr="Uchebnik_3kl_1.tif"/>
          <p:cNvPicPr/>
          <p:nvPr/>
        </p:nvPicPr>
        <p:blipFill>
          <a:blip r:embed="rId3"/>
          <a:stretch/>
        </p:blipFill>
        <p:spPr>
          <a:xfrm>
            <a:off x="7715160" y="3857760"/>
            <a:ext cx="1319400" cy="2019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7" name="Рисунок 11" descr="Prov_rab_1kl.tif"/>
          <p:cNvPicPr/>
          <p:nvPr/>
        </p:nvPicPr>
        <p:blipFill>
          <a:blip r:embed="rId4"/>
          <a:stretch/>
        </p:blipFill>
        <p:spPr>
          <a:xfrm>
            <a:off x="7686720" y="142920"/>
            <a:ext cx="1314360" cy="200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8" name="Rectangle 2"/>
          <p:cNvSpPr/>
          <p:nvPr/>
        </p:nvSpPr>
        <p:spPr>
          <a:xfrm>
            <a:off x="1428840" y="214200"/>
            <a:ext cx="542916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«Русский язык»</a:t>
            </a:r>
            <a:br>
              <a:rPr sz="2400"/>
            </a:b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Зеленина Л.М., Хохлова Т.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85560" y="71280"/>
            <a:ext cx="314316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«Музыка»</a:t>
            </a:r>
            <a:br>
              <a:rPr sz="1500"/>
            </a:br>
            <a:r>
              <a:rPr b="0" lang="ru-RU" sz="1600" spc="-1" strike="noStrike">
                <a:solidFill>
                  <a:srgbClr val="ffffb7"/>
                </a:solidFill>
                <a:latin typeface="Arial"/>
              </a:rPr>
              <a:t>Критская Е.Д. , Сергеева Г. П. </a:t>
            </a:r>
            <a:br>
              <a:rPr sz="1600"/>
            </a:b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0" name="Рисунок 3" descr="1_7.tif"/>
          <p:cNvPicPr/>
          <p:nvPr/>
        </p:nvPicPr>
        <p:blipFill>
          <a:blip r:embed="rId1"/>
          <a:stretch/>
        </p:blipFill>
        <p:spPr>
          <a:xfrm>
            <a:off x="1214280" y="785880"/>
            <a:ext cx="1592280" cy="21240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1" name="Picture 7" descr="2_13_"/>
          <p:cNvPicPr/>
          <p:nvPr/>
        </p:nvPicPr>
        <p:blipFill>
          <a:blip r:embed="rId2"/>
          <a:stretch/>
        </p:blipFill>
        <p:spPr>
          <a:xfrm>
            <a:off x="3143160" y="1214280"/>
            <a:ext cx="1003320" cy="140364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2" name="Заголовок 1"/>
          <p:cNvSpPr/>
          <p:nvPr/>
        </p:nvSpPr>
        <p:spPr>
          <a:xfrm>
            <a:off x="785880" y="3143160"/>
            <a:ext cx="31431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«Основы безопасност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жизнедеятельности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Анастасова Л. П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Группа 14"/>
          <p:cNvGrpSpPr/>
          <p:nvPr/>
        </p:nvGrpSpPr>
        <p:grpSpPr>
          <a:xfrm>
            <a:off x="857160" y="4143240"/>
            <a:ext cx="1652760" cy="2143440"/>
            <a:chOff x="857160" y="4143240"/>
            <a:chExt cx="1652760" cy="2143440"/>
          </a:xfrm>
        </p:grpSpPr>
        <p:pic>
          <p:nvPicPr>
            <p:cNvPr id="194" name="Рисунок 9" descr="4_4.tif"/>
            <p:cNvPicPr/>
            <p:nvPr/>
          </p:nvPicPr>
          <p:blipFill>
            <a:blip r:embed="rId3"/>
            <a:stretch/>
          </p:blipFill>
          <p:spPr>
            <a:xfrm>
              <a:off x="857160" y="4161960"/>
              <a:ext cx="1652760" cy="2124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95" name="Прямоугольник 12"/>
            <p:cNvSpPr/>
            <p:nvPr/>
          </p:nvSpPr>
          <p:spPr>
            <a:xfrm>
              <a:off x="857160" y="4143240"/>
              <a:ext cx="1652760" cy="2124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Группа 15"/>
          <p:cNvGrpSpPr/>
          <p:nvPr/>
        </p:nvGrpSpPr>
        <p:grpSpPr>
          <a:xfrm>
            <a:off x="2071800" y="4500720"/>
            <a:ext cx="1603440" cy="2135160"/>
            <a:chOff x="2071800" y="4500720"/>
            <a:chExt cx="1603440" cy="2135160"/>
          </a:xfrm>
        </p:grpSpPr>
        <p:pic>
          <p:nvPicPr>
            <p:cNvPr id="197" name="Рисунок 8" descr="4_3.tif"/>
            <p:cNvPicPr/>
            <p:nvPr/>
          </p:nvPicPr>
          <p:blipFill>
            <a:blip r:embed="rId4"/>
            <a:stretch/>
          </p:blipFill>
          <p:spPr>
            <a:xfrm>
              <a:off x="2071800" y="4500720"/>
              <a:ext cx="1603440" cy="21351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98" name="Прямоугольник 13"/>
            <p:cNvSpPr/>
            <p:nvPr/>
          </p:nvSpPr>
          <p:spPr>
            <a:xfrm>
              <a:off x="2071800" y="4500720"/>
              <a:ext cx="1603440" cy="2135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Заголовок 3"/>
          <p:cNvSpPr/>
          <p:nvPr/>
        </p:nvSpPr>
        <p:spPr>
          <a:xfrm>
            <a:off x="4572000" y="142920"/>
            <a:ext cx="3929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Изобразительное  искусство  и художественный  труд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д  ред. Неменского Б. М. и др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Рисунок 14" descr="3_44.tif"/>
          <p:cNvPicPr/>
          <p:nvPr/>
        </p:nvPicPr>
        <p:blipFill>
          <a:blip r:embed="rId5"/>
          <a:stretch/>
        </p:blipFill>
        <p:spPr>
          <a:xfrm>
            <a:off x="6929280" y="1000080"/>
            <a:ext cx="1594080" cy="212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1" name="Picture 6" descr="3_50"/>
          <p:cNvPicPr/>
          <p:nvPr/>
        </p:nvPicPr>
        <p:blipFill>
          <a:blip r:embed="rId6"/>
          <a:stretch/>
        </p:blipFill>
        <p:spPr>
          <a:xfrm>
            <a:off x="4643280" y="1071720"/>
            <a:ext cx="1594080" cy="212400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02" name="Заголовок 1"/>
          <p:cNvSpPr/>
          <p:nvPr/>
        </p:nvSpPr>
        <p:spPr>
          <a:xfrm>
            <a:off x="3429000" y="3286080"/>
            <a:ext cx="2571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«Физическая культура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Лях В.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Рисунок 17" descr="3_52.tif"/>
          <p:cNvPicPr/>
          <p:nvPr/>
        </p:nvPicPr>
        <p:blipFill>
          <a:blip r:embed="rId7"/>
          <a:stretch/>
        </p:blipFill>
        <p:spPr>
          <a:xfrm>
            <a:off x="4000680" y="4071960"/>
            <a:ext cx="1593720" cy="212400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37996" dir="589158" blurRad="0" rotWithShape="0">
              <a:srgbClr val="000000">
                <a:alpha val="40000"/>
              </a:srgbClr>
            </a:outerShdw>
          </a:effectLst>
        </p:spPr>
      </p:pic>
      <p:sp>
        <p:nvSpPr>
          <p:cNvPr id="204" name="Заголовок 3"/>
          <p:cNvSpPr/>
          <p:nvPr/>
        </p:nvSpPr>
        <p:spPr>
          <a:xfrm>
            <a:off x="5929200" y="3214800"/>
            <a:ext cx="3286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Изобразительное искусство и художественный труд «Шпикалова Т. Я. и др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Рисунок 3" descr="3_3_.tif"/>
          <p:cNvPicPr/>
          <p:nvPr/>
        </p:nvPicPr>
        <p:blipFill>
          <a:blip r:embed="rId8"/>
          <a:stretch/>
        </p:blipFill>
        <p:spPr>
          <a:xfrm>
            <a:off x="6286680" y="4286160"/>
            <a:ext cx="1593720" cy="212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"/>
          <p:cNvSpPr/>
          <p:nvPr/>
        </p:nvSpPr>
        <p:spPr>
          <a:xfrm>
            <a:off x="1357200" y="73800"/>
            <a:ext cx="657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Издательство «Просвещение»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едставляет сер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Рисунок 3" descr="head_text.jpg"/>
          <p:cNvPicPr/>
          <p:nvPr/>
        </p:nvPicPr>
        <p:blipFill>
          <a:blip r:embed="rId1"/>
          <a:stretch/>
        </p:blipFill>
        <p:spPr>
          <a:xfrm>
            <a:off x="4714920" y="571680"/>
            <a:ext cx="4143240" cy="64260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1"/>
          <p:cNvSpPr/>
          <p:nvPr/>
        </p:nvSpPr>
        <p:spPr>
          <a:xfrm>
            <a:off x="857160" y="1577880"/>
            <a:ext cx="814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сочные, современные комплекты демонстрационных таблиц к ведущим линиям учебников, входящим в учебно-методический комплекс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Школа Росси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оугольник 1"/>
          <p:cNvSpPr/>
          <p:nvPr/>
        </p:nvSpPr>
        <p:spPr>
          <a:xfrm>
            <a:off x="1000080" y="2500200"/>
            <a:ext cx="778680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db00"/>
                </a:solidFill>
                <a:latin typeface="Arial"/>
                <a:ea typeface="Times New Roman"/>
              </a:rPr>
              <a:t>Основные преимущества:</a:t>
            </a:r>
            <a:r>
              <a:rPr b="1" lang="ru-RU" sz="2000" spc="-1" strike="noStrike">
                <a:solidFill>
                  <a:srgbClr val="dbdb00"/>
                </a:solidFill>
                <a:latin typeface="Arial"/>
                <a:ea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Авторы-составители таблиц — авторы соответствующих УМК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Пособия интегрированы в методическую систему УМК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—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ждый комплект соответствует конкретному учебному курсу и снабжён методическими рекомендаци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Удобная для транспортировки 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хранения упаков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33" descr="metodichka_rus"/>
          <p:cNvPicPr/>
          <p:nvPr/>
        </p:nvPicPr>
        <p:blipFill>
          <a:blip r:embed="rId2"/>
          <a:stretch/>
        </p:blipFill>
        <p:spPr>
          <a:xfrm>
            <a:off x="8143920" y="5429160"/>
            <a:ext cx="717480" cy="1071720"/>
          </a:xfrm>
          <a:prstGeom prst="rect">
            <a:avLst/>
          </a:prstGeom>
          <a:ln w="64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1" name="Picture 13" descr="5"/>
          <p:cNvPicPr/>
          <p:nvPr/>
        </p:nvPicPr>
        <p:blipFill>
          <a:blip r:embed="rId3"/>
          <a:stretch/>
        </p:blipFill>
        <p:spPr>
          <a:xfrm>
            <a:off x="2398680" y="4643280"/>
            <a:ext cx="1816200" cy="15004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2" name="Picture 15" descr="9"/>
          <p:cNvPicPr/>
          <p:nvPr/>
        </p:nvPicPr>
        <p:blipFill>
          <a:blip r:embed="rId4"/>
          <a:stretch/>
        </p:blipFill>
        <p:spPr>
          <a:xfrm>
            <a:off x="4357800" y="4643280"/>
            <a:ext cx="1500120" cy="207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3" name="Picture 29" descr="Y:\Полученные файлы\обл_началка\каталог_2009\Зеленина_Хохлова\Nach_Zel_1_1.tif"/>
          <p:cNvPicPr/>
          <p:nvPr/>
        </p:nvPicPr>
        <p:blipFill>
          <a:blip r:embed="rId5"/>
          <a:stretch/>
        </p:blipFill>
        <p:spPr>
          <a:xfrm>
            <a:off x="857160" y="4643280"/>
            <a:ext cx="1357560" cy="1785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4" name="Picture 14" descr="4"/>
          <p:cNvPicPr/>
          <p:nvPr/>
        </p:nvPicPr>
        <p:blipFill>
          <a:blip r:embed="rId6"/>
          <a:stretch/>
        </p:blipFill>
        <p:spPr>
          <a:xfrm>
            <a:off x="2000160" y="5429160"/>
            <a:ext cx="1928880" cy="1357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5" name="Picture 4" descr="Y:\Полученные файлы\обл_началка\каталог_2009\Nach_Pr_ShR_1.tif"/>
          <p:cNvPicPr/>
          <p:nvPr/>
        </p:nvPicPr>
        <p:blipFill>
          <a:blip r:embed="rId7"/>
          <a:stretch/>
        </p:blipFill>
        <p:spPr>
          <a:xfrm>
            <a:off x="7143840" y="5286240"/>
            <a:ext cx="892080" cy="133200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6" name="Picture 3" descr="Y:\Полученные файлы\обл_началка\каталог_2009\Nach_Pr_ShR_2.tif"/>
          <p:cNvPicPr/>
          <p:nvPr/>
        </p:nvPicPr>
        <p:blipFill>
          <a:blip r:embed="rId8"/>
          <a:stretch/>
        </p:blipFill>
        <p:spPr>
          <a:xfrm>
            <a:off x="6072120" y="5286240"/>
            <a:ext cx="857160" cy="1357560"/>
          </a:xfrm>
          <a:prstGeom prst="rect">
            <a:avLst/>
          </a:prstGeom>
          <a:ln w="9360">
            <a:solidFill>
              <a:srgbClr val="3d7fc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7" name="Picture 6" descr="box russian"/>
          <p:cNvPicPr/>
          <p:nvPr/>
        </p:nvPicPr>
        <p:blipFill>
          <a:blip r:embed="rId9"/>
          <a:stretch/>
        </p:blipFill>
        <p:spPr>
          <a:xfrm>
            <a:off x="5929200" y="4643280"/>
            <a:ext cx="300060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Основные функции  </a:t>
            </a:r>
            <a:r>
              <a:rPr b="0" lang="ru-RU" sz="3600" spc="-1" strike="noStrike">
                <a:solidFill>
                  <a:srgbClr val="00b050"/>
                </a:solidFill>
                <a:latin typeface="Arial Black"/>
              </a:rPr>
              <a:t>л</a:t>
            </a: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чностно</a:t>
            </a:r>
            <a:r>
              <a:rPr b="0" lang="ru-RU" sz="3600" spc="-1" strike="noStrike">
                <a:solidFill>
                  <a:srgbClr val="00b050"/>
                </a:solidFill>
                <a:latin typeface="Arial Black"/>
              </a:rPr>
              <a:t>-ориентированного подхода к образованию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, 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837720" y="2539800"/>
            <a:ext cx="8007480" cy="35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гуманитарная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ультурообразующая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оциализации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5"/>
          <p:cNvSpPr/>
          <p:nvPr/>
        </p:nvSpPr>
        <p:spPr>
          <a:xfrm>
            <a:off x="533520" y="609480"/>
            <a:ext cx="79246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Arial"/>
              </a:rPr>
              <a:t>Личностно-ориентированный подход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тодологическая ориентация в педагогической деятельности, позволяющая посредством опоры на систему взаимосвязанных понятий, идей и способов действий обеспечивать и поддерживать процессы самопознания, самостроительства и самореализа- ции личности ребенка, развития его неповторимой индивидуально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Образовать человека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8288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значит помочь ему стать субъектом культуры, научить жизнетворчес- тву, что предполагает вовлеченность в этот процесс самого ребенка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5"/>
          <p:cNvSpPr/>
          <p:nvPr/>
        </p:nvSpPr>
        <p:spPr>
          <a:xfrm>
            <a:off x="457200" y="457200"/>
            <a:ext cx="80773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Цель личностно 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ориентиро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ванного образован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457200" y="1981080"/>
            <a:ext cx="8458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b7"/>
                </a:solidFill>
                <a:latin typeface="Arial"/>
              </a:rPr>
              <a:t>состоит в том, чтобы «заложить в ребенке механизмы самореализации, саморазвития, адаптации, саморегуляции, самозащиты, самовоспитания»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5"/>
          <p:cNvSpPr/>
          <p:nvPr/>
        </p:nvSpPr>
        <p:spPr>
          <a:xfrm>
            <a:off x="533520" y="533520"/>
            <a:ext cx="807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Личностно</a:t>
            </a:r>
            <a:r>
              <a:rPr b="1" lang="ru-RU" sz="4000" spc="-1" strike="noStrike">
                <a:solidFill>
                  <a:srgbClr val="ff00ff"/>
                </a:solidFill>
                <a:latin typeface="Arial"/>
              </a:rPr>
              <a:t>-ориентированный подход к образованию</a:t>
            </a: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6"/>
          <p:cNvSpPr/>
          <p:nvPr/>
        </p:nvSpPr>
        <p:spPr>
          <a:xfrm>
            <a:off x="533520" y="2286000"/>
            <a:ext cx="807696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с одной стороны, предполагает осознанную ориентацию учителя на личность ребенка,</a:t>
            </a:r>
            <a:r>
              <a:rPr b="0" lang="ru-RU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что является условием его развития,</a:t>
            </a:r>
            <a:r>
              <a:rPr b="0" lang="ru-RU" sz="36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и, с другой стороны, сама личностная ориентация как процесс взаимодействия учителя и ученика является сущностью их развит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4" descr="logo_sh_r copy.gif"/>
          <p:cNvPicPr/>
          <p:nvPr/>
        </p:nvPicPr>
        <p:blipFill>
          <a:blip r:embed="rId1"/>
          <a:stretch/>
        </p:blipFill>
        <p:spPr>
          <a:xfrm>
            <a:off x="2500200" y="2136600"/>
            <a:ext cx="4103640" cy="35784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5" descr="letters_sh_r copy.gif"/>
          <p:cNvPicPr/>
          <p:nvPr/>
        </p:nvPicPr>
        <p:blipFill>
          <a:blip r:embed="rId2"/>
          <a:stretch/>
        </p:blipFill>
        <p:spPr>
          <a:xfrm>
            <a:off x="0" y="1143000"/>
            <a:ext cx="8643960" cy="84780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5" name="TextBox 6"/>
          <p:cNvSpPr/>
          <p:nvPr/>
        </p:nvSpPr>
        <p:spPr>
          <a:xfrm>
            <a:off x="231840" y="214200"/>
            <a:ext cx="868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Федеральный государственный образовательный стандар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льного общего образования и его реализация в УМ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Рисунок 7" descr="logo_prosv_silv.gif"/>
          <p:cNvPicPr/>
          <p:nvPr/>
        </p:nvPicPr>
        <p:blipFill>
          <a:blip r:embed="rId3"/>
          <a:stretch/>
        </p:blipFill>
        <p:spPr>
          <a:xfrm>
            <a:off x="3352680" y="5626080"/>
            <a:ext cx="2505240" cy="10890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logo_sh_r copy.gif"/>
          <p:cNvPicPr/>
          <p:nvPr/>
        </p:nvPicPr>
        <p:blipFill>
          <a:blip r:embed="rId4"/>
          <a:stretch/>
        </p:blipFill>
        <p:spPr>
          <a:xfrm>
            <a:off x="2500200" y="2143080"/>
            <a:ext cx="410364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  <a:ea typeface="Arial"/>
              </a:rPr>
              <a:t>Планируемые результаты начального общего образования</a:t>
            </a:r>
            <a:r>
              <a:rPr b="1" lang="ru-RU" sz="3600" spc="-1" strike="noStrike">
                <a:solidFill>
                  <a:srgbClr val="93cddd"/>
                </a:solidFill>
                <a:latin typeface="Arial"/>
                <a:ea typeface="Arial"/>
              </a:rPr>
              <a:t>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*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Личностны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* Метапредметны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* Предмет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_550_1276272177__550_1273556311_01"/>
          <p:cNvPicPr/>
          <p:nvPr/>
        </p:nvPicPr>
        <p:blipFill>
          <a:blip r:embed="rId1"/>
          <a:stretch/>
        </p:blipFill>
        <p:spPr>
          <a:xfrm>
            <a:off x="4952880" y="2895480"/>
            <a:ext cx="41911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Arial"/>
                <a:ea typeface="Arial"/>
              </a:rPr>
              <a:t>Основополагающие принципы</a:t>
            </a:r>
            <a:r>
              <a:rPr b="0" lang="ru-RU" sz="44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ru-RU" sz="4700" spc="-1" strike="noStrike">
                <a:solidFill>
                  <a:srgbClr val="ff0000"/>
                </a:solidFill>
                <a:latin typeface="Arial"/>
                <a:ea typeface="Arial"/>
              </a:rPr>
              <a:t>УМК «Школа России»</a:t>
            </a:r>
            <a:endParaRPr b="1" lang="en-US" sz="47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Принцип  воспитания гражданина Росси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Принцип  ценностных ориентиро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Принцип  обучения в деятельност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Принцип работы на результа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Принцип синтеза традиций и инноваций в образовани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Arial Black"/>
                <a:ea typeface="Arial"/>
              </a:rPr>
              <a:t>Ведущая целевая установка</a:t>
            </a:r>
            <a:br>
              <a:rPr sz="3600"/>
            </a:br>
            <a:r>
              <a:rPr b="0" lang="ru-RU" sz="3600" spc="-1" strike="noStrike">
                <a:solidFill>
                  <a:srgbClr val="ffff66"/>
                </a:solidFill>
                <a:latin typeface="Arial Black"/>
                <a:ea typeface="Arial"/>
              </a:rPr>
              <a:t>  УМК «Школа России» и ФГОС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Воспитание гуманного, творческого, социально активного человека – гражданина и патриота России, ува- жительно и бережно относящегося к среде своего обитания, к своей семье, к природному и культурному достоя нию своей малой Родины, своей много-национальной страны и всего челеве чества.</a:t>
            </a:r>
            <a:r>
              <a:rPr b="1" lang="ru-RU" sz="3000" spc="-1" strike="noStrike">
                <a:solidFill>
                  <a:srgbClr val="c00000"/>
                </a:solidFill>
                <a:latin typeface="Arial"/>
                <a:ea typeface="Arial"/>
              </a:rPr>
              <a:t>Современный национальный воспитательный идеал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48600"/>
            <a:ext cx="8385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  <a:ea typeface="Arial"/>
              </a:rPr>
              <a:t>Под   личностными  результатами   в стандарте   понимается   </a:t>
            </a: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становление    самоопределения   личности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ffff66"/>
                </a:solidFill>
                <a:latin typeface="Arial"/>
                <a:ea typeface="Arial"/>
              </a:rPr>
              <a:t>включая</a:t>
            </a:r>
            <a:r>
              <a:rPr b="1" lang="ru-RU" sz="2800" spc="-1" strike="noStrike">
                <a:solidFill>
                  <a:srgbClr val="93cddd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формирование основ российской гражданской и этнической  идентичности младшего школьника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формирование внутренней позиции школьника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развитие  мотивов и смыслов учебно-образовательной деятельности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развитие системы ценностных ориентаций, в т.ч. морально-этических, отражающих индивидуально-личностные позиции, социальные чувства и личностные качества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зинаидф</cp:lastModifiedBy>
  <dcterms:modified xsi:type="dcterms:W3CDTF">2015-01-21T09:52:36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