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C350-3E53-48D5-BD9B-1CB9186235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F271-652E-4AEE-AFB0-00AD54FDF4F1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5C71-A7C7-4443-BF6D-9A21CC5E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7CD4-9AE8-4179-9F2C-1239D29A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2A5A-875D-4B1F-9E8C-90DEF41A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14B-8823-4F65-A189-AED7020D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5A5B-FEF5-4B13-9C99-C5431974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E635-E42A-4896-AEFA-1611B64E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1371-1840-4EFC-95BC-A5CC6727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705B-8CC0-46FF-9EED-80279A24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73A9-2970-4750-82DF-A78E288E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294B-F1B3-4452-961D-DE74B295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99A2-31AB-4B26-ADF9-CAE75A4C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CEEE-1DDC-49CB-873E-DF325AEE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87B2-1C20-4693-9C91-5253044D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91F8-E2B0-4F45-8C1E-4747E922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77FC-8FD7-48D9-B0AD-AEC09F80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C20E-9FBD-45B5-9FB8-B1323DA9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0085-6B10-4146-92B1-00A89586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E4BB-580E-4A14-9825-EA3D8C6E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E23D-9317-4C0C-9A3F-9B2347A4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3DF2-65F6-468F-A7E3-7C60CD08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915-ED02-4195-AE56-ED6399AA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72D-BD43-420A-B1CC-70AD249B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EC17-AF6F-4D23-BBCA-75F1855D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6B9-410E-42A9-9EAD-A39DF36B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C59C-1C3B-444F-A4B8-E3E17DE94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6f8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693A-128A-4868-9BD6-369ED079CEB5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60066"/>
                </a:solidFill>
                <a:latin typeface="Tahoma"/>
              </a:rPr>
              <a:t>Математические софизмы</a:t>
            </a:r>
            <a:endParaRPr b="0" lang="en-US" sz="4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642680" y="4857480"/>
            <a:ext cx="6553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58c"/>
                </a:solidFill>
                <a:latin typeface="Tahoma"/>
              </a:rPr>
              <a:t>МОУ «Лесогорская СОШ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58c"/>
                </a:solidFill>
                <a:latin typeface="Tahoma"/>
              </a:rPr>
              <a:t>Выполнил: Воробьев Илья, 5 клас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58c"/>
                </a:solidFill>
                <a:latin typeface="Tahoma"/>
              </a:rPr>
              <a:t>Руководитель: Жилова З.Г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71320" y="2500200"/>
            <a:ext cx="83581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Мы делили обе части равенства (*)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на выражение b-a-c,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но b-a=с, значит b-a-c=0, таки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образом в данном софизме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выполнена недопустимая операция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деления на 0.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4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«Спичка вдвое длиннее    </a:t>
            </a: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                              телеграфного столба»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642960" y="1643040"/>
            <a:ext cx="814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Tahoma"/>
              </a:rPr>
              <a:t>Почему это не так</a:t>
            </a:r>
            <a:r>
              <a:rPr b="0" lang="en-US" sz="4800" spc="-1" strike="noStrike">
                <a:solidFill>
                  <a:srgbClr val="6633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«Два умножить на два будет пять»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120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2365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40458c"/>
                </a:solidFill>
                <a:latin typeface="Tahoma"/>
              </a:rPr>
              <a:t>Напишем 4</a:t>
            </a:r>
            <a:r>
              <a:rPr b="0" lang="en-US" sz="3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ru-RU" sz="3800" spc="-1" strike="noStrike">
                <a:solidFill>
                  <a:srgbClr val="40458c"/>
                </a:solidFill>
                <a:latin typeface="Tahoma"/>
              </a:rPr>
              <a:t>4=5</a:t>
            </a:r>
            <a:r>
              <a:rPr b="0" lang="en-US" sz="3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ru-RU" sz="3800" spc="-1" strike="noStrike">
                <a:solidFill>
                  <a:srgbClr val="40458c"/>
                </a:solidFill>
                <a:latin typeface="Tahoma"/>
              </a:rPr>
              <a:t>5, вынесем за</a:t>
            </a:r>
            <a:endParaRPr b="0" lang="en-US" sz="3800" spc="-1" strike="noStrike">
              <a:solidFill>
                <a:srgbClr val="40458c"/>
              </a:solidFill>
              <a:latin typeface="Tahoma"/>
            </a:endParaRPr>
          </a:p>
          <a:p>
            <a:pPr marL="2365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40458c"/>
                </a:solidFill>
                <a:latin typeface="Tahoma"/>
              </a:rPr>
              <a:t>скобки слева 4,</a:t>
            </a:r>
            <a:r>
              <a:rPr b="0" lang="en-US" sz="3800" spc="-1" strike="noStrike">
                <a:solidFill>
                  <a:srgbClr val="40458c"/>
                </a:solidFill>
                <a:latin typeface="Tahoma"/>
              </a:rPr>
              <a:t> c</a:t>
            </a:r>
            <a:r>
              <a:rPr b="0" lang="ru-RU" sz="3800" spc="-1" strike="noStrike">
                <a:solidFill>
                  <a:srgbClr val="40458c"/>
                </a:solidFill>
                <a:latin typeface="Tahoma"/>
              </a:rPr>
              <a:t>права5,</a:t>
            </a:r>
            <a:endParaRPr b="0" lang="en-US" sz="3800" spc="-1" strike="noStrike">
              <a:solidFill>
                <a:srgbClr val="40458c"/>
              </a:solidFill>
              <a:latin typeface="Tahoma"/>
            </a:endParaRPr>
          </a:p>
          <a:p>
            <a:pPr marL="2365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3800" spc="-1" strike="noStrike" baseline="5000">
                <a:solidFill>
                  <a:srgbClr val="40458c"/>
                </a:solidFill>
                <a:latin typeface="Tahoma"/>
              </a:rPr>
              <a:t>*</a:t>
            </a:r>
            <a:r>
              <a:rPr b="0" lang="ru-RU" sz="3800" spc="-1" strike="noStrike">
                <a:solidFill>
                  <a:srgbClr val="40458c"/>
                </a:solidFill>
                <a:latin typeface="Tahoma"/>
              </a:rPr>
              <a:t>(1</a:t>
            </a:r>
            <a:r>
              <a:rPr b="0" lang="en-US" sz="3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ru-RU" sz="3800" spc="-1" strike="noStrike">
                <a:solidFill>
                  <a:srgbClr val="40458c"/>
                </a:solidFill>
                <a:latin typeface="Tahoma"/>
              </a:rPr>
              <a:t>1)=5</a:t>
            </a:r>
            <a:r>
              <a:rPr b="0" lang="en-US" sz="3800" spc="-1" strike="noStrike" baseline="5000">
                <a:solidFill>
                  <a:srgbClr val="40458c"/>
                </a:solidFill>
                <a:latin typeface="Tahoma"/>
              </a:rPr>
              <a:t>*</a:t>
            </a:r>
            <a:r>
              <a:rPr b="0" lang="ru-RU" sz="3800" spc="-1" strike="noStrike">
                <a:solidFill>
                  <a:srgbClr val="40458c"/>
                </a:solidFill>
                <a:latin typeface="Tahoma"/>
              </a:rPr>
              <a:t>(1</a:t>
            </a:r>
            <a:r>
              <a:rPr b="0" lang="en-US" sz="3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ru-RU" sz="3800" spc="-1" strike="noStrike">
                <a:solidFill>
                  <a:srgbClr val="40458c"/>
                </a:solidFill>
                <a:latin typeface="Tahoma"/>
              </a:rPr>
              <a:t>1), разделим левую и</a:t>
            </a:r>
            <a:endParaRPr b="0" lang="en-US" sz="3800" spc="-1" strike="noStrike">
              <a:solidFill>
                <a:srgbClr val="40458c"/>
              </a:solidFill>
              <a:latin typeface="Tahoma"/>
            </a:endParaRPr>
          </a:p>
          <a:p>
            <a:pPr marL="2365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40458c"/>
                </a:solidFill>
                <a:latin typeface="Tahoma"/>
              </a:rPr>
              <a:t>правую часть на (1</a:t>
            </a:r>
            <a:r>
              <a:rPr b="0" lang="en-US" sz="3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ru-RU" sz="3800" spc="-1" strike="noStrike">
                <a:solidFill>
                  <a:srgbClr val="40458c"/>
                </a:solidFill>
                <a:latin typeface="Tahoma"/>
              </a:rPr>
              <a:t>1), получим</a:t>
            </a:r>
            <a:endParaRPr b="0" lang="en-US" sz="3800" spc="-1" strike="noStrike">
              <a:solidFill>
                <a:srgbClr val="40458c"/>
              </a:solidFill>
              <a:latin typeface="Tahoma"/>
            </a:endParaRPr>
          </a:p>
          <a:p>
            <a:pPr marL="2365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40458c"/>
                </a:solidFill>
                <a:latin typeface="Tahoma"/>
              </a:rPr>
              <a:t>4=5, откуда следует</a:t>
            </a:r>
            <a:r>
              <a:rPr b="0" lang="en-US" sz="3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8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3800" spc="-1" strike="noStrike" baseline="-5000">
                <a:solidFill>
                  <a:srgbClr val="40458c"/>
                </a:solidFill>
                <a:latin typeface="Tahoma"/>
              </a:rPr>
              <a:t>*</a:t>
            </a:r>
            <a:r>
              <a:rPr b="0" lang="ru-RU" sz="3800" spc="-1" strike="noStrike">
                <a:solidFill>
                  <a:srgbClr val="40458c"/>
                </a:solidFill>
                <a:latin typeface="Tahoma"/>
              </a:rPr>
              <a:t>2=5.</a:t>
            </a:r>
            <a:endParaRPr b="0" lang="en-US" sz="3800" spc="-1" strike="noStrike">
              <a:solidFill>
                <a:srgbClr val="40458c"/>
              </a:solidFill>
              <a:latin typeface="Tahoma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шибка скрылась в самом начале, при выносе за скобку выносится только числитель, знаменатель должен оставаться прежним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«Два умножить на два будет пять»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120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Tahoma"/>
              </a:rPr>
              <a:t>Почему это не так</a:t>
            </a:r>
            <a:r>
              <a:rPr b="0" lang="en-US" sz="4800" spc="-1" strike="noStrike">
                <a:solidFill>
                  <a:srgbClr val="6633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ru-RU" sz="3800" spc="-1" strike="noStrike">
                <a:solidFill>
                  <a:srgbClr val="40458c"/>
                </a:solidFill>
                <a:latin typeface="Tahoma"/>
              </a:rPr>
              <a:t>Ошибка скрылась в самом начале, при выносе за скобку выносится только числитель, знаменатель должен оставаться прежним.</a:t>
            </a:r>
            <a:r>
              <a:rPr b="0" lang="en-US" sz="3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800" spc="-1" strike="noStrike">
                <a:solidFill>
                  <a:srgbClr val="40458c"/>
                </a:solidFill>
                <a:latin typeface="Tahoma"/>
              </a:rPr>
              <a:t>Таким образом последующие рассуждения неверны.</a:t>
            </a:r>
            <a:endParaRPr b="0" lang="en-US" sz="3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6880" y="456840"/>
            <a:ext cx="809964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«Один рубль не равен 100 копеек»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7" name="Picture 7" descr="http://im2-tub-ru.yandex.net/i?id=311550893-44-72&amp;n=16"/>
          <p:cNvPicPr/>
          <p:nvPr/>
        </p:nvPicPr>
        <p:blipFill>
          <a:blip r:embed="rId1"/>
          <a:stretch/>
        </p:blipFill>
        <p:spPr>
          <a:xfrm>
            <a:off x="4714920" y="492912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http://im3-tub-ru.yandex.net/i?id=2857662-40-72"/>
          <p:cNvPicPr/>
          <p:nvPr/>
        </p:nvPicPr>
        <p:blipFill>
          <a:blip r:embed="rId2"/>
          <a:stretch/>
        </p:blipFill>
        <p:spPr>
          <a:xfrm>
            <a:off x="6500880" y="4857840"/>
            <a:ext cx="2190600" cy="16430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42960" y="1654200"/>
            <a:ext cx="8215200" cy="44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44a4"/>
                </a:solidFill>
                <a:latin typeface="Tahoma"/>
                <a:ea typeface="Times New Roman"/>
              </a:rPr>
              <a:t>1 р=100 коп (1)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44a4"/>
                </a:solidFill>
                <a:latin typeface="Tahoma"/>
                <a:ea typeface="Times New Roman"/>
              </a:rPr>
              <a:t>10 р=1000 коп (2)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44a4"/>
                </a:solidFill>
                <a:latin typeface="Tahoma"/>
                <a:ea typeface="Times New Roman"/>
              </a:rPr>
              <a:t>Умножим обе части этих верных равенств, получим: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44a4"/>
                </a:solidFill>
                <a:latin typeface="Tahoma"/>
                <a:ea typeface="Times New Roman"/>
              </a:rPr>
              <a:t>10 р=100000 коп (3), откуда следует: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44a4"/>
                </a:solidFill>
                <a:latin typeface="Tahoma"/>
                <a:ea typeface="Times New Roman"/>
              </a:rPr>
              <a:t>1 р=10000 коп.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6880" y="456840"/>
            <a:ext cx="809964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«Один рубль не равен 100 копеек»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680" y="1279440"/>
            <a:ext cx="8215200" cy="553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58c"/>
                </a:solidFill>
                <a:latin typeface="Tahoma"/>
              </a:rPr>
              <a:t>Почему это не так</a:t>
            </a:r>
            <a:r>
              <a:rPr b="0" lang="en-US" sz="40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шибка, допущенная в этом софизме, состоит в нарушении правил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йствия с именованными величинами: все действия,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овершаемые над величинами, необходимо совершать также 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д их размерностями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йствительно, перемножая равенства (1) и (2), мы получим не (3), а следующее равенств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0 р.</a:t>
            </a:r>
            <a:r>
              <a:rPr b="0" lang="ru-RU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=100 000 к .</a:t>
            </a:r>
            <a:r>
              <a:rPr b="0" lang="ru-RU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,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торое после деления на 10 дает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 р. </a:t>
            </a:r>
            <a:r>
              <a:rPr b="0" lang="ru-RU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= 10 000 коп. </a:t>
            </a:r>
            <a:r>
              <a:rPr b="0" lang="ru-RU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(*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 не равенство (3), как это записано в условии софизма. Извлекая квадратный корень из равенства (*), получаем верное равенство 1р.=100 коп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7740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Основные ошибки математических 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                                       софизмов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Деление на 0;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05560" indent="-205560"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Неправильные выводы из равенства дробей;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05560" indent="-205560"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Неправильное извлечение квадратного корня из квадрата выражения;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05560" indent="-205560">
              <a:spcBef>
                <a:spcPts val="550"/>
              </a:spcBef>
              <a:buSzPct val="1645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Нарушения правил действия с именованными величинами;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05560" indent="-205560">
              <a:spcBef>
                <a:spcPts val="550"/>
              </a:spcBef>
              <a:buSzPct val="1645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Путаница с понятиями «равенства» и «эквивалентность» в отношении множеств;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05560" indent="-205560">
              <a:spcBef>
                <a:spcPts val="550"/>
              </a:spcBef>
              <a:buSzPct val="1645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Проведение преобразований над математическими объектами, не имеющими смысла;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05560" indent="-205560">
              <a:spcBef>
                <a:spcPts val="550"/>
              </a:spcBef>
              <a:buSzPct val="16458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Неравносильный переход от одного неравенства к другому;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05560" indent="-205560">
              <a:spcBef>
                <a:spcPts val="550"/>
              </a:spcBef>
              <a:buSzPct val="16458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Выводы и вычисления по неверно построенным чертежам;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916200" y="54039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5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50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Найдите и Вы ошибку в 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                              доказательств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7929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Математические софизмы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029440" cy="39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44a4"/>
                </a:solidFill>
                <a:latin typeface="Tahoma"/>
              </a:rPr>
              <a:t>приучают  внимательно и настороженно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44a4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2d44a4"/>
                </a:solidFill>
                <a:latin typeface="Tahoma"/>
              </a:rPr>
              <a:t>продвигаться вперед в изучении математики, 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44a4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2d44a4"/>
                </a:solidFill>
                <a:latin typeface="Tahoma"/>
              </a:rPr>
              <a:t>тщательно следить за точностью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44a4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2d44a4"/>
                </a:solidFill>
                <a:latin typeface="Tahoma"/>
              </a:rPr>
              <a:t>формулировок, правильностью записи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44a4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2d44a4"/>
                </a:solidFill>
                <a:latin typeface="Tahoma"/>
              </a:rPr>
              <a:t>чертежей, за законностью математических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44a4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2d44a4"/>
                </a:solidFill>
                <a:latin typeface="Tahoma"/>
              </a:rPr>
              <a:t>операций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44a4"/>
                </a:solidFill>
                <a:latin typeface="Tahoma"/>
              </a:rPr>
              <a:t>помогают развивать логику и навык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44a4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2d44a4"/>
                </a:solidFill>
                <a:latin typeface="Tahoma"/>
              </a:rPr>
              <a:t>правильного мышления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44a4"/>
                </a:solidFill>
                <a:latin typeface="Tahoma"/>
              </a:rPr>
              <a:t>развивают наблюдательность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44a4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2d44a4"/>
                </a:solidFill>
                <a:latin typeface="Tahoma"/>
              </a:rPr>
              <a:t>вдумчивость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44a4"/>
                </a:solidFill>
                <a:latin typeface="Tahoma"/>
              </a:rPr>
              <a:t>это увлекательно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4500"/>
                            </p:stCondLst>
                            <p:childTnLst>
                              <p:par>
                                <p:cTn id="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58c"/>
                </a:solidFill>
                <a:latin typeface="Tahoma"/>
              </a:rPr>
              <a:t>СПАСИБО</a:t>
            </a:r>
            <a:endParaRPr b="0" lang="en-US" sz="6000" spc="-1" strike="noStrike">
              <a:solidFill>
                <a:srgbClr val="40458c"/>
              </a:solidFill>
              <a:latin typeface="Tahoma"/>
            </a:endParaRPr>
          </a:p>
          <a:p>
            <a:pPr marL="195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58c"/>
                </a:solidFill>
                <a:latin typeface="Tahoma"/>
              </a:rPr>
              <a:t>ЗА ВНИМАНИЕ!</a:t>
            </a:r>
            <a:endParaRPr b="0" lang="en-US" sz="6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Рисунок 2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2857680" y="4643280"/>
            <a:ext cx="320040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71680" y="150012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«Математику уже затем учить надо, что она ум в порядок приводит»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    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М.В.Ломоносов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Picture 6" descr="http://im8-tub-ru.yandex.net/i?id=585393975-59-72&amp;n=17"/>
          <p:cNvPicPr/>
          <p:nvPr/>
        </p:nvPicPr>
        <p:blipFill>
          <a:blip r:embed="rId1"/>
          <a:stretch/>
        </p:blipFill>
        <p:spPr>
          <a:xfrm>
            <a:off x="5894280" y="3000240"/>
            <a:ext cx="253548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Математический софизм -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5480" y="1500120"/>
            <a:ext cx="82868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40458c"/>
                </a:solidFill>
                <a:latin typeface="Tahoma"/>
              </a:rPr>
              <a:t>удивительное утверждение, в доказательстве которого кроются незаметные, а подчас и довольно тонкие ошибки и  представляет собой, по существу, правдоподобное рассуждение, приводящее к неправдоподобному результату.</a:t>
            </a:r>
            <a:endParaRPr b="0" lang="en-US" sz="3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Основные создатели софизмов -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49291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древнегреческие ученые-философы. Математические  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софизмы создавались, основываясь на элементарных аксиомах.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3" name="Рисунок 4" descr="https://blob-s-docs.googlegroups.com/docs/OgAAAGFc5V3o0RoKs6yMxQMzpEAwnBVl8wiC0lp9J_5u1-UqbP_2rzvsjxxi56TKG4yCx0RLVAKO4c1p_gKxF8CFL3UA15jOjGqp5NJnYrCFbtDJJwbKqnwnGfY_"/>
          <p:cNvPicPr/>
          <p:nvPr/>
        </p:nvPicPr>
        <p:blipFill>
          <a:blip r:embed="rId1"/>
          <a:stretch/>
        </p:blipFill>
        <p:spPr>
          <a:xfrm>
            <a:off x="5643720" y="1714680"/>
            <a:ext cx="3081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839520"/>
            <a:ext cx="824868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Математические софизмы древност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571680" y="1500120"/>
            <a:ext cx="8215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Софизм Зенона в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V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веке до н.э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571680" y="2214720"/>
            <a:ext cx="82152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Ахиллес, один из самых сильных и храбрых героев, осаждавших древнюю Трою, никогда не догонит черепаху, которая, как известно, отличается крайне медленной скоростью передвижения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2960" y="380880"/>
            <a:ext cx="8143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Софизм Зенона в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V 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веке до н.э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42960" y="1571400"/>
            <a:ext cx="81439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Ахиллес и черепаха начинают свое движение одновременно, и Ахиллес стремится догнать черепаху. Примем для определенности, что Ахиллес движется в 10 раз быстрее черепахи, и что их отделяют друг от друга 100 шагов. Когда Ахиллес пробежит расстояние в 100 шагов, отделяющее его от того места, откуда начала двигаться черепаха, то в этом месте он туже ее не застанет, так как  она пройдет вперед расстояние в 10 шагов. Когда Ахиллес минует и эти 10 шагов, то и там черепахи уже не будет, поскольку она успеет перейти на 1 шаг вперед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Софизм Зенона в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V 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веке до н.э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99760"/>
            <a:ext cx="78487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стигнув и этого места, Ахиллес опять не найдет там черепахи, потому что она успеет пройти расстояние, равное 1/10 шага, и снова окажется несколько впереди его. Это рассуждение можно продолжать до бесконечности, и придется признать, что быстроногий  Ахиллес никогда не догонит медленно ползающую черепах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1" name="Рисунок 4" descr="Картинка 15 из 1163"/>
          <p:cNvPicPr/>
          <p:nvPr/>
        </p:nvPicPr>
        <p:blipFill>
          <a:blip r:embed="rId1"/>
          <a:stretch/>
        </p:blipFill>
        <p:spPr>
          <a:xfrm>
            <a:off x="2000160" y="3857760"/>
            <a:ext cx="46846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Современные математические софизмы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714920" y="1571400"/>
            <a:ext cx="3929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Times New Roman"/>
              </a:rPr>
              <a:t>телеграфного столба» </a:t>
            </a:r>
            <a:endParaRPr b="0" lang="en-US" sz="29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4" name="Рисунок 4" descr="https://blob-s-docs.googlegroups.com/docs/OgAAACcXfOHSENwxjklMBZtC1OYM7a5157wbQfxjXme7D90XhYO9uhcPuxLjbvJLgCMKJh5WPg8pzLNDQY1UFvdUvbQA15jOjAkS0ZfwI4g5z9a3-HkgZ0Bq_EDo"/>
          <p:cNvPicPr/>
          <p:nvPr/>
        </p:nvPicPr>
        <p:blipFill>
          <a:blip r:embed="rId1"/>
          <a:stretch/>
        </p:blipFill>
        <p:spPr>
          <a:xfrm>
            <a:off x="3286080" y="2071800"/>
            <a:ext cx="5357880" cy="407196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5" descr="https://blob-s-docs.googlegroups.com/docs/OgAAACQ-unkQ67SvJTSd8sERceRkD6LyKjl3sSkuVtxS99KfExKrUdFKAFX3uq1YAF6eK058ipcxi9ueSGrTrybJkfYA15jOjNwctzl6PUt9KIxcKhF6eG49X10S"/>
          <p:cNvPicPr/>
          <p:nvPr/>
        </p:nvPicPr>
        <p:blipFill>
          <a:blip r:embed="rId2"/>
          <a:stretch/>
        </p:blipFill>
        <p:spPr>
          <a:xfrm>
            <a:off x="1571760" y="3286080"/>
            <a:ext cx="457200" cy="19288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642960" y="1571760"/>
            <a:ext cx="421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Times New Roman"/>
              </a:rPr>
              <a:t>«Спичка вдвое длиннее</a:t>
            </a:r>
            <a:endParaRPr b="0" lang="en-US" sz="2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71320" y="157176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усть а дм- длина спички и b дм – длина столб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зность между b и a обозначим через c 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Имеем b - a = c,  b =  a + c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еремножаем два эти равенства по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частям, находим: b2 - ab = ca + c2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ычтем из обеих частей  bc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олучим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b2- ab - bc =  ca + c2- bc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или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b (b –a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-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) = - c (b - a -c) (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*)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куда b = - c, но c = b - a, поэтому b = a - b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или a = 2b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4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«Спичка вдвое длиннее    </a:t>
            </a: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                              телеграфного столба»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07:33:10Z</dcterms:created>
  <dc:creator>Пользователь</dc:creator>
  <dc:description/>
  <dc:language>en-US</dc:language>
  <cp:lastModifiedBy>UserXP</cp:lastModifiedBy>
  <dcterms:modified xsi:type="dcterms:W3CDTF">2015-01-18T15:24:05Z</dcterms:modified>
  <cp:revision>34</cp:revision>
  <dc:subject/>
  <dc:title>Презентация PowerPoint</dc:title>
</cp:coreProperties>
</file>