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226F-5291-4C6F-ACEE-581E63770E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53E3-F0BC-4812-80C3-624B674921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48A-7C88-44B6-A200-D4F79741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FFD-610D-46EE-9F56-FDA3503A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16F-0520-47AD-9DBD-EA501B76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AEF-FE8A-4F27-BBD6-6E5014CF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58B-053C-4961-B6B8-FCDD4A3A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64A-1F6C-4D12-9F17-1917DD37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D28-449E-4FF9-986F-B2D80ED7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AD4-19FF-4555-9E11-B39E5D96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F48-211F-4CAA-ABD1-BA1870C0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C841-157A-4455-A29C-F7FAD828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274-0666-48E3-A3AB-787C2684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0A8-345E-45DF-985E-4EF33AC5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7F4A-C231-4C70-BD1F-B3728CD1D4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6920" y="1484280"/>
            <a:ext cx="727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Мәктәптә-химия атналыгы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(11.02.2013-16.02.201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квалификацион категориял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химия биология укытучысы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Хәйбуллина Фәния Фәрид кы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91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АТАРСТАН РЕСПУБЛИКАСЫ АПАС МУНИЦИПАЛЬ РАЙОНЫ «</a:t>
            </a:r>
            <a:r>
              <a:rPr b="1" i="1" lang="tt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ӘҮЛӘКИ ТӨП ГОМУМБЕЛЕМ БИРҮ МӘКТӘБЕ</a:t>
            </a: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»</a:t>
            </a:r>
            <a:br>
              <a:rPr sz="2400"/>
            </a:br>
            <a:br>
              <a:rPr sz="24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28036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нчы көн- Ребусларга, кроссвордларга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нәтиҗәләр чыгару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нә алар иң-иңнә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Объект 1" descr=""/>
          <p:cNvPicPr/>
          <p:nvPr/>
        </p:nvPicPr>
        <p:blipFill>
          <a:blip r:embed="rId1"/>
          <a:stretch/>
        </p:blipFill>
        <p:spPr>
          <a:xfrm>
            <a:off x="3867120" y="2390760"/>
            <a:ext cx="1671840" cy="2193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560" y="4479480"/>
            <a:ext cx="252108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әйдуллина Әминә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нче сыйныф укучы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6732720" y="2495520"/>
            <a:ext cx="1295280" cy="198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1382760" cy="2346120"/>
          </a:xfrm>
          <a:prstGeom prst="rect">
            <a:avLst/>
          </a:prstGeom>
          <a:ln w="0">
            <a:noFill/>
          </a:ln>
        </p:spPr>
      </p:pic>
      <p:sp>
        <p:nvSpPr>
          <p:cNvPr id="77" name="Текст 6"/>
          <p:cNvSpPr/>
          <p:nvPr/>
        </p:nvSpPr>
        <p:spPr>
          <a:xfrm>
            <a:off x="3656160" y="4869000"/>
            <a:ext cx="20952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икбув Илшат 9нчы сыйныф укучы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Текст 6"/>
          <p:cNvSpPr/>
          <p:nvPr/>
        </p:nvSpPr>
        <p:spPr>
          <a:xfrm>
            <a:off x="6372360" y="4653000"/>
            <a:ext cx="24555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әүләтшина Зилә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нче сыйныф укучы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6480"/>
            <a:ext cx="7772400" cy="111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тналыкка нәтиҗәлә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4000" y="980640"/>
            <a:ext cx="7848360" cy="20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Химия атналыгы укучыларда фәнгә карата кызыксынуларын үстерергә ярдәм ит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Дәресләрдә алган белемнәрне практикада кулланырга мөмкинчелек бирд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Табигат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ькә сакчыл караш, сәламәтлеккә игъ</a:t>
            </a:r>
            <a:r>
              <a:rPr b="0" lang="tt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ибарлылыкны арттыр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ъ</a:t>
            </a:r>
            <a:r>
              <a:rPr b="1" lang="tt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барыгыз </a:t>
            </a:r>
            <a:br>
              <a:rPr sz="5400"/>
            </a:br>
            <a:r>
              <a:rPr b="1" lang="tt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өчен рәхмәт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тналыкның макс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99640" y="1484280"/>
            <a:ext cx="7643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кучыларның, элементларның  периодик системасы, Д.И. Менделеев турындагы белмнәрен үстерү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имик тәҗрибәләр вакытында үзләренең практик белемнәрен кулланырга өйрәнү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әнгә кызыксынучанлык, табигать</a:t>
            </a:r>
            <a:r>
              <a:rPr b="0" lang="tt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ә сакчыл караш тәрбиялә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6192720" cy="5905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тналыкның пла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нче көн-Ребуслар, кроссвордлар.</a:t>
            </a:r>
            <a:br>
              <a:rPr sz="4000"/>
            </a:br>
            <a:r>
              <a:rPr b="0" lang="tt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Барлык укучылар</a:t>
            </a:r>
            <a:br>
              <a:rPr sz="2400"/>
            </a:br>
            <a:r>
              <a:rPr b="0" lang="tt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 </a:t>
            </a:r>
            <a:br>
              <a:rPr sz="2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 rot="21069600">
            <a:off x="784080" y="1359000"/>
            <a:ext cx="2376720" cy="3362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 rot="1066800">
            <a:off x="5978160" y="2989440"/>
            <a:ext cx="2314440" cy="327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 rot="20875800">
            <a:off x="2790720" y="3198960"/>
            <a:ext cx="2239920" cy="316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 rot="699600">
            <a:off x="4319280" y="1468080"/>
            <a:ext cx="2314440" cy="327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нче көн-Игра-викторина</a:t>
            </a:r>
            <a:br>
              <a:rPr sz="4000"/>
            </a:b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нче сыйныф укучылары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1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09604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нче көн-Игра-викторина</a:t>
            </a:r>
            <a:br>
              <a:rPr sz="4800"/>
            </a:b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нчы сыйныф укучыла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136000" cy="542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нче көн - Фәндә аның исеме мәңге калыр.</a:t>
            </a:r>
            <a:br>
              <a:rPr sz="4000"/>
            </a:b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Д. И. Менделеевка багышланган кичә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1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632720" cy="5088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нче көн - Химия лабораториясендә тамаша. </a:t>
            </a:r>
            <a:br>
              <a:rPr sz="4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лык мәктәп укучылар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934920" y="1557360"/>
            <a:ext cx="7640640" cy="5092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нче көн – Экологик кичә</a:t>
            </a:r>
            <a:br>
              <a:rPr sz="4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ряд прафилактики и праванарушений -  8-9 класс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tretch/>
        </p:blipFill>
        <p:spPr>
          <a:xfrm rot="667200">
            <a:off x="5822640" y="2259000"/>
            <a:ext cx="3025800" cy="22701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2"/>
          <a:stretch/>
        </p:blipFill>
        <p:spPr>
          <a:xfrm rot="21064800">
            <a:off x="214200" y="2409840"/>
            <a:ext cx="2903760" cy="217800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3" descr=""/>
          <p:cNvPicPr/>
          <p:nvPr/>
        </p:nvPicPr>
        <p:blipFill>
          <a:blip r:embed="rId3"/>
          <a:stretch/>
        </p:blipFill>
        <p:spPr>
          <a:xfrm>
            <a:off x="2771640" y="1062000"/>
            <a:ext cx="3497400" cy="2622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"/>
          <p:cNvPicPr/>
          <p:nvPr/>
        </p:nvPicPr>
        <p:blipFill>
          <a:blip r:embed="rId4"/>
          <a:stretch/>
        </p:blipFill>
        <p:spPr>
          <a:xfrm>
            <a:off x="2771640" y="3851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Фагим</cp:lastModifiedBy>
  <dcterms:modified xsi:type="dcterms:W3CDTF">2013-02-25T18:31:38Z</dcterms:modified>
  <cp:revision>20</cp:revision>
  <dc:subject/>
  <dc:title>Презентация PowerPoint</dc:title>
</cp:coreProperties>
</file>