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571-F47F-4AD8-BDA1-C6ACCE64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73D-760A-48D4-AACB-88E9238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32F1-B107-4D0E-B3F0-7407AC1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81FC2-7BC3-40E5-B9F9-FE790EE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1BC27-43F3-4874-AD23-5E7E26E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ED47-7E46-4678-A260-B15C665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30EBC-0BE3-44C6-8AF2-63FF410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A4C4-0470-4BE7-A318-A07A2B7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B2919-3AAB-4F33-B6F7-B101D1B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5AC85-28CB-4A53-93ED-BEE490B4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726D-F683-451F-AF92-D976350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93F-8EA6-4272-9A58-03E448EB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D3E-04E4-4066-8A51-16EDF46E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C5EC-70EC-46B3-BA5C-E8A07B4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8D5-35D1-4E8B-B629-EDD714E6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F7C8-DCFE-4319-B1B2-123A2A9F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DE43-2B57-42A3-8933-292CA5B0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AC2B-67D7-48EC-9949-C9A64E7C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1EA7-B4FE-40F7-B069-252E780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C1F6-B689-4E83-B359-A1DA9B5B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A8C-0C2B-4B41-9A51-7C1DAB3A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2FFA-E7DB-4224-B7B4-DC17872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BD7-6884-4248-A11F-AA714C6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2FB0-644F-4209-821A-F8B5A63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70D4-B411-44C5-A78A-735D3B15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5DBD-9ADC-4BF1-9B4F-A721E792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FDF0-0A5C-47EB-B65F-B621D30F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E933-6EED-418C-AA0D-584D2D7F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F776-39E4-4D1D-A59E-549197F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C5A5-6FA3-466E-9F59-240EF8C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4A72-B15B-4F9D-92D0-991A2F87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5F8-93AF-4603-B42F-8B545FB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E56E-7ACA-4D19-BC83-F503CB2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7069-E679-44A6-A841-2EEEE30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0FA7-70A4-4580-9C44-3D0F72A4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30D2-CF50-41FF-872E-177E161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8E1B-115E-449C-8095-6C0EA413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3B4E-7928-4DA2-83B2-ACC9D84B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CF80-3D68-4396-8A99-FE49C02A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6FF6-E182-4B79-AB53-2FD084B2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A33A-8178-4F7D-9339-D9B42D52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513C-93EF-445E-A4CA-C36067DB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EB2-EE19-49F1-89D4-758E5BD3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8DE4-E142-44B9-80DE-023F8F9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FF4F-B119-40D8-893F-BF25C56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E9E1-F04A-4FD0-8D37-AF8DFB3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6374-BD15-43BD-9FCD-E1BD0B6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B016-174B-41BA-B48F-FA97DA4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F53D-6408-40E3-BD06-9022E2AB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F9CD-EFC9-4958-A1B8-1BCB365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A60A-624A-4027-AE0F-EFF62C2F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C219-6678-43F4-91B2-5299E7AE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3802-6479-41DB-A838-65F5B07D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519-2350-4775-A0F5-107A195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5BEC-6D8C-492D-9ACA-83C36F3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8E3C-4A71-4C56-A838-EF31B123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6AB2-9CFA-42C3-B26F-E9BB5E1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97CA-0AB2-480C-BA19-AF9BD9E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8AF1-EB39-4664-9E22-D744F88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1D38-E523-40DA-9243-59B5399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C245-533A-4C2B-B7BB-7E4FA37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7BFB-9661-4E54-8B69-2A17938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865A-51F4-4EF4-B0C8-F7BE134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144A-23A5-4FA5-A962-C066F5CB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D35-CB12-4597-AEB4-4B633EA2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DCFF-603E-409A-BA10-7BDD8655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E15F-B589-432A-9717-85F8B540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C978-3FFB-4716-AA7C-52BDED9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5FBF-512A-4907-9DFD-0E5C1BF0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09D3-3245-45CC-85C4-CAD0B489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FA27B-76C8-4B8A-BCB6-742FE2F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97FD-8E15-4CB1-8CE0-474B384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23FD-255F-43C4-9AFD-38DE9A52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9144-D711-49FB-99D8-14718E3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8D7B-5037-4F07-9908-FDEC4A1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AFA-B716-4CD8-A1CB-7F8D033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254B-6F3A-4DF2-AC97-98A4E790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95D9-55C9-4D9B-893E-C0ABBA8D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4FD8-6B68-4FBF-8B19-8B7280FC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F5F51-DB94-459D-A694-B9C9CEEA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ABE8-38C5-4E45-8C81-A47E9D2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D05E-9B8D-43EC-B3A0-9CEE5EB5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EFC0-D279-4446-9C2C-F8BFF47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5337-11C3-45F2-A0AD-FA198BF2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FC5F-1F33-4DEA-9E08-E9235F5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273E-7A4F-4B74-A175-28C4479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667-4430-45A7-8881-3DD5E4B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724A-7189-4074-BFF6-197121F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84D5-9B9A-4074-B15D-3F19AB3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427F-743B-4542-B98A-AB423A82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0411-2366-49C5-A6FF-DCE6BF96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833F-3A65-4266-8A9A-C8A5D05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09AF-B655-415B-B48F-8D801E6E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102F-A7DE-48C3-BA67-309B2E02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84F3-C7F8-4181-A6CB-45E5886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431D-9037-484D-87A2-3FABE14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908C-6F25-47B9-AE61-F5A8F596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336-9608-4EFC-A1DE-D7A9B2D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81C92-2D45-4B3D-8A9B-A865166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15F6-58A6-4B08-9C8D-D88CF8E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F240-8031-4BF8-9200-8E413F1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EB1D-E4FC-429E-BA46-81EE666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99EF-1D3C-454B-B4AF-C74EB6A2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25064-A1DF-48A8-9363-B758DC58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4568-AE4B-4FAB-9839-494E61DF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FE7F-537E-4662-9A1E-F101881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578E-DC13-4A88-BDAB-383065F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E6EC8-E798-4D82-B7E6-D527A6EA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FF3-78F9-4E5B-B6C9-9E76CC3FFB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93CF-C3AE-43B6-A781-2766822EBC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244-E6F2-425D-B077-0DB7F0B629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1631-CFC4-49D8-B64B-9C28B6CD81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9EF-76DA-467B-9520-A9CB45042F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7FE-EF01-4385-9D39-C3CC54FE70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0C3E-A1C2-4717-ABF1-F83D4126FF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D3F-AC83-411B-860A-FE02FC3519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985-4143-44A0-85EC-220A1B8E4C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nformatika-i-my.webnode.ru/" TargetMode="External"/><Relationship Id="rId4" Type="http://schemas.openxmlformats.org/officeDocument/2006/relationships/hyperlink" Target="http://informatika-i-my.webnode.ru/" TargetMode="External"/><Relationship Id="rId5" Type="http://schemas.openxmlformats.org/officeDocument/2006/relationships/hyperlink" Target="http://informatika-i-my.webnode.ru/" TargetMode="External"/><Relationship Id="rId6" Type="http://schemas.openxmlformats.org/officeDocument/2006/relationships/hyperlink" Target="http://informatika-i-my.webnode.ru/" TargetMode="External"/><Relationship Id="rId7" Type="http://schemas.openxmlformats.org/officeDocument/2006/relationships/hyperlink" Target="http://informatika-i-my.webnode.ru/" TargetMode="External"/><Relationship Id="rId8" Type="http://schemas.openxmlformats.org/officeDocument/2006/relationships/hyperlink" Target="http://informatika-i-my.webnode.ru/" TargetMode="External"/><Relationship Id="rId9" Type="http://schemas.openxmlformats.org/officeDocument/2006/relationships/hyperlink" Target="http://informatika-i-my.webnode.ru/" TargetMode="External"/><Relationship Id="rId10" Type="http://schemas.openxmlformats.org/officeDocument/2006/relationships/hyperlink" Target="http://informatika-i-my.webnode.ru/" TargetMode="External"/><Relationship Id="rId11" Type="http://schemas.openxmlformats.org/officeDocument/2006/relationships/hyperlink" Target="http://informatika-i-my.webnode.ru/" TargetMode="Externa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7" descr=""/>
          <p:cNvPicPr/>
          <p:nvPr/>
        </p:nvPicPr>
        <p:blipFill>
          <a:blip r:embed="rId1"/>
          <a:stretch/>
        </p:blipFill>
        <p:spPr>
          <a:xfrm>
            <a:off x="-285840" y="103320"/>
            <a:ext cx="9790200" cy="3213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8"/>
          <p:cNvSpPr/>
          <p:nvPr/>
        </p:nvSpPr>
        <p:spPr>
          <a:xfrm>
            <a:off x="5578560" y="4581360"/>
            <a:ext cx="356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влева Ирина Владимировна, учитель информатики МБОУ СОШ №14 г.Ю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Научные работы по компьютерным дисциплинам, проектирую базы данны"/>
          <p:cNvPicPr/>
          <p:nvPr/>
        </p:nvPicPr>
        <p:blipFill>
          <a:blip r:embed="rId2"/>
          <a:stretch/>
        </p:blipFill>
        <p:spPr>
          <a:xfrm>
            <a:off x="539640" y="3429000"/>
            <a:ext cx="2737080" cy="311004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5580000" y="6519240"/>
            <a:ext cx="32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hlinkClick r:id="rId5"/>
              </a:rPr>
              <a:t>informatika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Times New Roman"/>
                <a:hlinkClick r:id="rId6"/>
              </a:rPr>
              <a:t>-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hlinkClick r:id="rId7"/>
              </a:rPr>
              <a:t>i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Times New Roman"/>
                <a:hlinkClick r:id="rId8"/>
              </a:rPr>
              <a:t>-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hlinkClick r:id="rId9"/>
              </a:rPr>
              <a:t>my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hlinkClick r:id="rId11"/>
              </a:rPr>
              <a:t>webnod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117360"/>
            <a:ext cx="8215200" cy="6677640"/>
          </a:xfrm>
          <a:prstGeom prst="rect">
            <a:avLst/>
          </a:prstGeom>
          <a:noFill/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87d0e"/>
                </a:solidFill>
                <a:uFillTx/>
                <a:latin typeface="Times New Roman"/>
                <a:ea typeface="Times New Roman"/>
              </a:rPr>
              <a:t>Каждый объект имеет:</a:t>
            </a:r>
            <a:r>
              <a:rPr b="0" lang="ru-RU" sz="24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87d0e"/>
                </a:solidFill>
                <a:uFillTx/>
                <a:latin typeface="Times New Roman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оказатели, характеризующие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87d0e"/>
                </a:solidFill>
                <a:uFillTx/>
                <a:latin typeface="Times New Roman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действия, которые можно произвести с 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87d0e"/>
                </a:solidFill>
                <a:uFillTx/>
                <a:latin typeface="Times New Roman"/>
                <a:ea typeface="Times New Roman"/>
              </a:rPr>
              <a:t>Собы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действия, которые происходят с 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87d0e"/>
                </a:solidFill>
                <a:uFillTx/>
                <a:latin typeface="Times New Roman"/>
                <a:ea typeface="Times New Roman"/>
              </a:rPr>
              <a:t>Преимущества Visual Basic:</a:t>
            </a:r>
            <a:r>
              <a:rPr b="0" lang="ru-RU" sz="24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годно отличается от других языков программирования своей простотой и нагляд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ично развивающийся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троен в такие программы как Word, Excel и др. С его помощью можно управлять этими программами из других пр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объектно-ориентированный язык. Основой языка являются объ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-6480" y="-195120"/>
            <a:ext cx="8729640" cy="1164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Окно добавления объекта."/>
          <p:cNvPicPr/>
          <p:nvPr/>
        </p:nvPicPr>
        <p:blipFill>
          <a:blip r:embed="rId2"/>
          <a:stretch/>
        </p:blipFill>
        <p:spPr>
          <a:xfrm>
            <a:off x="1835280" y="1339920"/>
            <a:ext cx="6121440" cy="37972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324000" y="52293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пуска программы выбрать объект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дартный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E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5"/>
          <p:cNvCxnSpPr/>
          <p:nvPr/>
        </p:nvCxnSpPr>
        <p:spPr>
          <a:xfrm flipH="1" flipV="1">
            <a:off x="2700000" y="2060280"/>
            <a:ext cx="3240720" cy="417744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84120" y="109440"/>
            <a:ext cx="8375760" cy="6098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468360" y="4292640"/>
            <a:ext cx="899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ментов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одни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войст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его элемента управления ил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ля ввода кома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манды выполняются сразу пос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, содержащие формы, модули и другие элемент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5" descr=""/>
          <p:cNvPicPr/>
          <p:nvPr/>
        </p:nvPicPr>
        <p:blipFill>
          <a:blip r:embed="rId2"/>
          <a:srcRect l="0" t="0" r="29071" b="26860"/>
          <a:stretch/>
        </p:blipFill>
        <p:spPr>
          <a:xfrm>
            <a:off x="1763640" y="836640"/>
            <a:ext cx="6048360" cy="3529080"/>
          </a:xfrm>
          <a:prstGeom prst="rect">
            <a:avLst/>
          </a:prstGeom>
          <a:ln w="0">
            <a:noFill/>
          </a:ln>
        </p:spPr>
      </p:pic>
      <p:cxnSp>
        <p:nvCxnSpPr>
          <p:cNvPr id="426" name="Прямая со стрелкой 17"/>
          <p:cNvCxnSpPr/>
          <p:nvPr/>
        </p:nvCxnSpPr>
        <p:spPr>
          <a:xfrm flipH="1" flipV="1">
            <a:off x="3347280" y="2491560"/>
            <a:ext cx="1369080" cy="20898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7" name="Прямая со стрелкой 18"/>
          <p:cNvCxnSpPr/>
          <p:nvPr/>
        </p:nvCxnSpPr>
        <p:spPr>
          <a:xfrm flipH="1" flipV="1">
            <a:off x="1834920" y="2276640"/>
            <a:ext cx="2305440" cy="27370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8" name="Прямая со стрелкой 21"/>
          <p:cNvCxnSpPr/>
          <p:nvPr/>
        </p:nvCxnSpPr>
        <p:spPr>
          <a:xfrm flipH="1" flipV="1">
            <a:off x="2123280" y="3859920"/>
            <a:ext cx="6336360" cy="15138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9" name="Прямая со стрелкой 25"/>
          <p:cNvCxnSpPr/>
          <p:nvPr/>
        </p:nvCxnSpPr>
        <p:spPr>
          <a:xfrm flipV="1">
            <a:off x="1368360" y="3644280"/>
            <a:ext cx="5725440" cy="23770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0" name="Прямая со стрелкой 27"/>
          <p:cNvCxnSpPr/>
          <p:nvPr/>
        </p:nvCxnSpPr>
        <p:spPr>
          <a:xfrm flipH="1" flipV="1">
            <a:off x="5579640" y="2636280"/>
            <a:ext cx="3564720" cy="381708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78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§ 2.2. Вопросы в конце параграфа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.Д.Угринович. Информатика и ИКТ. Учебник для 10-11 класса-М.: Бином. Лаборатория знаний, 2011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2"/>
          <p:cNvSpPr/>
          <p:nvPr/>
        </p:nvSpPr>
        <p:spPr>
          <a:xfrm>
            <a:off x="826920" y="206064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льный язык для записи алгоритмов в виде, допускающем их автоматическую подготовку к выполнению на компьюте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Языки программирования &quot; Script-Coding.info - энциклопедия языков программирования"/>
          <p:cNvPicPr/>
          <p:nvPr/>
        </p:nvPicPr>
        <p:blipFill>
          <a:blip r:embed="rId1"/>
          <a:stretch/>
        </p:blipFill>
        <p:spPr>
          <a:xfrm>
            <a:off x="217440" y="333360"/>
            <a:ext cx="1762200" cy="18716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2195640" y="260280"/>
            <a:ext cx="63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ык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539640" y="40464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, чтобы в оперативной памяти компьютера находилас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-переводчик (транслятор)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 переводящая программу с языка программирования высокого уровня на машинный язык. Компьютер может выполнять программы, написанные только на том языке программирования, транслятор которого размещен в оперативной памяти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правляющая кнопка: далее 2"/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26920" y="620640"/>
            <a:ext cx="770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язык – представляет собой логические последовательности нулей и едини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ИА &quot;Новости - Молдова&quot;"/>
          <p:cNvPicPr/>
          <p:nvPr/>
        </p:nvPicPr>
        <p:blipFill>
          <a:blip r:embed="rId1"/>
          <a:stretch/>
        </p:blipFill>
        <p:spPr>
          <a:xfrm>
            <a:off x="3203640" y="4365720"/>
            <a:ext cx="2952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-24336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граммы-трансляторы языков программирования бывают двух типов: </a:t>
            </a:r>
            <a:r>
              <a:rPr b="1" i="1" lang="ru-RU" sz="54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компиляторы и интерпретаторы</a:t>
            </a:r>
            <a:r>
              <a:rPr b="1" lang="ru-RU" sz="54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.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6" descr="Блог выходного дня: в путешествие с Nokia Lumia 800 Conversations"/>
          <p:cNvPicPr/>
          <p:nvPr/>
        </p:nvPicPr>
        <p:blipFill>
          <a:blip r:embed="rId1"/>
          <a:stretch/>
        </p:blipFill>
        <p:spPr>
          <a:xfrm>
            <a:off x="3348000" y="4724280"/>
            <a:ext cx="2808360" cy="1866960"/>
          </a:xfrm>
          <a:prstGeom prst="rect">
            <a:avLst/>
          </a:prstGeom>
          <a:ln w="0">
            <a:noFill/>
          </a:ln>
        </p:spPr>
      </p:pic>
      <p:sp>
        <p:nvSpPr>
          <p:cNvPr id="412" name="Управляющая кнопка: далее 3"/>
          <p:cNvSpPr/>
          <p:nvPr/>
        </p:nvSpPr>
        <p:spPr>
          <a:xfrm>
            <a:off x="831708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539640" y="476280"/>
            <a:ext cx="77043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тор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, которая обеспечивает последовательный перевод команд программы на машинный язык с одновременным их выполн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добство отладки программы, так как возможно пошаговое ее выпол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остато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авнительно малая скорость выпол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755640" y="476280"/>
            <a:ext cx="78487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ит весь текст программы на машинный язык и сохраняет его в исполнимом фай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ольшая скорость выполнения про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остато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рудоемкость отладки, так как невозможно пошаговое выполнение программ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ОЛЕНИЯ ЯЗЫКОВ ПРОГРАММИРОВАНИЯ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1 этап</a:t>
            </a:r>
            <a:r>
              <a:rPr b="0" i="1" lang="en-US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945-1959 </a:t>
            </a:r>
            <a:r>
              <a:rPr b="0" lang="en-US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- </a:t>
            </a:r>
            <a:r>
              <a:rPr b="0" lang="en-US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ВМ этого времени понимали только цифровые команды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2 этап 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появились языки программирования типа Ассемблер и автокод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3 этап 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развиваются языки программирования высокого уровня (Фортран 2, Алгол 60, Кобол, Паскаль)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4 этап 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связан с применением объектно-ориентированных языков 4-го поколения (Симула-67, Турбо-Паскаль 5.5, Delphi)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5 этап 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ЭВМ будущего 5-го поколения называют машинами «искусственного интеллекта»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94920" y="475920"/>
            <a:ext cx="80773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87d0e"/>
                </a:solidFill>
                <a:latin typeface="Franklin Gothic Book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ы ООП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ют возможность визуализировать процесс создания графического интерфейса разрабатываемого приложения, то есть позволяют создать объекты и задавать значения их свойств с помощью диалоговых окон системы программирования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03:15Z</dcterms:created>
  <dc:creator>AdmiN</dc:creator>
  <dc:description/>
  <dc:language>en-US</dc:language>
  <cp:lastModifiedBy>Valued eMachines Customer</cp:lastModifiedBy>
  <dcterms:modified xsi:type="dcterms:W3CDTF">2015-01-21T09:07:20Z</dcterms:modified>
  <cp:revision>48</cp:revision>
  <dc:subject/>
  <dc:title>Основы объектно-ориентированного программирования</dc:title>
</cp:coreProperties>
</file>