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BFA-3698-410F-BD1E-359CF024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874-D23E-4364-8C40-A8EAE5D5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285-AA77-43E8-B664-B0E42798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401-73AB-4938-BCA9-E31CEC6F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E35-A394-4FC7-BA1A-DFC96865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E76-CB10-4918-AF47-73F63B52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42B-DB2B-4157-B5D7-AF86CC58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A0C-7FD4-4BF6-9B04-9A2FB4B2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47D-ED51-416A-9A34-197B58F1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632-042B-45F3-A611-821AE4AB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DCD-9754-4D6C-B836-36D428B9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799-1E97-4D95-B008-4D5AF1F1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C9BD-5101-43B2-89E1-F6708F8AA0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614600" y="2362320"/>
            <a:ext cx="616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Castellar"/>
              </a:rPr>
              <a:t>Happy birthday</a:t>
            </a:r>
            <a:r>
              <a:rPr b="1" i="1" lang="ru-RU" sz="6000" spc="-1" strike="noStrike">
                <a:solidFill>
                  <a:srgbClr val="ff0000"/>
                </a:solidFill>
                <a:latin typeface="Castellar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Castellar"/>
              </a:rPr>
              <a:t>America</a:t>
            </a:r>
            <a:r>
              <a:rPr b="1" i="1" lang="ru-RU" sz="6000" spc="-1" strike="noStrike">
                <a:solidFill>
                  <a:srgbClr val="ff0000"/>
                </a:solidFill>
                <a:latin typeface="Castellar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IMGP0716"/>
          <p:cNvPicPr/>
          <p:nvPr/>
        </p:nvPicPr>
        <p:blipFill>
          <a:blip r:embed="rId1"/>
          <a:stretch/>
        </p:blipFill>
        <p:spPr>
          <a:xfrm>
            <a:off x="152280" y="1523880"/>
            <a:ext cx="89154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32200" y="990720"/>
            <a:ext cx="466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ритерии оцен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756440" y="2438280"/>
            <a:ext cx="5968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5»- 0 ошиб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4»- 1 ошиб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3»- 2 ошиб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049200" y="380880"/>
            <a:ext cx="2893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00"/>
                </a:solidFill>
                <a:latin typeface="Arial"/>
              </a:rPr>
              <a:t>177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00"/>
                </a:solidFill>
                <a:latin typeface="Arial"/>
              </a:rPr>
              <a:t>17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00"/>
                </a:solidFill>
                <a:latin typeface="Arial"/>
              </a:rPr>
              <a:t>178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00"/>
                </a:solidFill>
                <a:latin typeface="Arial"/>
              </a:rPr>
              <a:t>177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32200" y="990720"/>
            <a:ext cx="466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ритерии оцен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756440" y="2438280"/>
            <a:ext cx="5968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5»- 0 ошиб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4»- 1 ошиб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3»- 2 ошиб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069920" y="1371600"/>
            <a:ext cx="7276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1770</a:t>
            </a: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8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177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1774</a:t>
            </a: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8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178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-720" y="228600"/>
            <a:ext cx="80946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official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- офици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to take command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- взять коман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empire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- импе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tax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- н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to sign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- подпи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argo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- гру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own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- вла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5640" y="152280"/>
            <a:ext cx="2053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-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-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- 9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32200" y="990720"/>
            <a:ext cx="466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ритерии оцен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756440" y="2438280"/>
            <a:ext cx="5968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5»- 0 ошиб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4»- 1 ошиб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3»- 2 ошиб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33880" y="990720"/>
            <a:ext cx="57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1770- the declaration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2080" y="213372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1774- the end of the war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4960" y="350532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1776- the Boston tea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30280" y="4648320"/>
            <a:ext cx="70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1783- the beginning of the war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IMGP0716"/>
          <p:cNvPicPr/>
          <p:nvPr/>
        </p:nvPicPr>
        <p:blipFill>
          <a:blip r:embed="rId1"/>
          <a:stretch/>
        </p:blipFill>
        <p:spPr>
          <a:xfrm>
            <a:off x="152280" y="1523880"/>
            <a:ext cx="89154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53720" y="83808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Цели: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7920" y="1905120"/>
            <a:ext cx="882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. Сформировать представление 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литическом положении Америки в 18 в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. Ознакомиться с интересными фактами 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 Развивать умение работать с раз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сточниками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32200" y="990720"/>
            <a:ext cx="466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ритерии оцен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756440" y="2438280"/>
            <a:ext cx="5968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5»- 0 ошиб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4»- 1 ошиб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3»- 2 ошиб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59360" y="1219320"/>
            <a:ext cx="660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"/>
              </a:rPr>
              <a:t>1 – выучить сл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"/>
              </a:rPr>
              <a:t>2 – упр.3 (а) стр.5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3 – </a:t>
            </a:r>
            <a:r>
              <a:rPr b="1" lang="ru-RU" sz="5400" spc="-1" strike="noStrike">
                <a:solidFill>
                  <a:srgbClr val="33cc33"/>
                </a:solidFill>
                <a:latin typeface="Arial"/>
              </a:rPr>
              <a:t>упр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. 6 (</a:t>
            </a:r>
            <a:r>
              <a:rPr b="1" lang="ru-RU" sz="5400" spc="-1" strike="noStrike">
                <a:solidFill>
                  <a:srgbClr val="33cc33"/>
                </a:solidFill>
                <a:latin typeface="Arial"/>
              </a:rPr>
              <a:t>а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) </a:t>
            </a:r>
            <a:r>
              <a:rPr b="1" lang="ru-RU" sz="5400" spc="-1" strike="noStrike">
                <a:solidFill>
                  <a:srgbClr val="33cc33"/>
                </a:solidFill>
                <a:latin typeface="Arial"/>
              </a:rPr>
              <a:t>стр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.5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IMGP0713"/>
          <p:cNvPicPr/>
          <p:nvPr/>
        </p:nvPicPr>
        <p:blipFill>
          <a:blip r:embed="rId1"/>
          <a:stretch/>
        </p:blipFill>
        <p:spPr>
          <a:xfrm>
            <a:off x="457200" y="228600"/>
            <a:ext cx="2057400" cy="1935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3209760" y="1676520"/>
            <a:ext cx="22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ра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IMGP0714"/>
          <p:cNvPicPr/>
          <p:nvPr/>
        </p:nvPicPr>
        <p:blipFill>
          <a:blip r:embed="rId2"/>
          <a:stretch/>
        </p:blipFill>
        <p:spPr>
          <a:xfrm>
            <a:off x="457200" y="2362320"/>
            <a:ext cx="2057400" cy="1904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3136320" y="3809880"/>
            <a:ext cx="28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 нра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IMGP0715"/>
          <p:cNvPicPr/>
          <p:nvPr/>
        </p:nvPicPr>
        <p:blipFill>
          <a:blip r:embed="rId3"/>
          <a:stretch/>
        </p:blipFill>
        <p:spPr>
          <a:xfrm>
            <a:off x="457200" y="4572000"/>
            <a:ext cx="2057400" cy="20336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3124440" y="6172200"/>
            <a:ext cx="28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Безразли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IMGP0713"/>
          <p:cNvPicPr/>
          <p:nvPr/>
        </p:nvPicPr>
        <p:blipFill>
          <a:blip r:embed="rId4"/>
          <a:stretch/>
        </p:blipFill>
        <p:spPr>
          <a:xfrm>
            <a:off x="457200" y="228600"/>
            <a:ext cx="2057400" cy="1935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1"/>
          <p:cNvSpPr/>
          <p:nvPr/>
        </p:nvSpPr>
        <p:spPr>
          <a:xfrm>
            <a:off x="3200400" y="1676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р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06360" y="9144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cc00"/>
                </a:solidFill>
                <a:uFillTx/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9120" y="2286000"/>
            <a:ext cx="8509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. Развивать навыки гово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2. Развивать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3. Развивать мыш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4. Развивать навыки ч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5. Развивать зрительную пам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IMGP0717"/>
          <p:cNvPicPr/>
          <p:nvPr/>
        </p:nvPicPr>
        <p:blipFill>
          <a:blip r:embed="rId1"/>
          <a:stretch/>
        </p:blipFill>
        <p:spPr>
          <a:xfrm>
            <a:off x="1523880" y="152280"/>
            <a:ext cx="64342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05520" y="685800"/>
            <a:ext cx="72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. the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l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ber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t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 be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ll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олокол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воб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06600" y="1828800"/>
            <a:ext cx="52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. fire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w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rks-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фейер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7680" y="297180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. George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W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10200" y="4114800"/>
            <a:ext cx="37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. a para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-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а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54320" y="5257800"/>
            <a:ext cx="50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. the 4th of Ju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l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- 4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ю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IMGP0716"/>
          <p:cNvPicPr/>
          <p:nvPr/>
        </p:nvPicPr>
        <p:blipFill>
          <a:blip r:embed="rId1"/>
          <a:stretch/>
        </p:blipFill>
        <p:spPr>
          <a:xfrm>
            <a:off x="152280" y="1523880"/>
            <a:ext cx="89154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99880" y="533520"/>
            <a:ext cx="65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dependence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завис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2400" y="1752480"/>
            <a:ext cx="53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eclaration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екла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4920" y="297180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r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ой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03120" y="4191120"/>
            <a:ext cx="376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lony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ол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27520" y="5410080"/>
            <a:ext cx="43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end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конч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430800" y="6858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Dates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071360" y="2209680"/>
            <a:ext cx="702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8000"/>
                </a:solidFill>
                <a:latin typeface="Arial"/>
              </a:rPr>
              <a:t>1770     1774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8000"/>
                </a:solidFill>
                <a:latin typeface="Arial"/>
              </a:rPr>
              <a:t>1776     178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125880" y="609480"/>
            <a:ext cx="26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Events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6480" y="1905120"/>
            <a:ext cx="41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he Boston Te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56120" y="2819520"/>
            <a:ext cx="67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he end of the War of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6480" y="3886200"/>
            <a:ext cx="78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he beginning of the War of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56120" y="4952880"/>
            <a:ext cx="61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he Declaration of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56480" y="1905120"/>
            <a:ext cx="41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he Boston Te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56120" y="2819520"/>
            <a:ext cx="67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he end of the War of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6480" y="3886200"/>
            <a:ext cx="78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he beginning of the War of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56480" y="1905120"/>
            <a:ext cx="41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he Boston Te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456120" y="2819520"/>
            <a:ext cx="67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he end of the War of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456120" y="4952880"/>
            <a:ext cx="61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he Declaration of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456480" y="3886200"/>
            <a:ext cx="78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he beginning of the War of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456480" y="1905120"/>
            <a:ext cx="41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he Boston Te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456120" y="2819520"/>
            <a:ext cx="67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he end of the War of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5:20:50Z</dcterms:created>
  <dc:creator>Администратор</dc:creator>
  <dc:description/>
  <dc:language>en-US</dc:language>
  <cp:lastModifiedBy>Елена</cp:lastModifiedBy>
  <dcterms:modified xsi:type="dcterms:W3CDTF">2011-12-11T18:31:0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