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E30-A99A-4814-ABE9-0A312062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964-A50F-4E05-88D3-CFDCE49E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149-5E07-4AD9-9EA7-98D0B426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98D-71CD-4779-B5DF-AB4DC804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23C3-66B6-4B53-93D9-0D7CD6CA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340C-B6B1-4958-8660-57D0AFF6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08C1-24A3-40F8-B6B2-EBA569FC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E90B-C8C3-43DE-B1AB-1605A6A4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2754-A7AB-4E88-A949-E3B526AF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4E1D-9F6E-41D7-8844-02A994D1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4768-5098-481C-B3E4-665C71D4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1DE-B53D-4AE2-AE7F-68249525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6E0B-EC7B-4C32-80C7-4944A0E9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BC2A-5D52-4CEF-A9F2-4590DA95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9E0F-7C56-47F5-B04A-429DCA02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5F81-2430-4BF4-A623-C08F53E2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4360-D04D-4AA7-8E9C-717183F3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3AB83-D0ED-4147-9BFD-CFE475C3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DDB7B-5031-4286-8E58-E6C71F3A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BB994-DCEA-4F64-9A38-CA0A06EC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8DAAE-D0FC-4198-8B23-964B75C7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47A01-63C3-47CA-94A6-7D24C945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D62-BA4E-4FC4-B1A7-7FF8071D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CF831-0A93-4141-8E89-29F458D8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DABB9-DB3C-4F68-8549-A4E19ADF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8C1F7-B581-4F5A-A1A0-B91BCE16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B3934-EA32-441B-BF8E-2F464CB4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BDF4A-4560-41FF-AAE3-C9D8C981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6EDC0-B0B1-46FD-80AD-CB73683E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9353E-5946-4C0C-B310-CB5457DE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13FA9-AA68-453F-A4A5-8839C116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E3A5F-420B-40D6-A494-EF92543C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91B2-4042-4135-86C4-97DFA234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2BA-D4B7-4E9D-A16B-FD8B6EC5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18A28-0604-4C25-B310-002BA06F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048DA-C063-4AA2-88D2-40BF1AFC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6180-EBE7-43B3-B44F-870DA10A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30C34-BECB-4221-A009-CADE5B2B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13387-3B84-42ED-A12B-B295E735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FF7F8-4ECA-4762-B341-6221CD59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96CC0-7A7F-4B9C-A6B2-E59877EB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5DDEC-453C-4F97-818F-E154F960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59EB4-9C73-4B1E-8599-32AD8CB4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92C1C-F0A3-4F9A-96F9-5F3D3CE9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731-61DC-46C7-A80C-1AB63411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2E4B6-0DA1-437B-AD4C-A54F638A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6E294-96B2-41A5-9009-56515CE8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64CB2-4743-4049-B241-3E225A64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65DC6-47D9-40FA-BFC2-FA82E27D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7AC07-51B3-4F53-AD54-12CF0656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84C3B6-F2D6-43F4-B723-30DA73D4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D4E00-709D-43C9-8A0E-BFC1D667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45B2C-A098-4EDF-89BB-B14400BA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E3FEF-4CB9-4629-858C-3AC3767C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28593-F867-4E33-84AB-2658225B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664-689F-4D8F-BCD0-02A43172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7E3B5-0028-4490-BAA8-7B4AAB81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0B6D7-F4B3-4D4A-8914-3797C3DA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067A0-7C46-4651-B3DD-101EB578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949B8-80E2-4065-BC41-65309302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CF760-26F6-44D2-9B32-2C5ED7CC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AB2A44-7A41-482F-BF96-2654099D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56CF8-6CEE-428A-BDBD-E3D7E4BB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AE7EFE-71AB-4A4B-B6DA-929841FE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D16E9-E086-46D1-AA37-DF0DE13C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1718E-513E-4503-9F44-A410A3C7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398C-83C9-4D5E-B064-A1E4B050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6B0A92-EA76-4D1D-A862-A95414E5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8A274-437D-4200-9604-E2666B90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06A612-0102-44A3-A133-4913B2C4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910E7-516B-41B9-81DE-40DC1F47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294B3-D5C0-4E00-BA1D-4C0BD079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49BF2C-0ECF-4A5A-81AC-603F21FF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61C99-BD8B-47A0-BDAC-2336C061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CF832B-3630-41BF-ADE4-B9562FB7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3AD2D-EA8B-4980-9E9C-9DB13DC0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35D363-DD2C-42BB-BC49-1F1E77D9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35B-4404-4F5F-A92A-860DD017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873D9-361E-4F7B-A820-9E0D8310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7076F4-4538-4031-AB7D-1B2EF43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AB6F3-BE1C-4F1C-9406-9B8DF1F9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572DB-D0FB-4AE3-A692-6B35163A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C5CE7-A51D-47B1-80CB-029EB12E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B94-8E51-4D57-AFCD-19D0AD50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acdd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ea0b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08c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acdd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4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b3b3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3b3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ac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acdd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0FF8-0D49-4AFF-A366-4FBDFE9863D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acdd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fe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fe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f2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acdd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f2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ac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acdd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ac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ac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acdd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ea0b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08c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acdd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4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b3b3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3b3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71AB-3A05-4086-8863-B3DCB1C8A4D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acdd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ac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acdd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ea0b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08c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acdd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4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b3b3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3b3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FA0E-FCD5-47F9-B744-7A368DCA33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acdd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fe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fe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f2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acdd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f2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ac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acdd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ac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acdd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ac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ea0b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08c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acdd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4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4F07-DD0A-4B96-900F-20D300BFE1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acdd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ac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acdd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ea0b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08c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acdd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4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b3b3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3b3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28F2-D7ED-406D-A825-771B2FB7F95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acdd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ac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acdd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ea0b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08c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acdd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4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b3b3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3b3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34DF-1D2A-4326-9537-DBDE18FC067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ac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a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ac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ea0b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08c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acdd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4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b3b3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3b3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1748-8E4D-47F2-B7F4-AEA34CCEF07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3" descr="0_268d3_7928cb33_XL.jpeg"/>
          <p:cNvPicPr/>
          <p:nvPr/>
        </p:nvPicPr>
        <p:blipFill>
          <a:blip r:embed="rId1"/>
          <a:stretch/>
        </p:blipFill>
        <p:spPr>
          <a:xfrm>
            <a:off x="3071880" y="1643040"/>
            <a:ext cx="4572000" cy="4143240"/>
          </a:xfrm>
          <a:prstGeom prst="rect">
            <a:avLst/>
          </a:prstGeom>
          <a:ln w="0">
            <a:noFill/>
          </a:ln>
        </p:spPr>
      </p:pic>
      <p:grpSp>
        <p:nvGrpSpPr>
          <p:cNvPr id="352" name="Группа 12"/>
          <p:cNvGrpSpPr/>
          <p:nvPr/>
        </p:nvGrpSpPr>
        <p:grpSpPr>
          <a:xfrm>
            <a:off x="1714680" y="357120"/>
            <a:ext cx="7215120" cy="1730520"/>
            <a:chOff x="1714680" y="357120"/>
            <a:chExt cx="7215120" cy="1730520"/>
          </a:xfrm>
        </p:grpSpPr>
        <p:pic>
          <p:nvPicPr>
            <p:cNvPr id="353" name="Picture 11" descr=""/>
            <p:cNvPicPr/>
            <p:nvPr/>
          </p:nvPicPr>
          <p:blipFill>
            <a:blip r:embed="rId2"/>
            <a:stretch/>
          </p:blipFill>
          <p:spPr>
            <a:xfrm>
              <a:off x="1714680" y="499680"/>
              <a:ext cx="1503360" cy="158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12" descr=""/>
            <p:cNvPicPr/>
            <p:nvPr/>
          </p:nvPicPr>
          <p:blipFill>
            <a:blip r:embed="rId3"/>
            <a:stretch/>
          </p:blipFill>
          <p:spPr>
            <a:xfrm>
              <a:off x="7500960" y="499680"/>
              <a:ext cx="14288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Волна 11"/>
            <p:cNvSpPr/>
            <p:nvPr/>
          </p:nvSpPr>
          <p:spPr>
            <a:xfrm>
              <a:off x="3071880" y="357120"/>
              <a:ext cx="4572000" cy="171468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428760 h 1714680"/>
                <a:gd name="textAreaBottom" fmla="*/ 128628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6ea0b0"/>
            </a:solidFill>
            <a:ln w="2556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200" spc="-1" strike="noStrike">
                  <a:solidFill>
                    <a:srgbClr val="ffffff"/>
                  </a:solidFill>
                  <a:latin typeface="Comic Sans MS"/>
                </a:rPr>
                <a:t>ТВОРИ ДОБРО!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Прямоугольник 13"/>
          <p:cNvSpPr/>
          <p:nvPr/>
        </p:nvSpPr>
        <p:spPr>
          <a:xfrm>
            <a:off x="6072120" y="5929200"/>
            <a:ext cx="2714760" cy="71460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5Г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9720" y="21384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5705"/>
                </a:solidFill>
                <a:latin typeface="Comic Sans MS"/>
              </a:rPr>
              <a:t>ЦЕЛЬ ПРОЕКТА</a:t>
            </a:r>
            <a:endParaRPr b="0" lang="en-US" sz="4400" spc="-1" strike="noStrike">
              <a:solidFill>
                <a:srgbClr val="3b3b3b"/>
              </a:solidFill>
              <a:latin typeface="Century Schoolbook"/>
            </a:endParaRPr>
          </a:p>
        </p:txBody>
      </p:sp>
      <p:sp>
        <p:nvSpPr>
          <p:cNvPr id="358" name="Скругленный прямоугольник 10"/>
          <p:cNvSpPr/>
          <p:nvPr/>
        </p:nvSpPr>
        <p:spPr>
          <a:xfrm>
            <a:off x="1571760" y="1214280"/>
            <a:ext cx="6429240" cy="5429520"/>
          </a:xfrm>
          <a:prstGeom prst="roundRect">
            <a:avLst>
              <a:gd name="adj" fmla="val 13009"/>
            </a:avLst>
          </a:prstGeom>
          <a:solidFill>
            <a:srgbClr val="ffffff"/>
          </a:solidFill>
          <a:ln w="25560">
            <a:solidFill>
              <a:srgbClr val="cca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r>
              <a:rPr b="0" lang="ru-RU" sz="3200" spc="-1" strike="noStrike">
                <a:solidFill>
                  <a:srgbClr val="3a423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r>
              <a:rPr b="0" lang="ru-RU" sz="3200" spc="-1" strike="noStrike">
                <a:solidFill>
                  <a:srgbClr val="3a4230"/>
                </a:solidFill>
                <a:latin typeface="Century Gothic"/>
              </a:rPr>
              <a:t>Оказание помощи птицам, которые зимуют в г.Нижневартов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30"/>
              </a:buClr>
              <a:buFont typeface="Wingdings" charset="2"/>
              <a:buChar char=""/>
              <a:tabLst>
                <a:tab algn="l" pos="21924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Группа 15"/>
          <p:cNvGrpSpPr/>
          <p:nvPr/>
        </p:nvGrpSpPr>
        <p:grpSpPr>
          <a:xfrm>
            <a:off x="0" y="0"/>
            <a:ext cx="1217520" cy="6858000"/>
            <a:chOff x="0" y="0"/>
            <a:chExt cx="1217520" cy="6858000"/>
          </a:xfrm>
        </p:grpSpPr>
        <p:pic>
          <p:nvPicPr>
            <p:cNvPr id="360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84760" cy="15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1" descr=""/>
            <p:cNvPicPr/>
            <p:nvPr/>
          </p:nvPicPr>
          <p:blipFill>
            <a:blip r:embed="rId2"/>
            <a:stretch/>
          </p:blipFill>
          <p:spPr>
            <a:xfrm>
              <a:off x="0" y="4071960"/>
              <a:ext cx="12175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2857320"/>
              <a:ext cx="1214640" cy="13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1" descr=""/>
            <p:cNvPicPr/>
            <p:nvPr/>
          </p:nvPicPr>
          <p:blipFill>
            <a:blip r:embed="rId4"/>
            <a:stretch/>
          </p:blipFill>
          <p:spPr>
            <a:xfrm>
              <a:off x="0" y="1571400"/>
              <a:ext cx="12175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10" descr=""/>
            <p:cNvPicPr/>
            <p:nvPr/>
          </p:nvPicPr>
          <p:blipFill>
            <a:blip r:embed="rId5"/>
            <a:stretch/>
          </p:blipFill>
          <p:spPr>
            <a:xfrm>
              <a:off x="0" y="5318280"/>
              <a:ext cx="1143360" cy="153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5705"/>
                </a:solidFill>
                <a:latin typeface="Comic Sans MS"/>
              </a:rPr>
              <a:t>ЗАДАЧИ ПРОЕКТА</a:t>
            </a:r>
            <a:endParaRPr b="0" lang="en-US" sz="4400" spc="-1" strike="noStrike">
              <a:solidFill>
                <a:srgbClr val="3b3b3b"/>
              </a:solidFill>
              <a:latin typeface="Century Schoolbook"/>
            </a:endParaRPr>
          </a:p>
        </p:txBody>
      </p:sp>
      <p:grpSp>
        <p:nvGrpSpPr>
          <p:cNvPr id="366" name="Группа 15"/>
          <p:cNvGrpSpPr/>
          <p:nvPr/>
        </p:nvGrpSpPr>
        <p:grpSpPr>
          <a:xfrm>
            <a:off x="0" y="0"/>
            <a:ext cx="1217520" cy="6858000"/>
            <a:chOff x="0" y="0"/>
            <a:chExt cx="1217520" cy="6858000"/>
          </a:xfrm>
        </p:grpSpPr>
        <p:pic>
          <p:nvPicPr>
            <p:cNvPr id="367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84760" cy="15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11" descr=""/>
            <p:cNvPicPr/>
            <p:nvPr/>
          </p:nvPicPr>
          <p:blipFill>
            <a:blip r:embed="rId2"/>
            <a:stretch/>
          </p:blipFill>
          <p:spPr>
            <a:xfrm>
              <a:off x="0" y="4071960"/>
              <a:ext cx="12175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2857320"/>
              <a:ext cx="1214640" cy="13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1" descr=""/>
            <p:cNvPicPr/>
            <p:nvPr/>
          </p:nvPicPr>
          <p:blipFill>
            <a:blip r:embed="rId4"/>
            <a:stretch/>
          </p:blipFill>
          <p:spPr>
            <a:xfrm>
              <a:off x="0" y="1571400"/>
              <a:ext cx="12175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0" descr=""/>
            <p:cNvPicPr/>
            <p:nvPr/>
          </p:nvPicPr>
          <p:blipFill>
            <a:blip r:embed="rId5"/>
            <a:stretch/>
          </p:blipFill>
          <p:spPr>
            <a:xfrm>
              <a:off x="0" y="5318280"/>
              <a:ext cx="1143360" cy="153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Схема 10" descr=""/>
          <p:cNvPicPr/>
          <p:nvPr/>
        </p:nvPicPr>
        <p:blipFill>
          <a:blip r:embed="rId6"/>
          <a:stretch/>
        </p:blipFill>
        <p:spPr>
          <a:xfrm>
            <a:off x="1444680" y="1158840"/>
            <a:ext cx="72784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5705"/>
                </a:solidFill>
                <a:latin typeface="Comic Sans MS"/>
              </a:rPr>
              <a:t>РЕАЛИЗАЦИЯ ПРОЕКТА</a:t>
            </a:r>
            <a:endParaRPr b="0" lang="en-US" sz="4400" spc="-1" strike="noStrike">
              <a:solidFill>
                <a:srgbClr val="3b3b3b"/>
              </a:solidFill>
              <a:latin typeface="Century Schoolbook"/>
            </a:endParaRPr>
          </a:p>
        </p:txBody>
      </p:sp>
      <p:grpSp>
        <p:nvGrpSpPr>
          <p:cNvPr id="374" name="Группа 15"/>
          <p:cNvGrpSpPr/>
          <p:nvPr/>
        </p:nvGrpSpPr>
        <p:grpSpPr>
          <a:xfrm>
            <a:off x="0" y="0"/>
            <a:ext cx="1217520" cy="6858000"/>
            <a:chOff x="0" y="0"/>
            <a:chExt cx="1217520" cy="6858000"/>
          </a:xfrm>
        </p:grpSpPr>
        <p:pic>
          <p:nvPicPr>
            <p:cNvPr id="375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84760" cy="15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11" descr=""/>
            <p:cNvPicPr/>
            <p:nvPr/>
          </p:nvPicPr>
          <p:blipFill>
            <a:blip r:embed="rId2"/>
            <a:stretch/>
          </p:blipFill>
          <p:spPr>
            <a:xfrm>
              <a:off x="0" y="4071960"/>
              <a:ext cx="12175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2857320"/>
              <a:ext cx="1214640" cy="13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1" descr=""/>
            <p:cNvPicPr/>
            <p:nvPr/>
          </p:nvPicPr>
          <p:blipFill>
            <a:blip r:embed="rId4"/>
            <a:stretch/>
          </p:blipFill>
          <p:spPr>
            <a:xfrm>
              <a:off x="0" y="1571400"/>
              <a:ext cx="12175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10" descr=""/>
            <p:cNvPicPr/>
            <p:nvPr/>
          </p:nvPicPr>
          <p:blipFill>
            <a:blip r:embed="rId5"/>
            <a:stretch/>
          </p:blipFill>
          <p:spPr>
            <a:xfrm>
              <a:off x="0" y="5318280"/>
              <a:ext cx="1143360" cy="15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Прямоугольник 9"/>
          <p:cNvSpPr/>
          <p:nvPr/>
        </p:nvSpPr>
        <p:spPr>
          <a:xfrm>
            <a:off x="1928880" y="857160"/>
            <a:ext cx="6357960" cy="107172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(с 15 по 26 ноября 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кругленный прямоугольник 18"/>
          <p:cNvSpPr/>
          <p:nvPr/>
        </p:nvSpPr>
        <p:spPr>
          <a:xfrm>
            <a:off x="2214720" y="2143080"/>
            <a:ext cx="5857560" cy="1285920"/>
          </a:xfrm>
          <a:prstGeom prst="roundRect">
            <a:avLst>
              <a:gd name="adj" fmla="val 16667"/>
            </a:avLst>
          </a:prstGeom>
          <a:solidFill>
            <a:srgbClr val="ee7410"/>
          </a:solidFill>
          <a:ln w="25560">
            <a:solidFill>
              <a:srgbClr val="9580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зработка листовок, вывешивание корму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ый прямоугольник 20"/>
          <p:cNvSpPr/>
          <p:nvPr/>
        </p:nvSpPr>
        <p:spPr>
          <a:xfrm>
            <a:off x="2286000" y="3714840"/>
            <a:ext cx="5857920" cy="2214360"/>
          </a:xfrm>
          <a:prstGeom prst="roundRect">
            <a:avLst>
              <a:gd name="adj" fmla="val 16667"/>
            </a:avLst>
          </a:prstGeom>
          <a:solidFill>
            <a:srgbClr val="ee7410"/>
          </a:solidFill>
          <a:ln w="25560">
            <a:solidFill>
              <a:srgbClr val="9580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зработка графика дежурных за наполняемостью и сохранностью кормуш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5705"/>
                </a:solidFill>
                <a:latin typeface="Comic Sans MS"/>
              </a:rPr>
              <a:t>РЕАЛИЗАЦИЯ ПРОЕКТА</a:t>
            </a:r>
            <a:endParaRPr b="0" lang="en-US" sz="4400" spc="-1" strike="noStrike">
              <a:solidFill>
                <a:srgbClr val="3b3b3b"/>
              </a:solidFill>
              <a:latin typeface="Century Schoolbook"/>
            </a:endParaRPr>
          </a:p>
        </p:txBody>
      </p:sp>
      <p:grpSp>
        <p:nvGrpSpPr>
          <p:cNvPr id="384" name="Группа 15"/>
          <p:cNvGrpSpPr/>
          <p:nvPr/>
        </p:nvGrpSpPr>
        <p:grpSpPr>
          <a:xfrm>
            <a:off x="0" y="0"/>
            <a:ext cx="1217520" cy="6858000"/>
            <a:chOff x="0" y="0"/>
            <a:chExt cx="1217520" cy="6858000"/>
          </a:xfrm>
        </p:grpSpPr>
        <p:pic>
          <p:nvPicPr>
            <p:cNvPr id="385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84760" cy="15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1" descr=""/>
            <p:cNvPicPr/>
            <p:nvPr/>
          </p:nvPicPr>
          <p:blipFill>
            <a:blip r:embed="rId2"/>
            <a:stretch/>
          </p:blipFill>
          <p:spPr>
            <a:xfrm>
              <a:off x="0" y="4071960"/>
              <a:ext cx="12175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2857320"/>
              <a:ext cx="1214640" cy="13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1" descr=""/>
            <p:cNvPicPr/>
            <p:nvPr/>
          </p:nvPicPr>
          <p:blipFill>
            <a:blip r:embed="rId4"/>
            <a:stretch/>
          </p:blipFill>
          <p:spPr>
            <a:xfrm>
              <a:off x="0" y="1571400"/>
              <a:ext cx="12175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10" descr=""/>
            <p:cNvPicPr/>
            <p:nvPr/>
          </p:nvPicPr>
          <p:blipFill>
            <a:blip r:embed="rId5"/>
            <a:stretch/>
          </p:blipFill>
          <p:spPr>
            <a:xfrm>
              <a:off x="0" y="5318280"/>
              <a:ext cx="1143360" cy="15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Прямоугольник 9"/>
          <p:cNvSpPr/>
          <p:nvPr/>
        </p:nvSpPr>
        <p:spPr>
          <a:xfrm>
            <a:off x="1928880" y="785880"/>
            <a:ext cx="6357960" cy="107136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I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Основно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(с 29 ноября 2012 - март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кругленный прямоугольник 18"/>
          <p:cNvSpPr/>
          <p:nvPr/>
        </p:nvSpPr>
        <p:spPr>
          <a:xfrm>
            <a:off x="2143080" y="214308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ee7410"/>
          </a:solidFill>
          <a:ln w="25560">
            <a:solidFill>
              <a:srgbClr val="9580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Проведение агитации,  раздача листовок,  интервью с  жителями микрорайона (ознакомление с проблемой птиц зим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1"/>
          <p:cNvSpPr/>
          <p:nvPr/>
        </p:nvSpPr>
        <p:spPr>
          <a:xfrm>
            <a:off x="2214720" y="3714840"/>
            <a:ext cx="5857560" cy="1285920"/>
          </a:xfrm>
          <a:prstGeom prst="roundRect">
            <a:avLst>
              <a:gd name="adj" fmla="val 16667"/>
            </a:avLst>
          </a:prstGeom>
          <a:solidFill>
            <a:srgbClr val="ee7410"/>
          </a:solidFill>
          <a:ln w="25560">
            <a:solidFill>
              <a:srgbClr val="9580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емонт кормушек  или замена на новые при необход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12"/>
          <p:cNvSpPr/>
          <p:nvPr/>
        </p:nvSpPr>
        <p:spPr>
          <a:xfrm>
            <a:off x="2214720" y="5286240"/>
            <a:ext cx="5857560" cy="1285920"/>
          </a:xfrm>
          <a:prstGeom prst="roundRect">
            <a:avLst>
              <a:gd name="adj" fmla="val 16667"/>
            </a:avLst>
          </a:prstGeom>
          <a:solidFill>
            <a:srgbClr val="ee7410"/>
          </a:solidFill>
          <a:ln w="25560">
            <a:solidFill>
              <a:srgbClr val="9580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онтроль за наполняемостью и сохранностью кормуш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5705"/>
                </a:solidFill>
                <a:latin typeface="Comic Sans MS"/>
              </a:rPr>
              <a:t>РЕАЛИЗАЦИЯ ПРОЕКТА</a:t>
            </a:r>
            <a:endParaRPr b="0" lang="en-US" sz="4400" spc="-1" strike="noStrike">
              <a:solidFill>
                <a:srgbClr val="3b3b3b"/>
              </a:solidFill>
              <a:latin typeface="Century Schoolbook"/>
            </a:endParaRPr>
          </a:p>
        </p:txBody>
      </p:sp>
      <p:grpSp>
        <p:nvGrpSpPr>
          <p:cNvPr id="395" name="Группа 15"/>
          <p:cNvGrpSpPr/>
          <p:nvPr/>
        </p:nvGrpSpPr>
        <p:grpSpPr>
          <a:xfrm>
            <a:off x="0" y="0"/>
            <a:ext cx="1217520" cy="6858000"/>
            <a:chOff x="0" y="0"/>
            <a:chExt cx="1217520" cy="6858000"/>
          </a:xfrm>
        </p:grpSpPr>
        <p:pic>
          <p:nvPicPr>
            <p:cNvPr id="396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84760" cy="15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1" descr=""/>
            <p:cNvPicPr/>
            <p:nvPr/>
          </p:nvPicPr>
          <p:blipFill>
            <a:blip r:embed="rId2"/>
            <a:stretch/>
          </p:blipFill>
          <p:spPr>
            <a:xfrm>
              <a:off x="0" y="4071960"/>
              <a:ext cx="12175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2857320"/>
              <a:ext cx="1214640" cy="13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11" descr=""/>
            <p:cNvPicPr/>
            <p:nvPr/>
          </p:nvPicPr>
          <p:blipFill>
            <a:blip r:embed="rId4"/>
            <a:stretch/>
          </p:blipFill>
          <p:spPr>
            <a:xfrm>
              <a:off x="0" y="1571400"/>
              <a:ext cx="12175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10" descr=""/>
            <p:cNvPicPr/>
            <p:nvPr/>
          </p:nvPicPr>
          <p:blipFill>
            <a:blip r:embed="rId5"/>
            <a:stretch/>
          </p:blipFill>
          <p:spPr>
            <a:xfrm>
              <a:off x="0" y="5318280"/>
              <a:ext cx="1143360" cy="15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Прямоугольник 9"/>
          <p:cNvSpPr/>
          <p:nvPr/>
        </p:nvSpPr>
        <p:spPr>
          <a:xfrm>
            <a:off x="1928880" y="785880"/>
            <a:ext cx="6357960" cy="107136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II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Заключ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(апрель 20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Скругленный прямоугольник 18"/>
          <p:cNvSpPr/>
          <p:nvPr/>
        </p:nvSpPr>
        <p:spPr>
          <a:xfrm>
            <a:off x="2143080" y="214308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ee7410"/>
          </a:solidFill>
          <a:ln w="25560">
            <a:solidFill>
              <a:srgbClr val="9580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нятие кормушек с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кругленный прямоугольник 11"/>
          <p:cNvSpPr/>
          <p:nvPr/>
        </p:nvSpPr>
        <p:spPr>
          <a:xfrm>
            <a:off x="2214720" y="3714840"/>
            <a:ext cx="5857560" cy="1857240"/>
          </a:xfrm>
          <a:prstGeom prst="roundRect">
            <a:avLst>
              <a:gd name="adj" fmla="val 16667"/>
            </a:avLst>
          </a:prstGeom>
          <a:solidFill>
            <a:srgbClr val="ee7410"/>
          </a:solidFill>
          <a:ln w="25560">
            <a:solidFill>
              <a:srgbClr val="9580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ведение круглого стола, в рамках классного часа, с результатами проделан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50:05Z</dcterms:created>
  <dc:creator>Александра</dc:creator>
  <dc:description/>
  <dc:language>en-US</dc:language>
  <cp:lastModifiedBy>Aleksandrova</cp:lastModifiedBy>
  <dcterms:modified xsi:type="dcterms:W3CDTF">2015-01-21T11:37:44Z</dcterms:modified>
  <cp:revision>42</cp:revision>
  <dc:subject/>
  <dc:title>Слайд 1</dc:title>
</cp:coreProperties>
</file>