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_rels/item1.xml.rels" ContentType="application/vnd.openxmlformats-package.relationships+xml"/>
  <Override PartName="/customXml/_rels/item10.xml.rels" ContentType="application/vnd.openxmlformats-package.relationships+xml"/>
  <Override PartName="/customXml/_rels/item8.xml.rels" ContentType="application/vnd.openxmlformats-package.relationships+xml"/>
  <Override PartName="/customXml/_rels/item2.xml.rels" ContentType="application/vnd.openxmlformats-package.relationships+xml"/>
  <Override PartName="/customXml/_rels/item5.xml.rels" ContentType="application/vnd.openxmlformats-package.relationships+xml"/>
  <Override PartName="/customXml/_rels/item11.xml.rels" ContentType="application/vnd.openxmlformats-package.relationships+xml"/>
  <Override PartName="/customXml/_rels/item9.xml.rels" ContentType="application/vnd.openxmlformats-package.relationships+xml"/>
  <Override PartName="/customXml/_rels/item3.xml.rels" ContentType="application/vnd.openxmlformats-package.relationships+xml"/>
  <Override PartName="/customXml/_rels/item6.xml.rels" ContentType="application/vnd.openxmlformats-package.relationships+xml"/>
  <Override PartName="/customXml/_rels/item4.xml.rels" ContentType="application/vnd.openxmlformats-package.relationships+xml"/>
  <Override PartName="/customXml/_rels/item7.xml.rels" ContentType="application/vnd.openxmlformats-package.relationships+xml"/>
  <Override PartName="/customXml/item7.xml" ContentType="application/xml"/>
  <Override PartName="/customXml/item6.xml" ContentType="application/xml"/>
  <Override PartName="/customXml/itemProps11.xml" ContentType="application/vnd.openxmlformats-officedocument.customXmlProperties+xml"/>
  <Override PartName="/customXml/item5.xml" ContentType="application/xml"/>
  <Override PartName="/customXml/itemProps10.xml" ContentType="application/vnd.openxmlformats-officedocument.customXmlProperties+xml"/>
  <Override PartName="/customXml/itemProps4.xml" ContentType="application/vnd.openxmlformats-officedocument.customXmlProperties+xml"/>
  <Override PartName="/customXml/item4.xml" ContentType="application/xml"/>
  <Override PartName="/customXml/itemProps3.xml" ContentType="application/vnd.openxmlformats-officedocument.customXmlProperties+xml"/>
  <Override PartName="/customXml/item3.xml" ContentType="application/xml"/>
  <Override PartName="/customXml/itemProps9.xml" ContentType="application/vnd.openxmlformats-officedocument.customXmlProperties+xml"/>
  <Override PartName="/customXml/itemProps8.xml" ContentType="application/vnd.openxmlformats-officedocument.customXmlProperties+xml"/>
  <Override PartName="/customXml/itemProps7.xml" ContentType="application/vnd.openxmlformats-officedocument.customXmlProperties+xml"/>
  <Override PartName="/customXml/item1.xml" ContentType="application/xml"/>
  <Override PartName="/customXml/itemProps5.xml" ContentType="application/vnd.openxmlformats-officedocument.customXmlProperties+xml"/>
  <Override PartName="/customXml/item10.xml" ContentType="application/xml"/>
  <Override PartName="/customXml/item8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itemProps6.xml" ContentType="application/vnd.openxmlformats-officedocument.customXmlProperties+xml"/>
  <Override PartName="/customXml/item11.xml" ContentType="application/xml"/>
  <Override PartName="/customXml/item9.xml" ContentType="application/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customXml" Target="../customXml/item4.xml"/><Relationship Id="rId8" Type="http://schemas.openxmlformats.org/officeDocument/2006/relationships/customXml" Target="../customXml/item5.xml"/><Relationship Id="rId9" Type="http://schemas.openxmlformats.org/officeDocument/2006/relationships/customXml" Target="../customXml/item6.xml"/><Relationship Id="rId10" Type="http://schemas.openxmlformats.org/officeDocument/2006/relationships/customXml" Target="../customXml/item7.xml"/><Relationship Id="rId11" Type="http://schemas.openxmlformats.org/officeDocument/2006/relationships/customXml" Target="../customXml/item8.xml"/><Relationship Id="rId12" Type="http://schemas.openxmlformats.org/officeDocument/2006/relationships/customXml" Target="../customXml/item9.xml"/><Relationship Id="rId13" Type="http://schemas.openxmlformats.org/officeDocument/2006/relationships/customXml" Target="../customXml/item10.xml"/><Relationship Id="rId14" Type="http://schemas.openxmlformats.org/officeDocument/2006/relationships/customXml" Target="../customXml/item11.xml"/><Relationship Id="rId1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FF14-2242-4558-8777-F7E6A6F8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9076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4068000"/>
            <a:ext cx="419076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348B-3F6F-4F3B-BC78-AD38598B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52320" y="16002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40680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452320" y="40680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B8D-34ED-44DD-80CF-0C6DF460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1349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721880" y="1600200"/>
            <a:ext cx="1349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139200" y="1600200"/>
            <a:ext cx="1349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4068000"/>
            <a:ext cx="1349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721880" y="4068000"/>
            <a:ext cx="1349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139200" y="4068000"/>
            <a:ext cx="1349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07B-074A-4C98-8828-704D731F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EE5D-A91D-41AD-8509-53EA73B5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E9DA-076F-4F2B-8ACF-E7C2AD45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1343-5A66-49AB-BB0F-8021F779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044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452320" y="1600200"/>
            <a:ext cx="2044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675A-C674-4899-9531-C12947E6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3F7B-AEF6-4860-B824-0396F79A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EBEC-1A00-4E09-9A3C-A4E2C8C6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452320" y="1600200"/>
            <a:ext cx="2044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40680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9E48-186C-4D3C-BF42-FCCF33FD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C4B5-33C3-4BCB-98BB-45ED662A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044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452320" y="16002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52320" y="40680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D9A4-2C0F-4833-A5A8-B815E03C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52320" y="16002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68000"/>
            <a:ext cx="419076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7C7C-29B0-423A-8DE3-9F17CAF4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9076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4068000"/>
            <a:ext cx="419076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B706-DDBE-48B5-BBDE-39E6ABB4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52320" y="16002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40680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52320" y="40680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83F9-F378-4797-8AA1-81FF4C2A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1349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1880" y="1600200"/>
            <a:ext cx="1349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139200" y="1600200"/>
            <a:ext cx="1349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4068000"/>
            <a:ext cx="1349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1721880" y="4068000"/>
            <a:ext cx="1349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3139200" y="4068000"/>
            <a:ext cx="1349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C937-F020-41AE-9688-49F05620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41C9C-5557-4B65-A6E4-16F300EB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53917-CA5B-4A1D-8438-BF92E2FF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75CE4-F6C0-4ED2-BDCF-47527592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044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452320" y="1600200"/>
            <a:ext cx="2044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88131-911A-4267-85A1-E3EC39F1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806F5-307B-4DE7-AA2A-2F759CFD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C514-3AD2-4091-8704-D5E659D4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525A-7D9A-416A-B540-423FC22B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452320" y="1600200"/>
            <a:ext cx="2044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40680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503F8-9BAB-4BC9-9D47-D7201F71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044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452320" y="16002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452320" y="40680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A16FB-3349-4D72-8823-E24DFD25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452320" y="16002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4068000"/>
            <a:ext cx="419076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2E904-BE1D-4886-ACB2-1436BC8F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9076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4920" y="4068000"/>
            <a:ext cx="419076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B904-7B61-42C6-BC5F-C9730B31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452320" y="16002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40680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452320" y="40680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BB6BA-C0D0-4ADB-8047-59FAF7F8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1349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721880" y="1600200"/>
            <a:ext cx="1349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139200" y="1600200"/>
            <a:ext cx="1349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4920" y="4068000"/>
            <a:ext cx="1349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1721880" y="4068000"/>
            <a:ext cx="1349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3139200" y="4068000"/>
            <a:ext cx="1349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B5A08-A12B-439C-A305-CB2BCB12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044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452320" y="1600200"/>
            <a:ext cx="2044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BCB-1294-4BE8-BE99-CCE96203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499-93E7-4C42-84FB-F42D34D6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E65-B55B-45B0-84FD-E54471DF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452320" y="1600200"/>
            <a:ext cx="2044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40680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C3B-DA28-4FED-9FEA-30CB0F86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044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452320" y="16002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452320" y="40680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3B41-4AB9-40AB-907C-3317982D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452320" y="1600200"/>
            <a:ext cx="2044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4068000"/>
            <a:ext cx="419076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881B-5822-4F4E-B888-116F89EB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89CF00-DBAD-4B18-82B5-F85320B889C4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DCB372-2CF5-46C0-BDC1-A2D8FCC88D62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3430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BA2081-CA68-41E3-8E4C-02CD4C61BB40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Times New Roman"/>
              </a:rPr>
              <a:t>голубь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34" name="Picture 2" descr="C:\Users\Исаншина\Desktop\гол.jpg"/>
          <p:cNvPicPr/>
          <p:nvPr/>
        </p:nvPicPr>
        <p:blipFill>
          <a:blip r:embed="rId1"/>
          <a:stretch/>
        </p:blipFill>
        <p:spPr>
          <a:xfrm>
            <a:off x="1475640" y="1628640"/>
            <a:ext cx="57528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ГАЛ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52" name="Picture 2" descr="C:\Users\Исаншина\Desktop\галка.jpg"/>
          <p:cNvPicPr/>
          <p:nvPr/>
        </p:nvPicPr>
        <p:blipFill>
          <a:blip r:embed="rId1"/>
          <a:stretch/>
        </p:blipFill>
        <p:spPr>
          <a:xfrm>
            <a:off x="971640" y="1268640"/>
            <a:ext cx="7488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Главные правила при подкормке птиц: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Нельзя кормить птиц солёными продуктами и ржаным хлебом (это смертельно опасно для них)!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•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Если начал подкармливать птиц однажды в начале зимы, следи за тем, чтобы каждый день в кормушке был корм!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•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Кормушка должна быть удобна и безопасна для птиц (плотное крепление, никаких острых краёв, недоступность для соседской кошки)!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•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весь кормушку так, чтобы туда могли попасть мелкие и ловкие птицы, но ни как не голуби и вороны (для которых корма достаточно и на улице)!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•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 возможности корм должен быть защищён от непогоды!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•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Кормушку необходимо регулярно чистить!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Чем накормить пернатых гостей?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Нежареные семена подсолнуха и тыквы, арбуза и дыни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•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Шишки, желуди, орехи, например, арахис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•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шено, просо, овес, пшеница, геркулес (сырые!)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•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учки сорных трав - лебеды, крапивы, конского    щавеля, лопуха и т.д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•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Гроздья ягод калины, рябины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•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рошки чёрствого пшеничного хлеб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•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емена клена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•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усочки несолёного сала, мяса и жир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•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Яблоки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21"/>
              </a:spcBef>
              <a:buNone/>
            </a:pPr>
            <a:endParaRPr b="0" lang="ru-RU" sz="31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5000"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90520" indent="-2905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О птицах много знаем мы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0520" indent="-2905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И в то же время мало,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0520" indent="-2905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И нужно всем: и вам, и нам, -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0520" indent="-2905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Чтоб их побольше стало.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0520" indent="-2905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Для этого побережём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0520" indent="-2905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воих друзей пернатых,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0520" indent="-2905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Иначе мы к нулю сведём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0520" indent="-2905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евцов наших крылатых.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0520" indent="-2905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ъедят деревья и плоды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0520" indent="-2905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Личинки насекомых,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0520" indent="-2905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И поредеют все сады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0520" indent="-2905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Без наших птиц знакомых.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430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0"/>
          </a:bodyPr>
          <a:p>
            <a:pPr marL="322560" indent="-322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Зимой поставь кормушку им,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560" indent="-322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иницам дай ты сала;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560" indent="-322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шено едят все воробьи,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560" indent="-322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одсыпь, как станет мало.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560" indent="-322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Они вознаградят труды,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560" indent="-322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И зацветут кругом сады.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560" indent="-322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реди зелёной той листвы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560" indent="-322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Их песенку услышишь ты.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Times New Roman"/>
              </a:rPr>
              <a:t>ЖУРАВЛЬ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36" name="Picture 2" descr="C:\Users\Исаншина\Desktop\жур.jpg"/>
          <p:cNvPicPr/>
          <p:nvPr/>
        </p:nvPicPr>
        <p:blipFill>
          <a:blip r:embed="rId1"/>
          <a:stretch/>
        </p:blipFill>
        <p:spPr>
          <a:xfrm>
            <a:off x="2627640" y="1412640"/>
            <a:ext cx="3857400" cy="52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СОРО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38" name="Picture 2" descr="C:\Users\Исаншина\Desktop\сор.jpg"/>
          <p:cNvPicPr/>
          <p:nvPr/>
        </p:nvPicPr>
        <p:blipFill>
          <a:blip r:embed="rId1"/>
          <a:stretch/>
        </p:blipFill>
        <p:spPr>
          <a:xfrm>
            <a:off x="1547640" y="1845000"/>
            <a:ext cx="6480360" cy="43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КУКУШ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40" name="Picture 2" descr="C:\Users\Исаншина\Desktop\кукушка.jpeg"/>
          <p:cNvPicPr/>
          <p:nvPr/>
        </p:nvPicPr>
        <p:blipFill>
          <a:blip r:embed="rId1"/>
          <a:stretch/>
        </p:blipFill>
        <p:spPr>
          <a:xfrm>
            <a:off x="2658960" y="1484640"/>
            <a:ext cx="4360680" cy="48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ДЯТЕЛ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42" name="Picture 2" descr="C:\Users\Исаншина\Desktop\дятел.jpg"/>
          <p:cNvPicPr/>
          <p:nvPr/>
        </p:nvPicPr>
        <p:blipFill>
          <a:blip r:embed="rId1"/>
          <a:stretch/>
        </p:blipFill>
        <p:spPr>
          <a:xfrm>
            <a:off x="1979640" y="1268640"/>
            <a:ext cx="4968360" cy="53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ЗЯБЛИК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44" name="Picture 2" descr="C:\Users\Исаншина\Desktop\зяблик.jpg"/>
          <p:cNvPicPr/>
          <p:nvPr/>
        </p:nvPicPr>
        <p:blipFill>
          <a:blip r:embed="rId1"/>
          <a:stretch/>
        </p:blipFill>
        <p:spPr>
          <a:xfrm>
            <a:off x="2123640" y="1772640"/>
            <a:ext cx="523836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СИНИЦ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46" name="Picture 2" descr="C:\Users\Исаншина\Desktop\синица.jpg"/>
          <p:cNvPicPr/>
          <p:nvPr/>
        </p:nvPicPr>
        <p:blipFill>
          <a:blip r:embed="rId1"/>
          <a:stretch/>
        </p:blipFill>
        <p:spPr>
          <a:xfrm>
            <a:off x="1835640" y="1340640"/>
            <a:ext cx="6251040" cy="52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ЖАВОРОНОК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48" name="Picture 2" descr="C:\Users\Исаншина\Desktop\жаворонок.jpg"/>
          <p:cNvPicPr/>
          <p:nvPr/>
        </p:nvPicPr>
        <p:blipFill>
          <a:blip r:embed="rId1"/>
          <a:stretch/>
        </p:blipFill>
        <p:spPr>
          <a:xfrm>
            <a:off x="1475640" y="1340640"/>
            <a:ext cx="655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ВОРОБЕЙ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50" name="Picture 2" descr="C:\Users\Исаншина\Desktop\воробей.jpg"/>
          <p:cNvPicPr/>
          <p:nvPr/>
        </p:nvPicPr>
        <p:blipFill>
          <a:blip r:embed="rId1"/>
          <a:stretch/>
        </p:blipFill>
        <p:spPr>
          <a:xfrm>
            <a:off x="1691640" y="1340640"/>
            <a:ext cx="6264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10.xml.rels><?xml version="1.0" encoding="UTF-8"?>
<Relationships xmlns="http://schemas.openxmlformats.org/package/2006/relationships"><Relationship Id="rId1" Type="http://schemas.openxmlformats.org/officeDocument/2006/relationships/customXmlProps" Target="itemProps10.xml"/>
</Relationships>
</file>

<file path=customXml/_rels/item11.xml.rels><?xml version="1.0" encoding="UTF-8"?>
<Relationships xmlns="http://schemas.openxmlformats.org/package/2006/relationships"><Relationship Id="rId1" Type="http://schemas.openxmlformats.org/officeDocument/2006/relationships/customXmlProps" Target="itemProps1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_rels/item4.xml.rels><?xml version="1.0" encoding="UTF-8"?>
<Relationships xmlns="http://schemas.openxmlformats.org/package/2006/relationships"><Relationship Id="rId1" Type="http://schemas.openxmlformats.org/officeDocument/2006/relationships/customXmlProps" Target="itemProps4.xml"/>
</Relationships>
</file>

<file path=customXml/_rels/item5.xml.rels><?xml version="1.0" encoding="UTF-8"?>
<Relationships xmlns="http://schemas.openxmlformats.org/package/2006/relationships"><Relationship Id="rId1" Type="http://schemas.openxmlformats.org/officeDocument/2006/relationships/customXmlProps" Target="itemProps5.xml"/>
</Relationships>
</file>

<file path=customXml/_rels/item6.xml.rels><?xml version="1.0" encoding="UTF-8"?>
<Relationships xmlns="http://schemas.openxmlformats.org/package/2006/relationships"><Relationship Id="rId1" Type="http://schemas.openxmlformats.org/officeDocument/2006/relationships/customXmlProps" Target="itemProps6.xml"/>
</Relationships>
</file>

<file path=customXml/_rels/item7.xml.rels><?xml version="1.0" encoding="UTF-8"?>
<Relationships xmlns="http://schemas.openxmlformats.org/package/2006/relationships"><Relationship Id="rId1" Type="http://schemas.openxmlformats.org/officeDocument/2006/relationships/customXmlProps" Target="itemProps7.xml"/>
</Relationships>
</file>

<file path=customXml/_rels/item8.xml.rels><?xml version="1.0" encoding="UTF-8"?>
<Relationships xmlns="http://schemas.openxmlformats.org/package/2006/relationships"><Relationship Id="rId1" Type="http://schemas.openxmlformats.org/officeDocument/2006/relationships/customXmlProps" Target="itemProps8.xml"/>
</Relationships>
</file>

<file path=customXml/_rels/item9.xml.rels><?xml version="1.0" encoding="UTF-8"?>
<Relationships xmlns="http://schemas.openxmlformats.org/package/2006/relationships"><Relationship Id="rId1" Type="http://schemas.openxmlformats.org/officeDocument/2006/relationships/customXmlProps" Target="itemProps9.xml"/>
</Relationships>
</file>

<file path=customXml/item1.xml><?xml version="1.0" encoding="utf-8"?>
<Layout>
  <Type>YesNo</Type>
  <ChoicesCount>2</ChoicesCount>
  <Orientation>Left</Orientation>
</Layout>
</file>

<file path=customXml/item10.xml><?xml version="1.0" encoding="utf-8"?>
<Layout>
  <Type>MultipleChoice</Type>
  <ChoicesCount>3</ChoicesCount>
  <Orientation>Left</Orientation>
</Layout>
</file>

<file path=customXml/item11.xml><?xml version="1.0" encoding="utf-8"?>
<Layout>
  <Type>MultipleChoice</Type>
  <ChoicesCount>3</ChoicesCount>
  <Orientation>Left</Orientation>
</Layout>
</file>

<file path=customXml/item2.xml><?xml version="1.0" encoding="utf-8"?>
<Layout>
  <Type>MultipleChoice</Type>
  <ChoicesCount>4</ChoicesCount>
  <Orientation>Left</Orientation>
</Layout>
</file>

<file path=customXml/item3.xml><?xml version="1.0" encoding="utf-8"?>
<Layout>
  <Type>YesNo</Type>
  <ChoicesCount>2</ChoicesCount>
  <Orientation>Left</Orientation>
</Layout>
</file>

<file path=customXml/item4.xml><?xml version="1.0" encoding="utf-8"?>
<Layout>
  <Type>Drawing</Type>
  <ChoicesCount>0</ChoicesCount>
  <Orientation>Left</Orientation>
</Layout>
</file>

<file path=customXml/item5.xml><?xml version="1.0" encoding="utf-8"?>
<Layout>
  <Type>YesNo</Type>
  <ChoicesCount>2</ChoicesCount>
  <Orientation>Left</Orientation>
</Layout>
</file>

<file path=customXml/item6.xml><?xml version="1.0" encoding="utf-8"?>
<Layout>
  <Type>MultipleChoice</Type>
  <ChoicesCount>3</ChoicesCount>
  <Orientation>Left</Orientation>
</Layout>
</file>

<file path=customXml/item7.xml><?xml version="1.0" encoding="utf-8"?>
<Layout>
  <Type>MultipleChoice</Type>
  <ChoicesCount>4</ChoicesCount>
  <Orientation>Left</Orientation>
</Layout>
</file>

<file path=customXml/item8.xml><?xml version="1.0" encoding="utf-8"?>
<Layout>
  <Type>Drawing</Type>
  <ChoicesCount>0</ChoicesCount>
  <Orientation>Left</Orientation>
</Layout>
</file>

<file path=customXml/item9.xml><?xml version="1.0" encoding="utf-8"?>
<Layout>
  <Type>MultipleChoice</Type>
  <ChoicesCount>3</ChoicesCount>
  <Orientation>Left</Orientation>
</Layout>
</file>

<file path=customXml/itemProps1.xml><?xml version="1.0" encoding="utf-8"?>
<ds:datastoreItem xmlns:ds="http://schemas.openxmlformats.org/officeDocument/2006/customXml" ds:itemID="{2279779F-07E5-473A-983E-89646A94C009}">
  <ds:schemaRefs/>
</ds:datastoreItem>
</file>

<file path=customXml/itemProps10.xml><?xml version="1.0" encoding="utf-8"?>
<ds:datastoreItem xmlns:ds="http://schemas.openxmlformats.org/officeDocument/2006/customXml" ds:itemID="{F478181D-7D9A-4DB7-A1BF-A3583DACDE3D}">
  <ds:schemaRefs/>
</ds:datastoreItem>
</file>

<file path=customXml/itemProps11.xml><?xml version="1.0" encoding="utf-8"?>
<ds:datastoreItem xmlns:ds="http://schemas.openxmlformats.org/officeDocument/2006/customXml" ds:itemID="{2617FCEE-3303-4251-A9B6-AEB11CA9D117}">
  <ds:schemaRefs/>
</ds:datastoreItem>
</file>

<file path=customXml/itemProps2.xml><?xml version="1.0" encoding="utf-8"?>
<ds:datastoreItem xmlns:ds="http://schemas.openxmlformats.org/officeDocument/2006/customXml" ds:itemID="{5E584746-E709-4694-8D74-818278AEBC51}">
  <ds:schemaRefs/>
</ds:datastoreItem>
</file>

<file path=customXml/itemProps3.xml><?xml version="1.0" encoding="utf-8"?>
<ds:datastoreItem xmlns:ds="http://schemas.openxmlformats.org/officeDocument/2006/customXml" ds:itemID="{15C1729D-939A-4D01-BCDC-9BD3B543956F}">
  <ds:schemaRefs/>
</ds:datastoreItem>
</file>

<file path=customXml/itemProps4.xml><?xml version="1.0" encoding="utf-8"?>
<ds:datastoreItem xmlns:ds="http://schemas.openxmlformats.org/officeDocument/2006/customXml" ds:itemID="{C2893217-6E0E-4639-8CFC-6C1E7FE1A390}">
  <ds:schemaRefs/>
</ds:datastoreItem>
</file>

<file path=customXml/itemProps5.xml><?xml version="1.0" encoding="utf-8"?>
<ds:datastoreItem xmlns:ds="http://schemas.openxmlformats.org/officeDocument/2006/customXml" ds:itemID="{77D3CDE8-BAD7-441E-AEBE-3BA2745F1B9A}">
  <ds:schemaRefs/>
</ds:datastoreItem>
</file>

<file path=customXml/itemProps6.xml><?xml version="1.0" encoding="utf-8"?>
<ds:datastoreItem xmlns:ds="http://schemas.openxmlformats.org/officeDocument/2006/customXml" ds:itemID="{D900E301-B8D3-469A-BCEF-8F06376B696A}">
  <ds:schemaRefs/>
</ds:datastoreItem>
</file>

<file path=customXml/itemProps7.xml><?xml version="1.0" encoding="utf-8"?>
<ds:datastoreItem xmlns:ds="http://schemas.openxmlformats.org/officeDocument/2006/customXml" ds:itemID="{A4FC0D18-17E0-4770-A483-2306403FE464}">
  <ds:schemaRefs/>
</ds:datastoreItem>
</file>

<file path=customXml/itemProps8.xml><?xml version="1.0" encoding="utf-8"?>
<ds:datastoreItem xmlns:ds="http://schemas.openxmlformats.org/officeDocument/2006/customXml" ds:itemID="{DED44D8C-C712-43A4-958B-8FF02047D395}">
  <ds:schemaRefs/>
</ds:datastoreItem>
</file>

<file path=customXml/itemProps9.xml><?xml version="1.0" encoding="utf-8"?>
<ds:datastoreItem xmlns:ds="http://schemas.openxmlformats.org/officeDocument/2006/customXml" ds:itemID="{F5CB0F4C-CAD9-402D-B222-78634B786EDA}">
  <ds:schemaRefs/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989</TotalTime>
  <Application>LibreOffice/7.4.7.2$Linux_X86_64 LibreOffice_project/40$Build-2</Application>
  <AppVersion>15.0000</AppVersion>
  <Words>332</Words>
  <Paragraphs>4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07:21:59Z</dcterms:created>
  <dc:creator>XTreme</dc:creator>
  <dc:description/>
  <dc:language>en-US</dc:language>
  <cp:lastModifiedBy>Исаншина</cp:lastModifiedBy>
  <dcterms:modified xsi:type="dcterms:W3CDTF">2013-12-10T17:31:18Z</dcterms:modified>
  <cp:revision>118</cp:revision>
  <dc:subject/>
  <dc:title>Города Золотого кольц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