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9D6-3A52-4E40-B8E6-7270DD5C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E05-439F-468B-8407-1E6D463A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10D-5AD0-4E57-8D2D-AE892FF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502-1EBD-4049-888E-F98C0F0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9C10-C4AD-443D-B095-5803C8D0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546-3774-4BD3-95F5-7412264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D742-7687-4399-B22F-910AD4A8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3163-6F74-43ED-BAC7-905BABF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1B2E-7EC6-44D1-9707-63C78512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2A9B-CCE3-41D2-B87F-E966E83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4CF4-2CFE-4A32-965E-BE2C56AF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91C-AB1F-4E44-9DF7-FED9043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5C53-9626-49D4-BB21-D1F1C60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2E5-8227-4097-AAB8-A8C0479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ECF9-DB17-4EBA-A16D-380D426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8FF-C813-4CF6-903D-2D5481F8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0AD-5BE0-4B2C-BFDF-8ED1616D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107-3B82-448B-BA05-3058371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FB9-A5C7-4908-9902-37BBE1F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9DD-C212-4455-8A8A-4981C2C3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10F-9A3F-4937-B80A-B3F5B1E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1EB-9D47-46A7-A8FA-45A2AB2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D73-4B3F-4C23-AF80-BFB073E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E39-4884-4FBC-9F7D-8C1BED6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234-E1FE-4C39-A0D0-474CBD4B3B9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D5C-B5A6-4E23-92F8-6C177C897EF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317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ТЕХНОЛОГИЯ РАЗВИТИЯ КРИТИЧЕСКОГО МЫШЛЕНИЯ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8960"/>
            <a:ext cx="6400800" cy="1523880"/>
          </a:xfrm>
          <a:prstGeom prst="rect">
            <a:avLst/>
          </a:prstGeom>
          <a:solidFill>
            <a:srgbClr val="ffcc66"/>
          </a:solidFill>
          <a:ln w="9360">
            <a:solidFill>
              <a:srgbClr val="cc66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«Как можно меньше учителя, как можно больше учени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ИНКВЕЙ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Любое лирическое произведение – рефлексия. Синквейн – это стихотворение из 5 строк, которое строится по правил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Тема называется одним словом (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существительное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писание темы в двух словах (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прилагательные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писание действия в рамках этой темы (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глаголы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Фраза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из четырех слов, показывающая отношение к 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Синоним из одного слова, который повторяет 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суть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569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ИХОТВОРЕНИЕ «СИНКВЕЙН»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(тема «Здоровье»)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Здоровье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ажное, необходимое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Бегаешь, прыгаешь, плаваешь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Здоровое тело – здоровый дух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Жизнь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Important,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un, jump,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A sound mind in a soun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ИХОТВОРЕНИЕ «СИНКВЕЙН» </a:t>
            </a: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тема («Телевидение»)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Телеви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Важное, необходи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Смотришь, учишься, развлекаеш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Это здорово, забавно, интерес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Tele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mportant,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Watch, study, enj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t’s great, fun,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533520"/>
            <a:ext cx="75643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МОДЕЛЬ УРОКА</a:t>
            </a:r>
            <a:r>
              <a:rPr b="0" i="1" lang="ru-RU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2666520"/>
            <a:ext cx="7626240" cy="3048120"/>
          </a:xfrm>
          <a:prstGeom prst="rect">
            <a:avLst/>
          </a:prstGeom>
          <a:solidFill>
            <a:srgbClr val="ffcc66"/>
          </a:solidFill>
          <a:ln w="9360">
            <a:solidFill>
              <a:srgbClr val="cc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Выз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Осмыс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914040"/>
            <a:ext cx="75643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33"/>
                </a:solidFill>
                <a:latin typeface="Times New Roman"/>
              </a:rPr>
              <a:t>Разминка (</a:t>
            </a:r>
            <a:r>
              <a:rPr b="1" i="1" lang="en-US" sz="4800" spc="-1" strike="noStrike">
                <a:solidFill>
                  <a:srgbClr val="996633"/>
                </a:solidFill>
                <a:latin typeface="Times New Roman"/>
              </a:rPr>
              <a:t>“Warming up”) </a:t>
            </a: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необходима и актуальна на любой из данных стадий урока с использованием технологии развития критического мышления.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ДИЯ ВЫЗО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7760" y="1676160"/>
            <a:ext cx="7626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Таблица Донны Ог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Составление класте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ТАБЛИЦА ДОННЫ ОГ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828440" y="355932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09680" y="3809880"/>
          <a:ext cx="6477120" cy="1752840"/>
        </p:xfrm>
        <a:graphic>
          <a:graphicData uri="http://schemas.openxmlformats.org/drawingml/2006/table">
            <a:tbl>
              <a:tblPr/>
              <a:tblGrid>
                <a:gridCol w="1981440"/>
                <a:gridCol w="2286000"/>
                <a:gridCol w="22096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Хочу 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ОСТАВЛЕНИЕ КЛАСТЕР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7760" y="1828440"/>
            <a:ext cx="7626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Графический способ организации учебного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Озвучивание учениками (группой) своих «гроздьев» по определенной теме, тексту, грамматическому матери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257800"/>
            <a:ext cx="129528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952880"/>
            <a:ext cx="106668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724280"/>
            <a:ext cx="121896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5257440"/>
            <a:ext cx="9907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38680" y="5105520"/>
            <a:ext cx="11430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791320"/>
            <a:ext cx="838080" cy="304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5562720"/>
            <a:ext cx="838080" cy="380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720" y="51814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5181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867280"/>
            <a:ext cx="609480" cy="304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867280"/>
            <a:ext cx="609840" cy="304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095880"/>
            <a:ext cx="533520" cy="304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54100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895480" y="5410080"/>
            <a:ext cx="763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133720" y="5334120"/>
            <a:ext cx="3045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6248520"/>
            <a:ext cx="1219320" cy="304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648320"/>
            <a:ext cx="45720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133720" y="480024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ДИЯ ОСМЫСЛ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Заполнение до конца таблицы Донны Огл, добавление других столбцов таблицы в следующем вариан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733920"/>
            <a:ext cx="2438640" cy="1218960"/>
          </a:xfrm>
          <a:prstGeom prst="cloudCallout">
            <a:avLst>
              <a:gd name="adj1" fmla="val -61912"/>
              <a:gd name="adj2" fmla="val 50129"/>
            </a:avLst>
          </a:prstGeom>
          <a:solidFill>
            <a:srgbClr val="ffcc66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зн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3581280"/>
            <a:ext cx="2590560" cy="1219320"/>
          </a:xfrm>
          <a:prstGeom prst="cloudCallout">
            <a:avLst>
              <a:gd name="adj1" fmla="val -61763"/>
              <a:gd name="adj2" fmla="val 55597"/>
            </a:avLst>
          </a:prstGeom>
          <a:solidFill>
            <a:srgbClr val="ffcc66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мо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257800"/>
            <a:ext cx="2514600" cy="1219320"/>
          </a:xfrm>
          <a:prstGeom prst="cloudCallout">
            <a:avLst>
              <a:gd name="adj1" fmla="val -73296"/>
              <a:gd name="adj2" fmla="val 25912"/>
            </a:avLst>
          </a:prstGeom>
          <a:solidFill>
            <a:srgbClr val="ffcc66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у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ДИЯ ОСМЫСЛ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Распаковка кластера: выделение смысловых единиц, объяснение связей между «веточками» той или иной «грозди», выделение какого-либо смыслового бл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495680"/>
            <a:ext cx="1905120" cy="533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4572000"/>
            <a:ext cx="1295280" cy="380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343400"/>
            <a:ext cx="114300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5486400"/>
            <a:ext cx="129528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34120"/>
            <a:ext cx="1371600" cy="457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040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038480" y="4952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19920" y="4647960"/>
            <a:ext cx="9903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410080"/>
            <a:ext cx="53352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5486400"/>
            <a:ext cx="457200" cy="304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6172200"/>
            <a:ext cx="60984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6248520"/>
            <a:ext cx="609480" cy="304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791320"/>
            <a:ext cx="685800" cy="380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6172200"/>
            <a:ext cx="68580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5562720"/>
            <a:ext cx="609840" cy="304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6095880"/>
            <a:ext cx="609840" cy="304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4952880"/>
            <a:ext cx="53352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4952880"/>
            <a:ext cx="60948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4038480"/>
            <a:ext cx="53316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440" y="48769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124080" y="5715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5791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638680"/>
            <a:ext cx="3049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238880" y="48006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472428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077320" y="42667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76760" y="59436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586728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715000"/>
            <a:ext cx="533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8769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105520"/>
            <a:ext cx="45720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769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ДИЯ РЕФЛЕК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Возврат к заданиям на стадии выз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Синквей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0-02-19T04:24:09Z</dcterms:modified>
  <cp:revision>3</cp:revision>
  <dc:subject/>
  <dc:title>PowerPoint Presentation</dc:title>
</cp:coreProperties>
</file>