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7426-41EE-4FD4-8934-62D73A2F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B077-7E90-4F32-8B71-04950906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C732-7688-4354-B239-B26439E30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3183-B4CA-4A9A-8DAF-D2AF9A5C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01BE-37DB-4466-A76E-1F430BD0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4072-761A-480C-B44D-9042025E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AC93-625B-47C9-B5F4-12779DF2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6554-22B3-48EB-8E5A-2D6B317A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F62B-D357-4D13-B4FC-1796B6E6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1087-50F0-403A-84DA-AD3B8745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1B5C-5E06-44E7-8B8B-6D1D06B6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2134-BC7D-4BD2-AD69-66480E10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9EA8-12A8-4318-B122-EB6F5A33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B038-5A33-446B-B03A-7C24F739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CAE8-1708-47E7-88E3-431F3F86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3652-B224-428B-84D4-2223201D1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AE62-3855-4043-A419-FD235CDC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CAFE-4847-4D3C-98A7-9C4A64C2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62DE-EB98-4AA0-9A35-08D68AB7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4482-3325-4D7C-BC9E-CFAEDA0A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607A-17A3-48A1-8EC6-BAA29129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A1FF-E1EF-4C61-9B23-863CBACC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24E7-DFEE-4533-9D83-BBA9AE68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93E2-4E09-4BDE-83E5-C5A3DE1D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E866-58DA-48B1-8EDF-82C70C63B0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DD07-C13C-4FEE-AAFE-96B0EA2C0C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6.jpe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" Target="slide18.xml"/><Relationship Id="rId7" Type="http://schemas.openxmlformats.org/officeDocument/2006/relationships/image" Target="../media/image13.png"/><Relationship Id="rId8" Type="http://schemas.openxmlformats.org/officeDocument/2006/relationships/slide" Target="slide18.xml"/><Relationship Id="rId9" Type="http://schemas.openxmlformats.org/officeDocument/2006/relationships/image" Target="../media/image14.png"/><Relationship Id="rId10" Type="http://schemas.openxmlformats.org/officeDocument/2006/relationships/slide" Target="slide18.xml"/><Relationship Id="rId11" Type="http://schemas.openxmlformats.org/officeDocument/2006/relationships/image" Target="../media/image15.png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920" y="1369800"/>
            <a:ext cx="7400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Организация работы с документами.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050920" y="5733720"/>
            <a:ext cx="564048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подаватель: Репина О.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2360" y="47628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Тема 1.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42920" y="1197000"/>
            <a:ext cx="8893080" cy="5184720"/>
          </a:xfrm>
          <a:prstGeom prst="verticalScroll">
            <a:avLst>
              <a:gd name="adj" fmla="val 7074"/>
            </a:avLst>
          </a:prstGeom>
          <a:gradFill rotWithShape="0">
            <a:gsLst>
              <a:gs pos="0">
                <a:srgbClr val="ffcccc"/>
              </a:gs>
              <a:gs pos="50000">
                <a:srgbClr val="ffffff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одержат признаки различных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по назначению документов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Например, приказ 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овершении операции и отметк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о его выполнении.</a:t>
            </a:r>
            <a:br>
              <a:rPr sz="3600"/>
            </a:br>
            <a:r>
              <a:rPr b="0" lang="en-US" sz="3600" spc="-1" strike="noStrike">
                <a:solidFill>
                  <a:srgbClr val="540000"/>
                </a:solidFill>
                <a:latin typeface="Verdana"/>
              </a:rPr>
              <a:t>(кассовый ордер, требование</a:t>
            </a:r>
            <a:r>
              <a:rPr b="0" lang="en-US" sz="3200" spc="-1" strike="noStrike">
                <a:solidFill>
                  <a:srgbClr val="54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282680" y="345960"/>
            <a:ext cx="6458040" cy="495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solidFill>
                    <a:srgbClr val="000000"/>
                  </a:solidFill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Verdana"/>
              </a:rPr>
              <a:t>Комбинированные документы</a:t>
            </a:r>
            <a:endParaRPr b="1" lang="en-US" sz="3200" spc="1" strike="noStrike">
              <a:ln w="0">
                <a:solidFill>
                  <a:srgbClr val="000000"/>
                </a:solidFill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Verdana"/>
              <a:ea typeface="Verdana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1280" y="1341360"/>
            <a:ext cx="8964720" cy="5029200"/>
          </a:xfrm>
          <a:prstGeom prst="verticalScroll">
            <a:avLst>
              <a:gd name="adj" fmla="val 7074"/>
            </a:avLst>
          </a:prstGeom>
          <a:gradFill rotWithShape="0">
            <a:gsLst>
              <a:gs pos="0">
                <a:srgbClr val="ffcccc"/>
              </a:gs>
              <a:gs pos="50000">
                <a:srgbClr val="ffffff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оставляются работни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бухгалтерии для учетных цел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Эти документы составля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на основании распорядительных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исполнительных документов и 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законодательно-справочного характе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Играют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вспомогательну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рол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не имеют самостоятельного значения.</a:t>
            </a:r>
            <a:br>
              <a:rPr sz="2800"/>
            </a:br>
            <a:r>
              <a:rPr b="0" lang="en-US" sz="2800" spc="-1" strike="noStrike">
                <a:solidFill>
                  <a:srgbClr val="540000"/>
                </a:solidFill>
                <a:latin typeface="Verdana"/>
              </a:rPr>
              <a:t>(расчет амортиза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258920" y="476280"/>
            <a:ext cx="6458040" cy="495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solidFill>
                    <a:srgbClr val="000000"/>
                  </a:solidFill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Verdana"/>
              </a:rPr>
              <a:t> </a:t>
            </a:r>
            <a:r>
              <a:rPr b="1" lang="en-US" sz="3200" spc="1" strike="noStrike">
                <a:ln w="0">
                  <a:solidFill>
                    <a:srgbClr val="000000"/>
                  </a:solidFill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Verdana"/>
              </a:rPr>
              <a:t>Документы бухгалтерского оформления</a:t>
            </a:r>
            <a:endParaRPr b="1" lang="en-US" sz="3200" spc="1" strike="noStrike">
              <a:ln w="0">
                <a:solidFill>
                  <a:srgbClr val="000000"/>
                </a:solidFill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Verdana"/>
              <a:ea typeface="Verdana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0920" y="3213000"/>
            <a:ext cx="3962160" cy="3200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Первичные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52880" y="3181320"/>
            <a:ext cx="3962520" cy="3200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Сводные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81120" y="1951200"/>
            <a:ext cx="137160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54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53120" y="1951200"/>
            <a:ext cx="137160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54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68360" y="403200"/>
            <a:ext cx="8351640" cy="1081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solidFill>
                    <a:srgbClr val="000000"/>
                  </a:solidFill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Verdana"/>
              </a:rPr>
              <a:t>Классификация документов по способу отражения </a:t>
            </a:r>
            <a:endParaRPr b="1" lang="en-US" sz="2400" spc="1" strike="noStrike">
              <a:ln w="0">
                <a:solidFill>
                  <a:srgbClr val="000000"/>
                </a:solidFill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solidFill>
                    <a:srgbClr val="000000"/>
                  </a:solidFill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Verdana"/>
              </a:rPr>
              <a:t>хозяйственных операций</a:t>
            </a:r>
            <a:endParaRPr b="1" lang="en-US" sz="2400" spc="1" strike="noStrike">
              <a:ln w="0">
                <a:solidFill>
                  <a:srgbClr val="000000"/>
                </a:solidFill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Verdana"/>
              <a:ea typeface="Verdana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250920" y="691920"/>
            <a:ext cx="738648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0000"/>
                </a:solidFill>
                <a:latin typeface="Verdana"/>
              </a:rPr>
              <a:t>   </a:t>
            </a:r>
            <a:r>
              <a:rPr b="1" lang="en-US" sz="2400" spc="-1" strike="noStrike" u="sng">
                <a:solidFill>
                  <a:srgbClr val="540000"/>
                </a:solidFill>
                <a:uFillTx/>
                <a:latin typeface="Verdana"/>
              </a:rPr>
              <a:t>Первичные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эт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окументы отражают совершившуюся операцию впервые, непосредственно, являясь доказательством того, что данная операция действительно имела место </a:t>
            </a:r>
            <a:r>
              <a:rPr b="1" lang="en-US" sz="2400" spc="-1" strike="noStrike">
                <a:solidFill>
                  <a:srgbClr val="540000"/>
                </a:solidFill>
                <a:latin typeface="Verdana"/>
              </a:rPr>
              <a:t>(приходный и расходный кассовые ордера,  материальное требова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5280" y="4005360"/>
            <a:ext cx="68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540000"/>
                </a:solidFill>
                <a:uFillTx/>
                <a:latin typeface="Arial"/>
                <a:ea typeface="Arial"/>
              </a:rPr>
              <a:t>Сводный</a:t>
            </a:r>
            <a:r>
              <a:rPr b="1" lang="en-US" sz="2400" spc="-1" strike="noStrike">
                <a:solidFill>
                  <a:srgbClr val="30605a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эт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окумент отражает взаимосвязанные, ранее совершенные и уже отраженные в первичных документах хозяйственные операции. Он составляется для обработки, обобщения учетных данных</a:t>
            </a:r>
            <a:r>
              <a:rPr b="0" lang="en-US" sz="2400" spc="-1" strike="noStrike">
                <a:solidFill>
                  <a:srgbClr val="30605a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540000"/>
                </a:solidFill>
                <a:latin typeface="Arial"/>
                <a:ea typeface="Arial"/>
              </a:rPr>
              <a:t>(авансовый отчет, калькуля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0920" y="3213000"/>
            <a:ext cx="3962160" cy="3200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Разовые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52880" y="3181320"/>
            <a:ext cx="3962520" cy="3200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Накопительные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581120" y="1951200"/>
            <a:ext cx="137160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54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53120" y="1951200"/>
            <a:ext cx="137160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54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68360" y="403200"/>
            <a:ext cx="8351640" cy="1081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solidFill>
                    <a:srgbClr val="000000"/>
                  </a:solidFill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Verdana"/>
              </a:rPr>
              <a:t>Классификация документов по способу охвата </a:t>
            </a:r>
            <a:endParaRPr b="1" lang="en-US" sz="2400" spc="1" strike="noStrike">
              <a:ln w="0">
                <a:solidFill>
                  <a:srgbClr val="000000"/>
                </a:solidFill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solidFill>
                    <a:srgbClr val="000000"/>
                  </a:solidFill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Verdana"/>
              </a:rPr>
              <a:t> </a:t>
            </a:r>
            <a:r>
              <a:rPr b="1" lang="en-US" sz="2400" spc="1" strike="noStrike">
                <a:ln w="0">
                  <a:solidFill>
                    <a:srgbClr val="000000"/>
                  </a:solidFill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Verdana"/>
              </a:rPr>
              <a:t>операций</a:t>
            </a:r>
            <a:endParaRPr b="1" lang="en-US" sz="2400" spc="1" strike="noStrike">
              <a:ln w="0">
                <a:solidFill>
                  <a:srgbClr val="000000"/>
                </a:solidFill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Verdana"/>
              <a:ea typeface="Verdana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263520" y="549000"/>
            <a:ext cx="7386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540000"/>
                </a:solidFill>
                <a:uFillTx/>
                <a:latin typeface="Verdana"/>
              </a:rPr>
              <a:t>Разовы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окументы отражают одну или несколько операций при их совершении, после чего сразу же передаются в бухгалтерию и используются для бухгалтерских записей</a:t>
            </a:r>
            <a:br>
              <a:rPr sz="2400"/>
            </a:br>
            <a:r>
              <a:rPr b="1" lang="en-US" sz="2400" spc="-1" strike="noStrike">
                <a:solidFill>
                  <a:srgbClr val="540000"/>
                </a:solidFill>
                <a:latin typeface="Verdana"/>
              </a:rPr>
              <a:t>(чек, кассовый орде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0000"/>
                </a:solidFill>
                <a:latin typeface="Verdana"/>
              </a:rPr>
              <a:t>   </a:t>
            </a:r>
            <a:r>
              <a:rPr b="1" lang="en-US" sz="2400" spc="-1" strike="noStrike" u="sng">
                <a:solidFill>
                  <a:srgbClr val="540000"/>
                </a:solidFill>
                <a:uFillTx/>
                <a:latin typeface="Verdana"/>
              </a:rPr>
              <a:t>Накопительны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окументы случат для отражения возникающих хозяйственных операций в течение определенного времени (например, месяца)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а их основании бухгалтерские записи делаются только после закрытия документа </a:t>
            </a:r>
            <a:r>
              <a:rPr b="1" lang="en-US" sz="2400" spc="-1" strike="noStrike">
                <a:solidFill>
                  <a:srgbClr val="540000"/>
                </a:solidFill>
                <a:latin typeface="Verdana"/>
              </a:rPr>
              <a:t>(авансовый отчет, табель</a:t>
            </a:r>
            <a:br>
              <a:rPr sz="2400"/>
            </a:br>
            <a:r>
              <a:rPr b="1" lang="en-US" sz="2400" spc="-1" strike="noStrike">
                <a:solidFill>
                  <a:srgbClr val="540000"/>
                </a:solidFill>
                <a:latin typeface="Verdana"/>
              </a:rPr>
              <a:t> учета рабочего времени, заборная кар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116000" y="1371600"/>
            <a:ext cx="7621560" cy="9144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Для управления (документы дают распоряж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а совершение операций и служа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боснованием совершаемых операц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116000" y="2590920"/>
            <a:ext cx="7621560" cy="7617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Для контроля за законченностью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целесообразностью опер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19240" y="3657600"/>
            <a:ext cx="7618320" cy="6094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Для обеспечения сохранности собств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119240" y="4648320"/>
            <a:ext cx="7618320" cy="6858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Используется при анализе хозяйств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19240" y="5562720"/>
            <a:ext cx="7618320" cy="9903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Правовое назначение: неправиль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формленный документ не имеет юридиче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и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42800" y="1484280"/>
            <a:ext cx="312840" cy="3128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800000"/>
              </a:gs>
              <a:gs pos="50000">
                <a:srgbClr val="f5ecec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42800" y="2550960"/>
            <a:ext cx="312840" cy="3128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800000"/>
              </a:gs>
              <a:gs pos="50000">
                <a:srgbClr val="f5ecec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42800" y="3541680"/>
            <a:ext cx="312840" cy="3128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800000"/>
              </a:gs>
              <a:gs pos="50000">
                <a:srgbClr val="f5ecec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2800" y="4532400"/>
            <a:ext cx="312840" cy="312480"/>
          </a:xfrm>
          <a:prstGeom prst="rightArrow">
            <a:avLst>
              <a:gd name="adj1" fmla="val 50000"/>
              <a:gd name="adj2" fmla="val 25029"/>
            </a:avLst>
          </a:prstGeom>
          <a:gradFill rotWithShape="0">
            <a:gsLst>
              <a:gs pos="0">
                <a:srgbClr val="800000"/>
              </a:gs>
              <a:gs pos="50000">
                <a:srgbClr val="f5ecec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42800" y="5675400"/>
            <a:ext cx="312840" cy="312480"/>
          </a:xfrm>
          <a:prstGeom prst="rightArrow">
            <a:avLst>
              <a:gd name="adj1" fmla="val 50000"/>
              <a:gd name="adj2" fmla="val 25029"/>
            </a:avLst>
          </a:prstGeom>
          <a:gradFill rotWithShape="0">
            <a:gsLst>
              <a:gs pos="0">
                <a:srgbClr val="800000"/>
              </a:gs>
              <a:gs pos="50000">
                <a:srgbClr val="f5ecec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250200" y="1557360"/>
            <a:ext cx="144360" cy="43927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efefe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430280" y="228600"/>
            <a:ext cx="6381720" cy="561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solidFill>
                    <a:srgbClr val="000000"/>
                  </a:solidFill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Verdana"/>
              </a:rPr>
              <a:t>Назначение документации</a:t>
            </a:r>
            <a:endParaRPr b="1" lang="en-US" sz="1800" spc="1" strike="noStrike">
              <a:ln w="0">
                <a:solidFill>
                  <a:srgbClr val="000000"/>
                </a:solidFill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Verdana"/>
              <a:ea typeface="Verdana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187280" y="1341360"/>
            <a:ext cx="769320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a8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аименование доку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87280" y="2039760"/>
            <a:ext cx="769320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a8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Дата составления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187280" y="2708280"/>
            <a:ext cx="7693200" cy="685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a8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одержание хозяйственной операции и ее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сн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87280" y="3645000"/>
            <a:ext cx="7693200" cy="3808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a8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атуральные и денежные измерители оп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187280" y="4343400"/>
            <a:ext cx="7693200" cy="609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a8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аименование организации, от имени котор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оставлен доку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87280" y="5176800"/>
            <a:ext cx="7693200" cy="7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a8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аименование лиц, ответственных за совер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перации и правильное ее отражение в уч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87280" y="6172200"/>
            <a:ext cx="7693200" cy="3808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a8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Подписи ответственных л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81040" y="1454040"/>
            <a:ext cx="245880" cy="2462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54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81040" y="2057400"/>
            <a:ext cx="245880" cy="2462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54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1040" y="4343400"/>
            <a:ext cx="245880" cy="2462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54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81040" y="5181480"/>
            <a:ext cx="245880" cy="2462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54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81040" y="6095880"/>
            <a:ext cx="245880" cy="2462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54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85720" y="2743200"/>
            <a:ext cx="246240" cy="2462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54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81040" y="3657600"/>
            <a:ext cx="245880" cy="2462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54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178560" y="1557360"/>
            <a:ext cx="166680" cy="4772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4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430280" y="228600"/>
            <a:ext cx="6381720" cy="561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solidFill>
                    <a:srgbClr val="000000"/>
                  </a:solidFill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Verdana"/>
              </a:rPr>
              <a:t>Обязательные реквизиты документа</a:t>
            </a:r>
            <a:endParaRPr b="1" lang="en-US" sz="1800" spc="1" strike="noStrike">
              <a:ln w="0">
                <a:solidFill>
                  <a:srgbClr val="000000"/>
                </a:solidFill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Verdana"/>
              <a:ea typeface="Verdana"/>
            </a:endParaRPr>
          </a:p>
        </p:txBody>
      </p:sp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58920" y="5013360"/>
            <a:ext cx="2590560" cy="1143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аксировк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330720" y="5013360"/>
            <a:ext cx="2590560" cy="11430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руппировк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302520" y="5013360"/>
            <a:ext cx="2590560" cy="11430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ировк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6" action="ppaction://hlinksldjump"/>
          </p:cNvPr>
          <p:cNvSpPr/>
          <p:nvPr/>
        </p:nvSpPr>
        <p:spPr>
          <a:xfrm>
            <a:off x="250920" y="1873080"/>
            <a:ext cx="2735280" cy="17701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По существ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зако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оп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rId8" action="ppaction://hlinksldjump"/>
          </p:cNvPr>
          <p:cNvSpPr/>
          <p:nvPr/>
        </p:nvSpPr>
        <p:spPr>
          <a:xfrm>
            <a:off x="3138480" y="1862280"/>
            <a:ext cx="2873520" cy="175572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По форм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личие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ер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еквизи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10" action="ppaction://hlinksldjump"/>
          </p:cNvPr>
          <p:cNvSpPr/>
          <p:nvPr/>
        </p:nvSpPr>
        <p:spPr>
          <a:xfrm>
            <a:off x="6110280" y="1941480"/>
            <a:ext cx="2590920" cy="167652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Арифм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1619280" y="4411800"/>
            <a:ext cx="6019920" cy="457200"/>
            <a:chOff x="1619280" y="4411800"/>
            <a:chExt cx="6019920" cy="457200"/>
          </a:xfrm>
        </p:grpSpPr>
        <p:sp>
          <p:nvSpPr>
            <p:cNvPr id="301" name=""/>
            <p:cNvSpPr/>
            <p:nvPr/>
          </p:nvSpPr>
          <p:spPr>
            <a:xfrm>
              <a:off x="1619280" y="4411800"/>
              <a:ext cx="6019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619280" y="4411800"/>
              <a:ext cx="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67400" y="441180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39200" y="4411800"/>
              <a:ext cx="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1476360" y="1413000"/>
            <a:ext cx="6019560" cy="358560"/>
            <a:chOff x="1476360" y="1413000"/>
            <a:chExt cx="6019560" cy="358560"/>
          </a:xfrm>
        </p:grpSpPr>
        <p:sp>
          <p:nvSpPr>
            <p:cNvPr id="306" name=""/>
            <p:cNvSpPr/>
            <p:nvPr/>
          </p:nvSpPr>
          <p:spPr>
            <a:xfrm>
              <a:off x="1476360" y="1413000"/>
              <a:ext cx="6019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479240" y="1413000"/>
              <a:ext cx="0" cy="239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524120" y="1413000"/>
              <a:ext cx="0" cy="358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95920" y="1413000"/>
              <a:ext cx="0" cy="239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"/>
          <p:cNvSpPr txBox="1"/>
          <p:nvPr/>
        </p:nvSpPr>
        <p:spPr>
          <a:xfrm>
            <a:off x="880920" y="192240"/>
            <a:ext cx="7363080" cy="428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solidFill>
                    <a:srgbClr val="000000"/>
                  </a:solidFill>
                </a:ln>
                <a:solidFill>
                  <a:srgbClr val="015f0a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Verdana"/>
              </a:rPr>
              <a:t>Этапы документооборота в бухгалтерии</a:t>
            </a:r>
            <a:endParaRPr b="1" lang="en-US" sz="2800" spc="1" strike="noStrike">
              <a:ln w="0">
                <a:solidFill>
                  <a:srgbClr val="000000"/>
                </a:solidFill>
              </a:ln>
              <a:solidFill>
                <a:srgbClr val="015f0a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311" name="">
            <a:hlinkClick r:id="rId12" action="ppaction://hlinksldjump"/>
          </p:cNvPr>
          <p:cNvSpPr/>
          <p:nvPr/>
        </p:nvSpPr>
        <p:spPr>
          <a:xfrm>
            <a:off x="1116000" y="765000"/>
            <a:ext cx="720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5f0a"/>
                </a:solidFill>
                <a:latin typeface="Verdana"/>
              </a:rPr>
              <a:t>1 этап:</a:t>
            </a:r>
            <a:r>
              <a:rPr b="1" lang="en-US" sz="2200" spc="-1" strike="noStrike">
                <a:solidFill>
                  <a:srgbClr val="558f7d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проверка поступивших докум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>
            <a:hlinkClick r:id="rId13" action="ppaction://hlinksldjump"/>
          </p:cNvPr>
          <p:cNvSpPr/>
          <p:nvPr/>
        </p:nvSpPr>
        <p:spPr>
          <a:xfrm>
            <a:off x="2411280" y="3841920"/>
            <a:ext cx="460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5f0a"/>
                </a:solidFill>
                <a:latin typeface="Verdana"/>
              </a:rPr>
              <a:t>2 этап:</a:t>
            </a:r>
            <a:r>
              <a:rPr b="1" lang="en-US" sz="2200" spc="-1" strike="noStrike">
                <a:solidFill>
                  <a:srgbClr val="558f7d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учетная обработ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780000" y="6453360"/>
            <a:ext cx="1728720" cy="404640"/>
          </a:xfrm>
          <a:custGeom>
            <a:avLst/>
            <a:gdLst>
              <a:gd name="textAreaLeft" fmla="*/ 25920 w 1728720"/>
              <a:gd name="textAreaRight" fmla="*/ 1702800 w 1728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92218" h="21600">
                <a:moveTo>
                  <a:pt x="0" y="0"/>
                </a:moveTo>
                <a:lnTo>
                  <a:pt x="92218" y="0"/>
                </a:lnTo>
                <a:lnTo>
                  <a:pt x="92218" y="21600"/>
                </a:lnTo>
                <a:lnTo>
                  <a:pt x="0" y="21600"/>
                </a:lnTo>
                <a:close/>
              </a:path>
              <a:path fill="lightenLess" w="92218" h="21600">
                <a:moveTo>
                  <a:pt x="0" y="0"/>
                </a:moveTo>
                <a:lnTo>
                  <a:pt x="92218" y="0"/>
                </a:lnTo>
                <a:lnTo>
                  <a:pt x="90818" y="1400"/>
                </a:lnTo>
                <a:lnTo>
                  <a:pt x="1400" y="1400"/>
                </a:lnTo>
                <a:close/>
              </a:path>
              <a:path fill="darken" w="92218" h="21600">
                <a:moveTo>
                  <a:pt x="92218" y="0"/>
                </a:moveTo>
                <a:lnTo>
                  <a:pt x="92218" y="21600"/>
                </a:lnTo>
                <a:lnTo>
                  <a:pt x="90818" y="20200"/>
                </a:lnTo>
                <a:lnTo>
                  <a:pt x="90818" y="1400"/>
                </a:lnTo>
                <a:close/>
              </a:path>
              <a:path fill="darkenLess" w="92218" h="21600">
                <a:moveTo>
                  <a:pt x="922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818" y="20200"/>
                </a:lnTo>
                <a:close/>
              </a:path>
              <a:path fill="lighten" w="922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50000">
                <a:srgbClr val="f0dbdb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Выход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Times New Roman"/>
                <a:ea typeface="Times New Roman"/>
              </a:rPr>
              <a:t>Бумеранг </a:t>
            </a:r>
            <a:br>
              <a:rPr sz="4000"/>
            </a:br>
            <a:r>
              <a:rPr b="0" i="1" lang="en-US" sz="2800" spc="-1" strike="noStrike">
                <a:solidFill>
                  <a:srgbClr val="30605a"/>
                </a:solidFill>
                <a:latin typeface="Times New Roman"/>
                <a:ea typeface="Times New Roman"/>
              </a:rPr>
              <a:t>(найти слова спрятанные в сетке)</a:t>
            </a: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263520" y="1598760"/>
          <a:ext cx="7386120" cy="4496760"/>
        </p:xfrm>
        <a:graphic>
          <a:graphicData uri="http://schemas.openxmlformats.org/drawingml/2006/table">
            <a:tbl>
              <a:tblPr/>
              <a:tblGrid>
                <a:gridCol w="738360"/>
                <a:gridCol w="738720"/>
                <a:gridCol w="738360"/>
                <a:gridCol w="739080"/>
                <a:gridCol w="738360"/>
                <a:gridCol w="738720"/>
                <a:gridCol w="738360"/>
                <a:gridCol w="738720"/>
                <a:gridCol w="738720"/>
                <a:gridCol w="738720"/>
              </a:tblGrid>
              <a:tr h="44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7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лан занятия: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щность и значение бухгалтерских докумен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ификация бухгалтерских докумен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ебования, предъявляемые к содержанию и оформлению бухгалтерских докумен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нятие документооборо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Ключ: 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ч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м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пис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ера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квиз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вич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ов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од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кументооборо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Times New Roman"/>
                <a:ea typeface="Times New Roman"/>
              </a:rPr>
              <a:t>Критерии оценки «Бумеранга»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ценка «отлично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ставляется обучающемуся, если: Нет ни одной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ценка «хорошо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ляется обучающемуся, если: Имеется одна ошиб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ценка «удовлетворительно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ставляется обучающемуся, если: Имеется две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ценка «неудовлетворительно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ставляется обучающемуся, если: Имеется более трех оши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116000" y="1413000"/>
            <a:ext cx="5904000" cy="26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ольшое спасибо 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5076720" y="4292640"/>
            <a:ext cx="1773360" cy="1824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77644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0000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540000"/>
                </a:solidFill>
                <a:uFillTx/>
                <a:latin typeface="Arial"/>
              </a:rPr>
              <a:t>Документац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это способ сплошного и непрерывного отражения хозяйственных операций с целью получения о них данных, требующихся для ведения текущего бухгалтерского учета и контроля за н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540000"/>
                </a:solidFill>
                <a:uFillTx/>
                <a:latin typeface="Arial"/>
              </a:rPr>
              <a:t>Документ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письменное доказательство, подтверждающее факт совершения хозяйственной операции, а также права на её соверш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540000"/>
                </a:solidFill>
                <a:uFillTx/>
                <a:latin typeface="Arial"/>
              </a:rPr>
              <a:t>Докумен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это средство, при помощи которого осуществляется  финансово – хозяйственная деятель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63520" y="476280"/>
            <a:ext cx="738648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540000"/>
                </a:solidFill>
                <a:latin typeface="Arial"/>
              </a:rPr>
              <a:t>Согласн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Положению по ведению бухгалтерского учёта и бухгалтерской отчётности в РФ», утверждённому Приказом Министерства Финансов РФ от 29.07.98 г. (34 Н),  на основании ФЗ «О бухгалтерском учёте» от 21.11.96 г. (129 ФЗ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« Все хозяйственные операции оформляются оправдательными документами. Эти документы служат первичными учётными документами, на основании которых ведётся бухгалтерский  учёт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63520" y="620280"/>
            <a:ext cx="7386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40000"/>
                </a:solidFill>
                <a:latin typeface="Arial"/>
              </a:rPr>
              <a:t>   </a:t>
            </a:r>
            <a:r>
              <a:rPr b="1" lang="en-US" sz="3200" spc="-1" strike="noStrike" u="sng">
                <a:solidFill>
                  <a:srgbClr val="540000"/>
                </a:solidFill>
                <a:uFillTx/>
                <a:latin typeface="Arial"/>
              </a:rPr>
              <a:t>Внешние</a:t>
            </a:r>
            <a:r>
              <a:rPr b="1" i="1" lang="en-US" sz="3200" spc="-1" strike="noStrike">
                <a:solidFill>
                  <a:srgbClr val="54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поступают на предприятия со стороны конкретного выше стоящих организаций (банках, налоговой инспекции, поставщиков, покупателей и др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40000"/>
                </a:solidFill>
                <a:latin typeface="Arial"/>
              </a:rPr>
              <a:t>   </a:t>
            </a:r>
            <a:r>
              <a:rPr b="1" lang="en-US" sz="3200" spc="-1" strike="noStrike" u="sng">
                <a:solidFill>
                  <a:srgbClr val="540000"/>
                </a:solidFill>
                <a:uFillTx/>
                <a:latin typeface="Arial"/>
              </a:rPr>
              <a:t>Внутренние</a:t>
            </a:r>
            <a:r>
              <a:rPr b="1" i="1" lang="en-US" sz="3200" spc="-1" strike="noStrike">
                <a:solidFill>
                  <a:srgbClr val="54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не посредственно на предприят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9280" y="2971800"/>
            <a:ext cx="2590920" cy="3581280"/>
          </a:xfrm>
          <a:custGeom>
            <a:avLst/>
            <a:gdLst>
              <a:gd name="textAreaLeft" fmla="*/ 126360 w 2590920"/>
              <a:gd name="textAreaRight" fmla="*/ 2464560 w 2590920"/>
              <a:gd name="textAreaTop" fmla="*/ 126360 h 3581280"/>
              <a:gd name="textAreaBottom" fmla="*/ 3454920 h 3581280"/>
            </a:gdLst>
            <a:ahLst/>
            <a:rect l="textAreaLeft" t="textAreaTop" r="textAreaRight" b="textAreaBottom"/>
            <a:pathLst>
              <a:path w="21600" h="29855">
                <a:moveTo>
                  <a:pt x="3600" y="0"/>
                </a:moveTo>
                <a:arcTo wR="3600" hR="3600" stAng="16200000" swAng="-5400000"/>
                <a:lnTo>
                  <a:pt x="0" y="26255"/>
                </a:lnTo>
                <a:arcTo wR="3600" hR="3600" stAng="10800000" swAng="-5400000"/>
                <a:lnTo>
                  <a:pt x="18000" y="298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труктур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азнач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87640" y="2971800"/>
            <a:ext cx="3313080" cy="3581280"/>
          </a:xfrm>
          <a:custGeom>
            <a:avLst/>
            <a:gdLst>
              <a:gd name="textAreaLeft" fmla="*/ 161640 w 3313080"/>
              <a:gd name="textAreaRight" fmla="*/ 3151440 w 3313080"/>
              <a:gd name="textAreaTop" fmla="*/ 161640 h 3581280"/>
              <a:gd name="textAreaBottom" fmla="*/ 3419640 h 3581280"/>
            </a:gdLst>
            <a:ahLst/>
            <a:rect l="textAreaLeft" t="textAreaTop" r="textAreaRight" b="textAreaBottom"/>
            <a:pathLst>
              <a:path w="21600" h="23348">
                <a:moveTo>
                  <a:pt x="3600" y="0"/>
                </a:moveTo>
                <a:arcTo wR="3600" hR="3600" stAng="16200000" swAng="-5400000"/>
                <a:lnTo>
                  <a:pt x="0" y="19748"/>
                </a:lnTo>
                <a:arcTo wR="3600" hR="3600" stAng="10800000" swAng="-5400000"/>
                <a:lnTo>
                  <a:pt x="18000" y="233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пособ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тражения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хозяйств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пер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88000" y="2997360"/>
            <a:ext cx="2298960" cy="3581280"/>
          </a:xfrm>
          <a:custGeom>
            <a:avLst/>
            <a:gdLst>
              <a:gd name="textAreaLeft" fmla="*/ 111960 w 2298960"/>
              <a:gd name="textAreaRight" fmla="*/ 2187000 w 2298960"/>
              <a:gd name="textAreaTop" fmla="*/ 111960 h 3581280"/>
              <a:gd name="textAreaBottom" fmla="*/ 3469320 h 3581280"/>
            </a:gdLst>
            <a:ahLst/>
            <a:rect l="textAreaLeft" t="textAreaTop" r="textAreaRight" b="textAreaBottom"/>
            <a:pathLst>
              <a:path w="21600" h="33646">
                <a:moveTo>
                  <a:pt x="3600" y="0"/>
                </a:moveTo>
                <a:arcTo wR="3600" hR="3600" stAng="16200000" swAng="-5400000"/>
                <a:lnTo>
                  <a:pt x="0" y="30046"/>
                </a:lnTo>
                <a:arcTo wR="3600" hR="3600" stAng="10800000" swAng="-5400000"/>
                <a:lnTo>
                  <a:pt x="18000" y="336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пособ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хва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пер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86000" y="1341360"/>
            <a:ext cx="479160" cy="1008000"/>
          </a:xfrm>
          <a:prstGeom prst="downArrow">
            <a:avLst>
              <a:gd name="adj1" fmla="val 46472"/>
              <a:gd name="adj2" fmla="val 83670"/>
            </a:avLst>
          </a:prstGeom>
          <a:gradFill rotWithShape="0">
            <a:gsLst>
              <a:gs pos="0">
                <a:srgbClr val="eee7e7"/>
              </a:gs>
              <a:gs pos="100000">
                <a:srgbClr val="54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357800" y="1341360"/>
            <a:ext cx="479160" cy="1008000"/>
          </a:xfrm>
          <a:prstGeom prst="downArrow">
            <a:avLst>
              <a:gd name="adj1" fmla="val 46472"/>
              <a:gd name="adj2" fmla="val 83670"/>
            </a:avLst>
          </a:prstGeom>
          <a:gradFill rotWithShape="0">
            <a:gsLst>
              <a:gs pos="0">
                <a:srgbClr val="eee7e7"/>
              </a:gs>
              <a:gs pos="100000">
                <a:srgbClr val="54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405560" y="1341360"/>
            <a:ext cx="479520" cy="1008000"/>
          </a:xfrm>
          <a:prstGeom prst="downArrow">
            <a:avLst>
              <a:gd name="adj1" fmla="val 46472"/>
              <a:gd name="adj2" fmla="val 83607"/>
            </a:avLst>
          </a:prstGeom>
          <a:gradFill rotWithShape="0">
            <a:gsLst>
              <a:gs pos="0">
                <a:srgbClr val="eee7e7"/>
              </a:gs>
              <a:gs pos="100000">
                <a:srgbClr val="54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50920" y="189000"/>
            <a:ext cx="8597880" cy="619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solidFill>
                    <a:srgbClr val="000000"/>
                  </a:solidFill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Verdana"/>
              </a:rPr>
              <a:t>Признаки классификации документов</a:t>
            </a:r>
            <a:endParaRPr b="1" lang="en-US" sz="4000" spc="1" strike="noStrike">
              <a:ln w="0">
                <a:solidFill>
                  <a:srgbClr val="000000"/>
                </a:solidFill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Verdana"/>
              <a:ea typeface="Verdana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8360" y="1700280"/>
            <a:ext cx="8159760" cy="7002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Verdana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1. Распорядительные докумен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2924280"/>
            <a:ext cx="8159760" cy="6969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. Исполнительные докумен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4100400"/>
            <a:ext cx="8159760" cy="6969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3. Комбинированные докумен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360" y="5229360"/>
            <a:ext cx="8159760" cy="985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Документы бухгалтерского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оформл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476360" y="442800"/>
            <a:ext cx="61912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Verdana"/>
              </a:rPr>
              <a:t>Классификация документов по</a:t>
            </a:r>
            <a:endParaRPr b="1" lang="en-US" sz="2000" spc="1" strike="noStrike">
              <a:ln w="648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Verdana"/>
              </a:rPr>
              <a:t>структуре и назначению</a:t>
            </a:r>
            <a:endParaRPr b="1" lang="en-US" sz="2000" spc="1" strike="noStrike">
              <a:ln w="648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Verdana"/>
              <a:ea typeface="Verdana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052640"/>
            <a:ext cx="9144000" cy="5410080"/>
          </a:xfrm>
          <a:prstGeom prst="verticalScroll">
            <a:avLst>
              <a:gd name="adj" fmla="val 7074"/>
            </a:avLst>
          </a:prstGeom>
          <a:gradFill rotWithShape="0">
            <a:gsLst>
              <a:gs pos="0">
                <a:srgbClr val="ffcccc"/>
              </a:gs>
              <a:gs pos="50000">
                <a:srgbClr val="ffffff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Содержат распоряжение, право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совершение опер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Их </a:t>
            </a:r>
            <a:r>
              <a:rPr b="1" lang="en-US" sz="3200" spc="-1" strike="noStrike">
                <a:solidFill>
                  <a:srgbClr val="540000"/>
                </a:solidFill>
                <a:latin typeface="Verdana"/>
              </a:rPr>
              <a:t>особеннос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они не могут слу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основанием для отраж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хозяйственной операции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бухгалтерском уче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поскольку не подтверждают фа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совершения хозяйственной опе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0000"/>
                </a:solidFill>
                <a:latin typeface="Verdana"/>
              </a:rPr>
              <a:t>(доверенность, наря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258920" y="345960"/>
            <a:ext cx="6458040" cy="495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solidFill>
                    <a:srgbClr val="000000"/>
                  </a:solidFill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Verdana"/>
              </a:rPr>
              <a:t>Распорядительные документы</a:t>
            </a:r>
            <a:endParaRPr b="1" lang="en-US" sz="3200" spc="1" strike="noStrike">
              <a:ln w="0">
                <a:solidFill>
                  <a:srgbClr val="000000"/>
                </a:solidFill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Verdana"/>
              <a:ea typeface="Verdana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280" y="1052640"/>
            <a:ext cx="8964720" cy="5360760"/>
          </a:xfrm>
          <a:prstGeom prst="verticalScroll">
            <a:avLst>
              <a:gd name="adj" fmla="val 7074"/>
            </a:avLst>
          </a:prstGeom>
          <a:gradFill rotWithShape="0">
            <a:gsLst>
              <a:gs pos="0">
                <a:srgbClr val="ffcccc"/>
              </a:gs>
              <a:gs pos="50000">
                <a:srgbClr val="ffffff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13500000" blurRad="0" rotWithShape="0">
              <a:srgbClr val="1533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540000"/>
                </a:solidFill>
                <a:latin typeface="Verdana"/>
              </a:rPr>
              <a:t>(Или оправдательные)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Оформляют факты соверш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хозяйственных опера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и служат основанием д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отражения этих операц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 бухгалтерском учете</a:t>
            </a:r>
            <a:br>
              <a:rPr sz="3600"/>
            </a:br>
            <a:r>
              <a:rPr b="0" lang="en-US" sz="3600" spc="-1" strike="noStrike">
                <a:solidFill>
                  <a:srgbClr val="540000"/>
                </a:solidFill>
                <a:latin typeface="Verdana"/>
              </a:rPr>
              <a:t>(накладная, акт приемки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353960" y="260280"/>
            <a:ext cx="6458040" cy="495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solidFill>
                    <a:srgbClr val="000000"/>
                  </a:solidFill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Verdana"/>
              </a:rPr>
              <a:t>Исполнительные документы</a:t>
            </a:r>
            <a:endParaRPr b="1" lang="en-US" sz="3200" spc="1" strike="noStrike">
              <a:ln w="0">
                <a:solidFill>
                  <a:srgbClr val="000000"/>
                </a:solidFill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Verdana"/>
              <a:ea typeface="Verdana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4:09:00Z</dcterms:created>
  <dc:creator>Воеводенко</dc:creator>
  <dc:description/>
  <dc:language>en-US</dc:language>
  <cp:lastModifiedBy>М.Видео</cp:lastModifiedBy>
  <dcterms:modified xsi:type="dcterms:W3CDTF">2013-09-04T17:04:05Z</dcterms:modified>
  <cp:revision>27</cp:revision>
  <dc:subject/>
  <dc:title>Слайд 1</dc:title>
</cp:coreProperties>
</file>