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5D5-1030-488D-AB26-7F7EA195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772-E8F9-4D32-BD51-C4D52870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306-E923-4FBF-88DC-2875EF0B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335-E2B5-433B-975F-8D03C82B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9B7D-86CA-41AB-B041-AE23EBD1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EF94-9751-40EB-8CB2-6BB64325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C996-82E4-416B-8148-D9CE371D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781B-70CC-4BF6-94FE-7A75672F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69B3-7B77-4CAA-914B-D8544A72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76DF-4552-4B8A-8D09-7D1397E1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CFAA-78CB-4D02-99B3-9F99BE2B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904-890C-4A62-940B-20B1F15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D979-F04F-47BC-8113-563AF088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BBA0-78B1-4666-AD13-9CBC215D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229D-BA9B-467A-8C21-287C0741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C388-2217-40FD-BE41-C4128D59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D17D-E637-4FD3-B422-FEB22DCF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05B7B-B9DF-4E6C-8808-593635CF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7F513-6A6A-492D-8673-527E7C13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FFB36-CC10-45BF-AC4A-6A5A1AAA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908B1-5D79-42CD-B615-42EBAC1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58C10-93A8-4199-8BFB-103D6C86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275-A9F9-4CB5-B060-F96A9C49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07282-9F6E-4D0B-BEC8-571EA4E8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C8F0F-8C13-417F-9952-9E51D72A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DAFD8-C431-48CF-AFBE-EE0EE6F8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29A45-28B2-4DB7-892B-0A2388E9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2BF7B-12D6-43F4-B6F7-622D8C84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377A6-1C38-42C6-81AF-CE4CBB76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3D764-A784-438E-B82B-3CA3886D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3863-1846-445A-8AFC-DB952178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C79AC-9918-4F71-803B-40E22236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28BC-7294-4566-980A-1DAF92B7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A57-CD01-4247-A56F-B3285E38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0E90E-14C9-49E3-9926-3C0260B5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D3DA-A598-4D98-B804-4B78AAA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DA5E-ACF6-4557-892F-995A4E49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B192-79C4-4BE4-A778-C802B13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D966-38FF-480B-A302-FAEB3C62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1EC1-C4F3-40C8-9E86-5B1B272C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7C80-4495-41DA-8356-5AC59BF6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27B5-08C0-40B7-9AA4-55BF9202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BFE0F-F8D1-411C-A05C-DA6D6989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9112E-51DD-4A78-91EC-1E8D540A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EEC-7F4B-43BF-AE8F-E14F057B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D31EB-0BEA-49E3-AD96-55814AD7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6189F-6574-4D7B-A762-C42316A9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27F5A-E6FF-4D3C-A7B4-313F0E5C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89552-2F21-4E03-9E17-907BFDBD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2B824-2CFE-483C-AF44-D82B8131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93C1D-240D-4A67-B503-E086692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5C878-71B1-4C50-914A-95AB097E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344CB-4F9D-4C3E-A7DA-3963614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7E0BC-7F87-4F4E-8B93-574A0653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84200-F7E6-412F-932E-46350299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CE3-5F65-4FCE-97F0-339E6D11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6C78C-EEAF-458C-B712-4A04977F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911C8-71CF-4E41-ACA5-A1E9ABAF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C1F75-E925-4805-A6F3-1FE4CF58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9A98B-A3D1-4F06-81D9-84F7D2C4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AD48E-6841-4511-818C-AA196E3F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BE981-F32B-4120-BE5D-3BB759E6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0B4C6-6D2E-47B5-A34E-2FDC607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D6BF3-89D7-4E50-A0CD-E24D2F63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C0F34-FFCA-40DC-B311-BE4A618A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75E23-684D-4F00-9C74-640F374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46D-D7DF-4DC8-8E6D-78CB71E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A452F-2E43-4032-9C98-0E73CA76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2CFB5-7BAC-4D45-8144-AFF2D11D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E0C1C-A413-476D-B777-ADA87EC3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11CFB-472D-4713-B8C6-AEFBA83D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732461-3EF7-4AC3-BE38-BCC15177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AC2D8-77AD-41D4-9C60-D3F31FAF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CFDF2-38E2-4F2E-889A-2F05A1F8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410AA-8C0E-405D-868E-4DDEF90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66545-16F3-47D6-BE6B-AE6DAAB6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F0C4A-0E40-4123-9840-F1515D5A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3B5-E1AA-42C6-87D9-3482111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4C5E4-A0B8-4DC3-ABA7-00EC8920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07A6E-F893-4CCA-8291-6E4FC1E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CA6F1-A007-4C29-B365-7F954BFE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0EDF9-F496-45C2-8990-84E64DF3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81874-1F3F-4CD7-817F-576604E8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C50-2740-4E1C-90FE-AD8259A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5A0D-E82C-4B31-9262-81A431C0B08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5355-1EAE-443B-BBCE-3A84181344C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170B-28F1-466C-97B8-B15F7D96515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1D3-8B5F-4EA1-B33E-8AD765EA019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3E54-0247-4271-BF7A-501E9AF3315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76AD-3D07-4D9F-9436-9232D21EE0B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CA94-25B4-481E-96A7-5E92F36CF6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4"/>
          <p:cNvSpPr txBox="1"/>
          <p:nvPr/>
        </p:nvSpPr>
        <p:spPr>
          <a:xfrm>
            <a:off x="684360" y="1125360"/>
            <a:ext cx="78483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>
                    <a:alpha val="49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ентаризация.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>
                  <a:alpha val="49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>
                    <a:alpha val="49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>
                    <a:alpha val="49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ё сущьность, значение, виды.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>
                  <a:alpha val="49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>
                  <a:alpha val="49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708360" y="0"/>
            <a:ext cx="50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Тема 1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867280" y="3903840"/>
            <a:ext cx="2733840" cy="2593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ерка реальной стоимости учтенных на балансе товарно-материальных ценностей, сумм денежных средств в кассе, на расчетных, валютных и других счетах, денежных средств в пути, незавершенного производства, расходов будущих периодов, резервов предстоящих расходов, дебиторской задолженности, кредиторской задолженност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опоставление фактического наличия имущества с данными бухгалтерского учет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24000" y="333360"/>
            <a:ext cx="84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ми задачи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ентаризации являются: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692360" y="260280"/>
            <a:ext cx="534996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Виды инвентар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68360" y="1989000"/>
            <a:ext cx="8351280" cy="3566160"/>
            <a:chOff x="468360" y="1989000"/>
            <a:chExt cx="8351280" cy="3566160"/>
          </a:xfrm>
        </p:grpSpPr>
        <p:cxnSp>
          <p:nvCxnSpPr>
            <p:cNvPr id="374" name="_s45072"/>
            <p:cNvCxnSpPr>
              <a:stCxn id="375" idx="0"/>
              <a:endCxn id="376" idx="2"/>
            </p:cNvCxnSpPr>
            <p:nvPr/>
          </p:nvCxnSpPr>
          <p:spPr>
            <a:xfrm flipV="1" rot="16200000">
              <a:off x="5911200" y="2146320"/>
              <a:ext cx="713880" cy="3250440"/>
            </a:xfrm>
            <a:prstGeom prst="bentConnector3">
              <a:avLst>
                <a:gd name="adj1" fmla="val 17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7" name="_s45069"/>
            <p:cNvCxnSpPr>
              <a:stCxn id="378" idx="0"/>
              <a:endCxn id="376" idx="2"/>
            </p:cNvCxnSpPr>
            <p:nvPr/>
          </p:nvCxnSpPr>
          <p:spPr>
            <a:xfrm flipV="1" rot="16200000">
              <a:off x="4827600" y="3229920"/>
              <a:ext cx="713880" cy="1083240"/>
            </a:xfrm>
            <a:prstGeom prst="bentConnector3">
              <a:avLst>
                <a:gd name="adj1" fmla="val 17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45068"/>
            <p:cNvCxnSpPr>
              <a:stCxn id="380" idx="0"/>
              <a:endCxn id="376" idx="2"/>
            </p:cNvCxnSpPr>
            <p:nvPr/>
          </p:nvCxnSpPr>
          <p:spPr>
            <a:xfrm flipH="1" flipV="1" rot="5400000">
              <a:off x="3746520" y="3231000"/>
              <a:ext cx="713880" cy="1081080"/>
            </a:xfrm>
            <a:prstGeom prst="bentConnector3">
              <a:avLst>
                <a:gd name="adj1" fmla="val 17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45067"/>
            <p:cNvCxnSpPr>
              <a:stCxn id="382" idx="0"/>
              <a:endCxn id="376" idx="2"/>
            </p:cNvCxnSpPr>
            <p:nvPr/>
          </p:nvCxnSpPr>
          <p:spPr>
            <a:xfrm flipH="1" flipV="1" rot="5400000">
              <a:off x="2662920" y="2147400"/>
              <a:ext cx="713880" cy="3248280"/>
            </a:xfrm>
            <a:prstGeom prst="bentConnector3">
              <a:avLst>
                <a:gd name="adj1" fmla="val 17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6" name="_s45063"/>
            <p:cNvSpPr/>
            <p:nvPr/>
          </p:nvSpPr>
          <p:spPr>
            <a:xfrm>
              <a:off x="3715920" y="1989000"/>
              <a:ext cx="1855800" cy="142632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нвентар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45064"/>
            <p:cNvSpPr/>
            <p:nvPr/>
          </p:nvSpPr>
          <p:spPr>
            <a:xfrm>
              <a:off x="468360" y="4128840"/>
              <a:ext cx="1855800" cy="142632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астич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_s45065"/>
            <p:cNvSpPr/>
            <p:nvPr/>
          </p:nvSpPr>
          <p:spPr>
            <a:xfrm>
              <a:off x="2633400" y="4128840"/>
              <a:ext cx="1855800" cy="14263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ериод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45066"/>
            <p:cNvSpPr/>
            <p:nvPr/>
          </p:nvSpPr>
          <p:spPr>
            <a:xfrm>
              <a:off x="4798440" y="4128840"/>
              <a:ext cx="1855800" cy="142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_s45071"/>
            <p:cNvSpPr/>
            <p:nvPr/>
          </p:nvSpPr>
          <p:spPr>
            <a:xfrm>
              <a:off x="6963840" y="4128840"/>
              <a:ext cx="1855800" cy="1426320"/>
            </a:xfrm>
            <a:prstGeom prst="roundRect">
              <a:avLst>
                <a:gd name="adj" fmla="val 16667"/>
              </a:avLst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бороч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71640" y="-747720"/>
            <a:ext cx="72500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я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4" name="Picture 10" descr="8"/>
          <p:cNvPicPr/>
          <p:nvPr/>
        </p:nvPicPr>
        <p:blipFill>
          <a:blip r:embed="rId1"/>
          <a:stretch/>
        </p:blipFill>
        <p:spPr>
          <a:xfrm>
            <a:off x="2268360" y="2681280"/>
            <a:ext cx="336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6"/>
          <p:cNvSpPr/>
          <p:nvPr/>
        </p:nvSpPr>
        <p:spPr>
          <a:xfrm>
            <a:off x="250920" y="1413000"/>
            <a:ext cx="691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Инвентаризация. Ее сущность и зна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Основные цели и задачи инвентариз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Виды инвентариз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0" descr="8"/>
          <p:cNvPicPr/>
          <p:nvPr/>
        </p:nvPicPr>
        <p:blipFill>
          <a:blip r:embed="rId1"/>
          <a:stretch/>
        </p:blipFill>
        <p:spPr>
          <a:xfrm>
            <a:off x="5776920" y="1052640"/>
            <a:ext cx="3367080" cy="4176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547640" y="476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Обсуждаем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324000" y="2060640"/>
            <a:ext cx="82803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«</a:t>
            </a: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Инвентаризация - способ проверки соответствия фактического наличия средств данным бухгалтерского учета. Она позволяет проверить, все ли хозяйственные операции оформлены документально и отражены в бухгалтерском учете, а также внести необходимые исправления и уточнения.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7" descr="book"/>
          <p:cNvPicPr/>
          <p:nvPr/>
        </p:nvPicPr>
        <p:blipFill>
          <a:blip r:embed="rId1"/>
          <a:stretch/>
        </p:blipFill>
        <p:spPr>
          <a:xfrm>
            <a:off x="4500720" y="333360"/>
            <a:ext cx="4103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334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entury Schoolbook"/>
              </a:rPr>
              <a:t>Для проведения инвентаризации в организации создается:</a:t>
            </a:r>
            <a:br>
              <a:rPr sz="2800"/>
            </a:br>
            <a:r>
              <a:rPr b="1" lang="en-US" sz="2800" spc="-1" strike="noStrike">
                <a:solidFill>
                  <a:srgbClr val="9900cc"/>
                </a:solidFill>
                <a:latin typeface="Century Schoolbook"/>
              </a:rPr>
              <a:t>- комиссия, которая берет расписку у материально-ответственного лица о том, что все поступившие ценности учтены, а выбывшие - списаны, и соответствующие первичные документы переданы бухгалтеру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4"/>
          <p:cNvSpPr txBox="1"/>
          <p:nvPr/>
        </p:nvSpPr>
        <p:spPr>
          <a:xfrm>
            <a:off x="468360" y="260280"/>
            <a:ext cx="8280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00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ые цели: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solidFill>
                <a:srgbClr val="9900cc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611280" y="1628640"/>
            <a:ext cx="806436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явление фактического наличия иму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достоверности показателей бухгалтерского уч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оставление фактического наличия имущества с данными бухгалтерского уч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 полноты отражения в учете обязательст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826920" y="1268280"/>
            <a:ext cx="73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даче имущества организации в аренду, выкупе, продаже, а также в случаях, предусмотренных законодательством при преобразовании государственного или муниципального унитарного предприят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составлением годовой бухгалтерской отчетности (кроме имущества, инвентаризация которого проводилась не ранее 1 октября отчетного года). Инвентаризация основных средств может проводиться один раз в три года, а библиотечных фондов - один раз в пять л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мене материально ответственных лиц (на день приемки-передачи де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50920" y="404640"/>
            <a:ext cx="8286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дение инвентаризации обязательно: </a:t>
            </a:r>
            <a:endParaRPr b="0" i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826920" y="1268280"/>
            <a:ext cx="73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тановлении фактов хищений или злоупотреблений, а также порчи ценнос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тихийных бедствий, пожара, аварий или других чрезвычайных ситуаций, вызванных экстремальными условия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ликвидации (реорганизации) организации перед составлением ликвидационного (разделительного) баланса и в других случаях, предусматриваемых законодательством Российской Фед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50920" y="404640"/>
            <a:ext cx="8286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дение инвентаризации обязательно: </a:t>
            </a:r>
            <a:endParaRPr b="0" i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ыявление фактического наличия основных средств, товарно-материальных ценностей и денежных средств, ценных бумаг, а также объемов незавершенного производств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ыявление товарно-материальных ценностей, частично потерявших свое первоначальное качество, не отвечающих стандартам качества, техническим условиям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4000" y="333360"/>
            <a:ext cx="84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ми задачи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ентаризации являются: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ыявление сверхнормативных и неиспользуемых материальных ценностей с целью последующей реализаци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ерка соблюдения правил и условий хранения материальных ценностей и денежных средств, а также правил содержания и эксплуатации машин, оборудования и других основных средств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4000" y="333360"/>
            <a:ext cx="84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ми задачи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ентаризации являются: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9:21:22Z</dcterms:created>
  <dc:creator>www.PHILka.RU</dc:creator>
  <dc:description/>
  <dc:language>en-US</dc:language>
  <cp:lastModifiedBy>М.Видео</cp:lastModifiedBy>
  <dcterms:modified xsi:type="dcterms:W3CDTF">2013-09-03T11:55:10Z</dcterms:modified>
  <cp:revision>21</cp:revision>
  <dc:subject/>
  <dc:title>Слайд 1</dc:title>
</cp:coreProperties>
</file>