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9.png" ContentType="image/png"/>
  <Override PartName="/ppt/media/image6.jpeg" ContentType="image/jpeg"/>
  <Override PartName="/ppt/media/image10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B70-1F64-4B6F-BD39-252101AF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82D-11F3-4098-B5BE-750D114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B35-E939-4DA7-8DF9-695DAB0F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2D2-AA2D-430D-B829-47BFB60E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772-BD57-4A49-9411-2F34444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27B-BD83-468D-ADCC-B3E74BA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D2A-E858-4B92-BB61-99AD643A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3BB-4198-4BF2-8C1A-11A496E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9AF-E9AD-4618-B3DA-794C358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17A-4845-4E4B-925E-21187A0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3FF-3273-4345-93F3-53B07BE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EF8-1160-40C2-83FA-43B9DD0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D143-4F4B-42DF-9F57-F35C4EB2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Урок-игра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«Следствие ведут знато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600200"/>
            <a:ext cx="8763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общающий урок по тем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Преобразование выражений,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щих квадратные корни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90920" y="380880"/>
            <a:ext cx="3962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85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86000" y="1828800"/>
                <a:ext cx="4843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х</m:t>
                                    </m:r>
                                  </m:e>
                                </m:rad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8218440" cy="790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380880"/>
            <a:ext cx="68007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Алгебра щедра, она част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ет больше, чем у нее просят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343400" y="50292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. Даламб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19888800">
            <a:off x="304920" y="4724280"/>
            <a:ext cx="2857320" cy="159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2057400"/>
            <a:ext cx="750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Arial"/>
              </a:rPr>
              <a:t>№ </a:t>
            </a:r>
            <a:r>
              <a:rPr b="0" lang="en-US" sz="6000" spc="-1" strike="noStrike">
                <a:solidFill>
                  <a:srgbClr val="003399"/>
                </a:solidFill>
                <a:latin typeface="Arial"/>
              </a:rPr>
              <a:t>457; №458; №45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9880" y="4038480"/>
            <a:ext cx="2266920" cy="21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бобщение и систематизация знаний, умений и навыков; усвоение опорных умений и навыков(применение свойств арифметического квадратного корня, формул сокращенного умножения, основного св-ва дроб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вивать аналитическое и логическое мыш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оспитывать умение слушать своих одноклассни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16765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ерка быстро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еак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4952880"/>
            <a:ext cx="518472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4952880"/>
            <a:ext cx="5184720" cy="129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Устный счет</a:t>
            </a:r>
            <a:br>
              <a:rPr sz="4000"/>
            </a:b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Извлечение квадратного корня из точного квад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69960" y="1941480"/>
            <a:ext cx="1692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2362320"/>
                <a:ext cx="7848360" cy="44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01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1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00760" y="3938760"/>
                <a:ext cx="153180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295280"/>
            <a:ext cx="7848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 вест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крестный вопр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934920" cy="98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480060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457200"/>
            <a:ext cx="6477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мение проводить экспертиз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77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айдите пропущенные числа, если а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15000" y="1066680"/>
                <a:ext cx="66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04920" y="3581280"/>
            <a:ext cx="838080" cy="609840"/>
          </a:xfrm>
          <a:prstGeom prst="hexagon">
            <a:avLst>
              <a:gd name="adj" fmla="val 34357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358128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324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32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66680" y="3352680"/>
                <a:ext cx="85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3623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40160" y="3408480"/>
                <a:ext cx="49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200400" y="3124080"/>
            <a:ext cx="1752480" cy="1447920"/>
          </a:xfrm>
          <a:prstGeom prst="diamond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цион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384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03848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5600" y="2742120"/>
            <a:ext cx="4546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2960" y="4647600"/>
            <a:ext cx="454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844800" y="5267160"/>
                <a:ext cx="935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648320" y="487692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20968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213372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80060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480060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25909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696080" y="46479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2819520"/>
            <a:ext cx="533520" cy="6094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4267080"/>
            <a:ext cx="533160" cy="609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81480" y="533412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477120" y="5257800"/>
                <a:ext cx="495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7924680" y="502920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ави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ирраци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334120" y="1905120"/>
                <a:ext cx="495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464160" y="1905120"/>
                <a:ext cx="774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049120" y="380880"/>
                <a:ext cx="4363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900920" y="2295360"/>
                <a:ext cx="824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581280" y="1905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ави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ирраци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68840" y="5038560"/>
                <a:ext cx="581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064280" y="4941720"/>
                <a:ext cx="631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238880" y="3962520"/>
                <a:ext cx="1017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2376720" cy="129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304920"/>
            <a:ext cx="77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Найдите пропущенные числа, если а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791320" y="304920"/>
                <a:ext cx="660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04920" y="3581280"/>
            <a:ext cx="838080" cy="609840"/>
          </a:xfrm>
          <a:prstGeom prst="hexagon">
            <a:avLst>
              <a:gd name="adj" fmla="val 34357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58128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324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22480" y="3352680"/>
                <a:ext cx="742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3623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124080"/>
            <a:ext cx="1752480" cy="1447920"/>
          </a:xfrm>
          <a:prstGeom prst="diamond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цион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384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5600" y="2742120"/>
            <a:ext cx="4546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2960" y="4647600"/>
            <a:ext cx="454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44800" y="5267160"/>
                <a:ext cx="935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648320" y="487692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20968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13372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00600"/>
            <a:ext cx="60984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220968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4800600"/>
            <a:ext cx="609480" cy="6858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5909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96080" y="46479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2819520"/>
            <a:ext cx="533520" cy="6094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4267080"/>
            <a:ext cx="533160" cy="609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77120" y="5257800"/>
                <a:ext cx="495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952880" y="5410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ави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ирраци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38480" y="1981080"/>
                <a:ext cx="495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99080" y="1905120"/>
                <a:ext cx="7034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1049120" y="380880"/>
                <a:ext cx="4363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4680" y="5029200"/>
                <a:ext cx="824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286000" y="3276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в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08400" y="1905120"/>
                <a:ext cx="9208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7848720" y="2133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ави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ирраци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733920"/>
                <a:ext cx="660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2362320"/>
                <a:ext cx="660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162920" y="235260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451640" y="3116160"/>
                <a:ext cx="703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2376360" cy="167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66680" y="30492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верка логического мыш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3048120"/>
            <a:ext cx="11192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350496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3505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362320" y="2092320"/>
                <a:ext cx="4500360" cy="45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а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а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а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 txBox="1"/>
          <p:nvPr/>
        </p:nvSpPr>
        <p:spPr>
          <a:xfrm>
            <a:off x="2309760" y="1828800"/>
            <a:ext cx="523404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6106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рны ли равенства: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629400" y="1752480"/>
            <a:ext cx="2514600" cy="3770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3505320"/>
            <a:ext cx="25909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12408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12408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81280" y="2742840"/>
            <a:ext cx="685800" cy="762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2743200"/>
            <a:ext cx="838440" cy="8380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12408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3581280"/>
            <a:ext cx="14475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27672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81080" y="457200"/>
            <a:ext cx="4953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1-25T08:15:54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