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4FD-1F93-4C40-8008-6F786246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394-CC63-4D6C-BA9B-E4AD19F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E2C-CC04-4AB2-B204-1022F88B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D20-3E07-410C-92EB-21B12DF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DD5-842F-420B-83B5-2CEACF0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3BF1-B302-4AEB-BA2F-16139F6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6F90-3A84-4450-885B-028BA1E5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7CDE-9A2A-433F-B16F-523AD3F9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0D90-4734-4EA4-8B4A-F3E24BE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DED-2C3E-406D-B779-06608A3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97CF-21A6-4CA7-BC99-C9A20C1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A8C-D11D-41D9-A77A-3BD6611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5345-AEBA-4BCA-AC57-7EE649E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118D-6AF3-40A2-93E0-DF13F27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6D0-401E-4F8F-9FE6-B5AA9E03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16D-3FD9-4BC0-BDA0-154BA2E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F80-09C6-4D49-8647-46FC49EF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1F9-6C75-4BCC-A294-C0971E10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90D-5034-46E3-8900-0102CA6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632-670D-45C0-85A4-9788E82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2C-2D51-4B22-9763-ACEC482C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548-4339-4BD8-AD7A-FEA2F6A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AA-F43E-4200-A660-FAD5D09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6C8-A09A-4765-87D8-71FED4C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01C-D5FA-479E-A3C3-29E041EFB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5F2-961D-4760-B070-0FC26EB817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1%20&#1074;&#1086;&#1081;&#1085;&#1072;/&#1052;&#1080;&#1088;&#1086;&#1074;&#1072;&#1103;%20&#1074;&#1086;&#1081;&#1085;&#1072;.ppt#16. &#1055;&#1086;&#1085;&#1103;&#1090;&#1080;&#1103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Великая война </a:t>
            </a:r>
            <a:br>
              <a:rPr sz="6600"/>
            </a:b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914 – 1918 гг.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166240" y="5810400"/>
            <a:ext cx="520560" cy="32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Первая мировая вой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863640" cy="57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рвая миров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267080"/>
            <a:ext cx="93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600200"/>
            <a:ext cx="2210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Анта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905120" y="3276720"/>
            <a:ext cx="876240" cy="50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3352680"/>
            <a:ext cx="1150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828800" y="2514600"/>
            <a:ext cx="888840" cy="584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590920"/>
            <a:ext cx="1689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Британская импе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3048120"/>
            <a:ext cx="2666880" cy="914400"/>
          </a:xfrm>
          <a:prstGeom prst="leftRightArrow">
            <a:avLst>
              <a:gd name="adj1" fmla="val 50000"/>
              <a:gd name="adj2" fmla="val 580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019920" y="2514600"/>
            <a:ext cx="876240" cy="59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62920" y="2743200"/>
            <a:ext cx="1224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Герм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914400" cy="546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10280" y="4038480"/>
            <a:ext cx="1943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Австро-Венг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11320" y="1601640"/>
            <a:ext cx="319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Тройственный сою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Flag of the Ottoman Empire.svg"/>
          <p:cNvPicPr/>
          <p:nvPr/>
        </p:nvPicPr>
        <p:blipFill>
          <a:blip r:embed="rId8"/>
          <a:stretch/>
        </p:blipFill>
        <p:spPr>
          <a:xfrm>
            <a:off x="5943600" y="3276720"/>
            <a:ext cx="685800" cy="46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705720" y="33519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манская имп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воюющих держа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040" y="1441440"/>
            <a:ext cx="733680" cy="546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22600" y="1441440"/>
            <a:ext cx="62182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окрушить Францию и Росс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5040" y="2400480"/>
            <a:ext cx="733680" cy="547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66996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7360" y="4935600"/>
            <a:ext cx="730080" cy="484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87360" y="6022800"/>
            <a:ext cx="669960" cy="459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1219320" y="1599840"/>
            <a:ext cx="14191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2600" y="1752480"/>
            <a:ext cx="6521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соединить к себе прибалтийские и польские земли Росс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752480"/>
            <a:ext cx="140004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0200" y="2332080"/>
            <a:ext cx="60343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хватить Французские колонии в Афри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1752480"/>
            <a:ext cx="133992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0200" y="2674800"/>
            <a:ext cx="5851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босноваться на Ближнем Востоке и в Тур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752480"/>
            <a:ext cx="1339920" cy="10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124080"/>
            <a:ext cx="60339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одчинить себе Балканские государ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666880"/>
            <a:ext cx="133992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0200" y="3635280"/>
            <a:ext cx="5789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Захватить проливы Босфор и Дарданел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800160"/>
            <a:ext cx="140364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0200" y="4114800"/>
            <a:ext cx="4815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твердить своё господство на Балкан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191120"/>
            <a:ext cx="1539720" cy="8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0200" y="4594320"/>
            <a:ext cx="4632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ссоединить все польские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267080"/>
            <a:ext cx="1341360" cy="497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5334120"/>
            <a:ext cx="52419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Verdana"/>
              </a:rPr>
              <a:t>Остановить германскую экспанс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67080"/>
            <a:ext cx="1341720" cy="1177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181480"/>
            <a:ext cx="1339920" cy="333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0200" y="5829480"/>
            <a:ext cx="6643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звращение Эльзиса, Лотарингии и захват Саа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96920" y="6240600"/>
            <a:ext cx="140328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0200" y="6240600"/>
            <a:ext cx="5180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здел турецких территор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60640" y="5153040"/>
            <a:ext cx="1339560" cy="1293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066680" y="5486040"/>
            <a:ext cx="134172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096920" y="5965560"/>
            <a:ext cx="140328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2" descr="Повод к началу вой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" descr="Первая мировая война 1914-1918 год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8:04:11Z</dcterms:created>
  <dc:creator>людмила</dc:creator>
  <dc:description/>
  <dc:language>en-US</dc:language>
  <cp:lastModifiedBy>людмила</cp:lastModifiedBy>
  <dcterms:modified xsi:type="dcterms:W3CDTF">2014-10-14T09:34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