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8B2-9D13-4EAD-A76C-A1E29E23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C38-7DB9-4DA8-B633-42A5A04A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60D-2CD5-4855-9319-15DAC079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ACF-CE12-4E46-9703-52714B44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AAB9-7755-4AB3-8218-0FFB792D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E7A-B613-4A3F-B1F4-39F2CCD9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373F-12FC-49D6-98A5-7A666F35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ACA3-21EE-4693-898F-0A66D42E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BB12-1C20-4397-880B-55B34475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02B-8005-471C-B23E-DD88614E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87C8-D811-4F20-B1E6-B7DC33D7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FF7-6294-4836-ADB7-8A5C0F9D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3BA0-27C9-44F0-AC6A-6C7288B2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0385-80D4-4149-AEE3-21F6272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DA9B-72C9-43BA-8042-7C90BD95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5D47-09DE-4B40-8B57-202DB50E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98B1-9089-49F6-8BDB-5126BCE0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DDC-BCCA-4902-B5E8-D9BA6788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399-806F-4515-AA51-03651CD6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B3E-AF17-4489-8034-EC7B860E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1C8-EC00-4547-8FC6-0D4C0C4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9AA-3950-49A5-B2F6-12CFC255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24F-E68D-493C-B381-D8CB145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2B8-D5AD-4C01-BDA4-3E794812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2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73A0-C36F-4956-9302-D3B86E65CC50}" type="slidenum">
              <a:rPr b="0" lang="ru-RU" sz="1200" spc="-1" strike="noStrike">
                <a:solidFill>
                  <a:srgbClr val="6462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2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DECE-D40C-4B28-A1A6-CCB10B2B02AF}" type="slidenum">
              <a:rPr b="0" lang="ru-RU" sz="1200" spc="-1" strike="noStrike">
                <a:solidFill>
                  <a:srgbClr val="6462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Формирование глагольной лексики у детей старшего дошкольного возраста с ОНР через использование дидактических игр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 </a:t>
            </a: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ыполнила : </a:t>
            </a:r>
            <a:r>
              <a:rPr b="1" i="1" lang="ru-RU" sz="2000" spc="-1" strike="noStrike">
                <a:solidFill>
                  <a:srgbClr val="69676d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инькова А.В. учитель – логопед ГБОУ  СОШ  №  14 СПДС № 18 «Радуга» </a:t>
            </a:r>
            <a:br>
              <a:rPr sz="2400"/>
            </a:br>
            <a:endParaRPr b="0" lang="en-US" sz="2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7120" y="4786200"/>
            <a:ext cx="60008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1259129478_logoped"/>
          <p:cNvPicPr/>
          <p:nvPr/>
        </p:nvPicPr>
        <p:blipFill>
          <a:blip r:embed="rId1"/>
          <a:stretch/>
        </p:blipFill>
        <p:spPr>
          <a:xfrm>
            <a:off x="6786720" y="4857840"/>
            <a:ext cx="1946160" cy="16095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286000" y="3500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этап – включает работу над следующими формами словоизменения.</a:t>
            </a:r>
            <a:br>
              <a:rPr sz="2400"/>
            </a:br>
            <a:endParaRPr b="0" lang="en-US" sz="2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 Дифференциация глаголов 1,2,3лица настоящего времени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ифференциация глаголов  в единственном числ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ифференциация глаголов во множественном числ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ифференциация глаголов 1,2,3 лица ед. и мн. чис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 Согласование существительных и глаголов прошедшего времени влице, числе, род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гласование глагола с существительным в мужском род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гласование глагола с существительным в женском род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гласование глагола с существительным среднего ро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ифференциация глаголов мужского, женского, среднего ро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а «Что делал? Что делала?»</a:t>
            </a:r>
            <a:endParaRPr b="0" lang="en-US" sz="36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ели:  Учить детей отвечать на вопрос Что он (она) де­лает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вершенствовать умение грамотно строить пред­ложения по модели «предмет — действие». Закреплять навык согласования глагола с суще­ствительным в роде и числ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>
            <a:grayscl/>
          </a:blip>
          <a:srcRect l="4431" t="0" r="0" b="0"/>
          <a:stretch/>
        </p:blipFill>
        <p:spPr>
          <a:xfrm>
            <a:off x="6659640" y="4365720"/>
            <a:ext cx="1981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69676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ап – закрепление более сложных по семантике и внешнему оформлению, менее продуктивных форм словоизменения.</a:t>
            </a:r>
            <a:endParaRPr b="0" lang="en-US" sz="2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ловосочетания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ложения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связной реч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а « Скажи то же самое иначе»</a:t>
            </a:r>
            <a:endParaRPr b="0" lang="en-US" sz="36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Формирование умения подбирать  антонимы и синонимы. Закреплять согласование сущ- ного с гла­голом настоящего времен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бразец: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Малыш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пает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по ковру. - Малыш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медленно идет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ковру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евочка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пает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огой. - Девочк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тучит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ого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255600" y="701640"/>
            <a:ext cx="8729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3206880" y="3206880"/>
            <a:ext cx="5290920" cy="920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F:\Анимированные картинки\lines14.gif"/>
          <p:cNvPicPr/>
          <p:nvPr/>
        </p:nvPicPr>
        <p:blipFill>
          <a:blip r:embed="rId2"/>
          <a:stretch/>
        </p:blipFill>
        <p:spPr>
          <a:xfrm>
            <a:off x="1357200" y="5929200"/>
            <a:ext cx="7143840" cy="50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:\День рождения\aabdd0c884ae.png"/>
          <p:cNvPicPr/>
          <p:nvPr/>
        </p:nvPicPr>
        <p:blipFill>
          <a:blip r:embed="rId3"/>
          <a:stretch/>
        </p:blipFill>
        <p:spPr>
          <a:xfrm>
            <a:off x="928800" y="1285920"/>
            <a:ext cx="71434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57160" y="121392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«Для ребят дошкольного возраста игры имеют исключительное значение: игра для них – учеба, игра для них – труд, игра для них – серьезная форма  воспитан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Н. К. Крупска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0" name="Picture 4" descr="F:\Анимированные картинки\book32.gif"/>
          <p:cNvPicPr/>
          <p:nvPr/>
        </p:nvPicPr>
        <p:blipFill>
          <a:blip r:embed="rId1"/>
          <a:stretch/>
        </p:blipFill>
        <p:spPr>
          <a:xfrm>
            <a:off x="6072120" y="44416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Особенности развития глагольной лексики у детей с ОНР.</a:t>
            </a:r>
            <a:br>
              <a:rPr sz="3600"/>
            </a:br>
            <a:endParaRPr b="0" lang="en-US" sz="36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лова употребляются неточно, в более широком или более узком понимании значений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(ползёт – идёт, воркует – поёт и др.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мены слов, относящихся к одному семантическому полю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значительное количество глаголов с приставками, чаще всего заменяются бесприставочными глаголами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(пришел - шел, перешел – шел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мены слов, обозначающих действия или предметы, словами-существите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( открывать – дверь, играть – кукла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скажениях звуковой структуры слова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(мяукает – мяучает, кудахчет – кудакает.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ые большие трудности вызывает  группировка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глаголов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( подбежал, вышел, подошёл (подошёл)) 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гопедическая работа по развитию глагольной лексики у дошкольников с ОН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ширение объёма словаря параллельно с расширением представлений об окружающей действитель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точнение значений слов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ормирование семантической структуры слова в единстве основных его компонентов (денотативного, понятийного, контекстуального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рганизация семантических полей, лексической системы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ктивизация словаря, совершенствование процессов поиска слова, перевода слова из пассивного в активный словарь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тотека глагольного словаря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Г.А.Волкова )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ытовые глаголы (одевается, умывается, играет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Глаголы, обозначающие движения и крики животных (крадётся, прыгает, кукарекает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Глаголы движения (ходит, бегает, прыгает), приставочные глаголы (входит, уходит, заходит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Глаголы, выражающие чувства людей (улыбается, смеётся, плачет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Глаголы, связанные с профессиями (лечит, строит, продаёт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Глаголы, связанные с процессами, происходящими в природе (светает, вечереет, смеркается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ния и игровые упражнения, направленные на расширение  предикативного словаря.</a:t>
            </a:r>
            <a:endParaRPr b="0" lang="en-US" sz="36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2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гра «Сочиним стихотворение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Цели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Пополнять и закреплять предикативный словарь. Закреплять конструкцию простого предложения по модели «предмет — действие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креплять согласова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ущ- ного с гла­голом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стоящего времени.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а «Кто как передвигается?»</a:t>
            </a:r>
            <a:br>
              <a:rPr sz="3600"/>
            </a:br>
            <a:r>
              <a:rPr b="1" lang="ru-RU" sz="3600" spc="-1" strike="noStrike">
                <a:solidFill>
                  <a:srgbClr val="69676d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Цели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расширять предикативный словарь. Совершенствовать умение называть действие, ко­торое может производить данный предмет. Закреплять структуру простого предложения. Развивать умение опираться на полученные знания и наблюдательность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rcRect l="4255" t="0" r="0" b="5095"/>
          <a:stretch/>
        </p:blipFill>
        <p:spPr>
          <a:xfrm>
            <a:off x="2987640" y="3573360"/>
            <a:ext cx="295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ормирование словообразования глаголов</a:t>
            </a:r>
            <a:br>
              <a:rPr sz="3600"/>
            </a:br>
            <a:endParaRPr b="0" lang="en-US" sz="36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Сказка «О  торопливой  белочке и терпеливой курочке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Цель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ормировать умения образовывать приставочные глаголы: срезать, надрезать, дорезат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5" name="Рисунок 3" descr="Описание: C:\Users\Turbid\AppData\Local\Temp\FineReader11\media\image5.png"/>
          <p:cNvPicPr/>
          <p:nvPr/>
        </p:nvPicPr>
        <p:blipFill>
          <a:blip r:embed="rId1"/>
          <a:stretch/>
        </p:blipFill>
        <p:spPr>
          <a:xfrm>
            <a:off x="3708360" y="3789360"/>
            <a:ext cx="3456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рмирование словоизменения</a:t>
            </a:r>
            <a:endParaRPr b="0" lang="en-US" sz="36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 этап – формирование наиболее продуктивных и простых по семантик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фор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601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гласование существительного и глагола настоящего времени 3-его лица в числ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) дифференциация глаголов 3 лица ед. и мн. числа с ударным окончанием, без чередования звуков в основ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дёт – идут          стоит – стоят     стучит – стучат         поёт – поют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) с безударным окончанием без чередования звуков в основ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лачет – плачут        чистит – чистят           бросает – бросаю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4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38:10Z</dcterms:created>
  <dc:creator>Egor B. Solopyev</dc:creator>
  <dc:description/>
  <dc:language>en-US</dc:language>
  <cp:lastModifiedBy>Андрей Иванов</cp:lastModifiedBy>
  <cp:lastPrinted>2013-05-24T05:25:15Z</cp:lastPrinted>
  <dcterms:modified xsi:type="dcterms:W3CDTF">2015-01-22T08:13:40Z</dcterms:modified>
  <cp:revision>161</cp:revision>
  <dc:subject/>
  <dc:title>Слайд 1</dc:title>
</cp:coreProperties>
</file>